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arrow.wav" ContentType="audio/x-wav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937-8210-4738-B60C-011E542D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FEF-B20D-4BA6-8B90-857D9ABB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505-85B4-4A30-BF27-4268B284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C16-1751-4DB5-9705-0DECB8EB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277-E017-4AB1-8B61-C630FAD8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50C-1908-42BA-B181-780BE721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053-1FDB-45F4-ADF4-FFCD18B0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4DE-2D5E-49E4-B8B6-1342968E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420-24C3-4E71-9ED7-F7B8E9E0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743-89B7-413D-BC55-AFEEEEB8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D18-4CF4-4879-A789-2612AC6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1D1-0E3F-4B26-8707-94A0BAE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ECD8-8205-4122-B65B-B8E694E1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40.xml"/><Relationship Id="rId5" Type="http://schemas.openxmlformats.org/officeDocument/2006/relationships/slide" Target="slide8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fr.wikipedia.org/wiki/Unit&#233;_d&#233;riv&#233;e" TargetMode="External"/><Relationship Id="rId2" Type="http://schemas.openxmlformats.org/officeDocument/2006/relationships/hyperlink" Target="http://fr.wikipedia.org/wiki/Angle" TargetMode="External"/><Relationship Id="rId3" Type="http://schemas.openxmlformats.org/officeDocument/2006/relationships/hyperlink" Target="http://fr.wikipedia.org/wiki/Syst&#232;me_international" TargetMode="External"/><Relationship Id="rId4" Type="http://schemas.openxmlformats.org/officeDocument/2006/relationships/slide" Target="slide39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hyperlink" Target="http://fr.wikipedia.org/wiki/Unit&#233;_d&#233;riv&#233;e_du_syst&#232;me_international" TargetMode="External"/><Relationship Id="rId3" Type="http://schemas.openxmlformats.org/officeDocument/2006/relationships/hyperlink" Target="http://fr.wikipedia.org/wiki/Puissance_(physique)" TargetMode="External"/><Relationship Id="rId4" Type="http://schemas.openxmlformats.org/officeDocument/2006/relationships/hyperlink" Target="http://fr.wikipedia.org/wiki/James_Watt" TargetMode="External"/><Relationship Id="rId5" Type="http://schemas.openxmlformats.org/officeDocument/2006/relationships/hyperlink" Target="http://fr.wikipedia.org/wiki/&#201;nergie" TargetMode="External"/><Relationship Id="rId6" Type="http://schemas.openxmlformats.org/officeDocument/2006/relationships/hyperlink" Target="http://fr.wikipedia.org/wiki/Joule_(unit&#233;)" TargetMode="External"/><Relationship Id="rId7" Type="http://schemas.openxmlformats.org/officeDocument/2006/relationships/hyperlink" Target="http://fr.wikipedia.org/wiki/Seconde_(temps)" TargetMode="External"/><Relationship Id="rId8" Type="http://schemas.openxmlformats.org/officeDocument/2006/relationships/hyperlink" Target="http://fr.wikipedia.org/wiki/Machine_&#224;_vapeur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371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CANIQUE APPLIQU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5880" y="3429000"/>
            <a:ext cx="34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ETIQU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1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2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2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9880" y="58086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3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4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4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98760" y="5029200"/>
            <a:ext cx="2293920" cy="1128240"/>
            <a:chOff x="1598760" y="5029200"/>
            <a:chExt cx="2293920" cy="1128240"/>
          </a:xfrm>
        </p:grpSpPr>
        <p:sp>
          <p:nvSpPr>
            <p:cNvPr id="250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598760" y="5808600"/>
              <a:ext cx="842760" cy="333360"/>
              <a:chOff x="1598760" y="5808600"/>
              <a:chExt cx="842760" cy="333360"/>
            </a:xfrm>
          </p:grpSpPr>
          <p:sp>
            <p:nvSpPr>
              <p:cNvPr id="252" name=""/>
              <p:cNvSpPr/>
              <p:nvPr/>
            </p:nvSpPr>
            <p:spPr>
              <a:xfrm>
                <a:off x="1598760" y="5808600"/>
                <a:ext cx="771480" cy="333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98760" y="5970600"/>
                <a:ext cx="77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70240" y="5859360"/>
                <a:ext cx="55440" cy="10980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69"/>
                    </a:moveTo>
                    <a:cubicBezTo>
                      <a:pt x="3" y="29"/>
                      <a:pt x="5" y="39"/>
                      <a:pt x="17" y="10"/>
                    </a:cubicBezTo>
                    <a:cubicBezTo>
                      <a:pt x="18" y="1"/>
                      <a:pt x="20" y="1"/>
                      <a:pt x="29" y="0"/>
                    </a:cubicBezTo>
                    <a:cubicBezTo>
                      <a:pt x="35" y="8"/>
                      <a:pt x="31" y="18"/>
                      <a:pt x="27" y="27"/>
                    </a:cubicBezTo>
                    <a:cubicBezTo>
                      <a:pt x="25" y="38"/>
                      <a:pt x="11" y="39"/>
                      <a:pt x="6" y="51"/>
                    </a:cubicBezTo>
                    <a:cubicBezTo>
                      <a:pt x="5" y="58"/>
                      <a:pt x="6" y="65"/>
                      <a:pt x="0" y="69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70240" y="595620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11"/>
                    </a:moveTo>
                    <a:cubicBezTo>
                      <a:pt x="9" y="7"/>
                      <a:pt x="17" y="4"/>
                      <a:pt x="26" y="0"/>
                    </a:cubicBezTo>
                    <a:cubicBezTo>
                      <a:pt x="35" y="2"/>
                      <a:pt x="40" y="0"/>
                      <a:pt x="42" y="9"/>
                    </a:cubicBezTo>
                    <a:cubicBezTo>
                      <a:pt x="41" y="27"/>
                      <a:pt x="45" y="48"/>
                      <a:pt x="23" y="32"/>
                    </a:cubicBezTo>
                    <a:cubicBezTo>
                      <a:pt x="20" y="27"/>
                      <a:pt x="7" y="4"/>
                      <a:pt x="0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87760" y="5029200"/>
              <a:ext cx="1204920" cy="1128240"/>
              <a:chOff x="2687760" y="5029200"/>
              <a:chExt cx="1204920" cy="1128240"/>
            </a:xfrm>
          </p:grpSpPr>
          <p:pic>
            <p:nvPicPr>
              <p:cNvPr id="2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87760" y="5074920"/>
                <a:ext cx="1204920" cy="10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2823840" y="5029200"/>
                <a:ext cx="397080" cy="633240"/>
              </a:xfrm>
              <a:custGeom>
                <a:avLst/>
                <a:gdLst/>
                <a:ahLst/>
                <a:rect l="l" t="t" r="r" b="b"/>
                <a:pathLst>
                  <a:path w="271" h="399">
                    <a:moveTo>
                      <a:pt x="0" y="0"/>
                    </a:moveTo>
                    <a:cubicBezTo>
                      <a:pt x="3" y="17"/>
                      <a:pt x="6" y="33"/>
                      <a:pt x="14" y="49"/>
                    </a:cubicBezTo>
                    <a:cubicBezTo>
                      <a:pt x="16" y="60"/>
                      <a:pt x="21" y="70"/>
                      <a:pt x="27" y="79"/>
                    </a:cubicBezTo>
                    <a:cubicBezTo>
                      <a:pt x="29" y="86"/>
                      <a:pt x="35" y="99"/>
                      <a:pt x="35" y="99"/>
                    </a:cubicBezTo>
                    <a:cubicBezTo>
                      <a:pt x="36" y="105"/>
                      <a:pt x="41" y="115"/>
                      <a:pt x="41" y="115"/>
                    </a:cubicBezTo>
                    <a:cubicBezTo>
                      <a:pt x="41" y="154"/>
                      <a:pt x="27" y="260"/>
                      <a:pt x="68" y="301"/>
                    </a:cubicBezTo>
                    <a:cubicBezTo>
                      <a:pt x="70" y="309"/>
                      <a:pt x="73" y="309"/>
                      <a:pt x="81" y="310"/>
                    </a:cubicBezTo>
                    <a:cubicBezTo>
                      <a:pt x="87" y="316"/>
                      <a:pt x="92" y="319"/>
                      <a:pt x="95" y="327"/>
                    </a:cubicBezTo>
                    <a:cubicBezTo>
                      <a:pt x="98" y="345"/>
                      <a:pt x="98" y="354"/>
                      <a:pt x="117" y="355"/>
                    </a:cubicBezTo>
                    <a:cubicBezTo>
                      <a:pt x="120" y="361"/>
                      <a:pt x="125" y="366"/>
                      <a:pt x="131" y="369"/>
                    </a:cubicBezTo>
                    <a:cubicBezTo>
                      <a:pt x="149" y="392"/>
                      <a:pt x="156" y="379"/>
                      <a:pt x="198" y="381"/>
                    </a:cubicBezTo>
                    <a:cubicBezTo>
                      <a:pt x="224" y="376"/>
                      <a:pt x="199" y="367"/>
                      <a:pt x="218" y="382"/>
                    </a:cubicBezTo>
                    <a:cubicBezTo>
                      <a:pt x="221" y="399"/>
                      <a:pt x="242" y="386"/>
                      <a:pt x="254" y="384"/>
                    </a:cubicBezTo>
                    <a:cubicBezTo>
                      <a:pt x="262" y="380"/>
                      <a:pt x="260" y="379"/>
                      <a:pt x="263" y="372"/>
                    </a:cubicBezTo>
                    <a:cubicBezTo>
                      <a:pt x="259" y="355"/>
                      <a:pt x="249" y="352"/>
                      <a:pt x="236" y="342"/>
                    </a:cubicBezTo>
                    <a:cubicBezTo>
                      <a:pt x="235" y="340"/>
                      <a:pt x="235" y="338"/>
                      <a:pt x="233" y="337"/>
                    </a:cubicBezTo>
                    <a:cubicBezTo>
                      <a:pt x="232" y="336"/>
                      <a:pt x="229" y="337"/>
                      <a:pt x="228" y="336"/>
                    </a:cubicBezTo>
                    <a:cubicBezTo>
                      <a:pt x="226" y="334"/>
                      <a:pt x="226" y="330"/>
                      <a:pt x="224" y="327"/>
                    </a:cubicBezTo>
                    <a:cubicBezTo>
                      <a:pt x="224" y="320"/>
                      <a:pt x="223" y="313"/>
                      <a:pt x="225" y="307"/>
                    </a:cubicBezTo>
                    <a:cubicBezTo>
                      <a:pt x="226" y="304"/>
                      <a:pt x="259" y="283"/>
                      <a:pt x="263" y="280"/>
                    </a:cubicBezTo>
                    <a:cubicBezTo>
                      <a:pt x="271" y="264"/>
                      <a:pt x="268" y="243"/>
                      <a:pt x="261" y="226"/>
                    </a:cubicBezTo>
                    <a:cubicBezTo>
                      <a:pt x="258" y="209"/>
                      <a:pt x="255" y="191"/>
                      <a:pt x="249" y="174"/>
                    </a:cubicBezTo>
                    <a:cubicBezTo>
                      <a:pt x="247" y="147"/>
                      <a:pt x="251" y="119"/>
                      <a:pt x="243" y="94"/>
                    </a:cubicBezTo>
                    <a:cubicBezTo>
                      <a:pt x="242" y="88"/>
                      <a:pt x="241" y="81"/>
                      <a:pt x="239" y="76"/>
                    </a:cubicBezTo>
                    <a:cubicBezTo>
                      <a:pt x="238" y="73"/>
                      <a:pt x="234" y="66"/>
                      <a:pt x="234" y="66"/>
                    </a:cubicBezTo>
                    <a:cubicBezTo>
                      <a:pt x="229" y="43"/>
                      <a:pt x="209" y="25"/>
                      <a:pt x="186" y="21"/>
                    </a:cubicBezTo>
                    <a:cubicBezTo>
                      <a:pt x="174" y="15"/>
                      <a:pt x="180" y="17"/>
                      <a:pt x="171" y="15"/>
                    </a:cubicBezTo>
                    <a:cubicBezTo>
                      <a:pt x="157" y="5"/>
                      <a:pt x="142" y="4"/>
                      <a:pt x="126" y="1"/>
                    </a:cubicBezTo>
                    <a:cubicBezTo>
                      <a:pt x="82" y="2"/>
                      <a:pt x="43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V="1">
              <a:off x="2352600" y="5900760"/>
              <a:ext cx="3510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55625 7.40741E-007 E">
                                      <p:cBhvr>
                                        <p:cTn id="323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66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69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73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43 -2.31214E-007 E">
                                      <p:cBhvr>
                                        <p:cTn id="342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287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290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294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30200" y="21949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 temps nécessair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au changement d’état n’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-2.31214E-007 L 0.55608 -2.31214E-007 E">
                                      <p:cBhvr>
                                        <p:cTn id="352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13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17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20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93 L 0.55486 0.00093 E">
                                      <p:cBhvr>
                                        <p:cTn id="38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7920" y="220896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04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8840" y="219492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a manière dont le chemin est parcouru n’ a pas d’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31640" y="252828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ur le résultat obt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25200" y="29862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60600" y="4387680"/>
            <a:ext cx="828720" cy="662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85960" y="3489480"/>
            <a:ext cx="7948440" cy="1955520"/>
            <a:chOff x="885960" y="3489480"/>
            <a:chExt cx="7948440" cy="1955520"/>
          </a:xfrm>
        </p:grpSpPr>
        <p:sp>
          <p:nvSpPr>
            <p:cNvPr id="335" name=""/>
            <p:cNvSpPr/>
            <p:nvPr/>
          </p:nvSpPr>
          <p:spPr>
            <a:xfrm>
              <a:off x="5424480" y="419400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56204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26160" y="348948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476360" y="3551400"/>
              <a:ext cx="215640" cy="708120"/>
              <a:chOff x="1476360" y="3551400"/>
              <a:chExt cx="215640" cy="708120"/>
            </a:xfrm>
          </p:grpSpPr>
          <p:sp>
            <p:nvSpPr>
              <p:cNvPr id="339" name=""/>
              <p:cNvSpPr/>
              <p:nvPr/>
            </p:nvSpPr>
            <p:spPr>
              <a:xfrm rot="16200000">
                <a:off x="1271520" y="3824280"/>
                <a:ext cx="62244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1230120" y="3797640"/>
                <a:ext cx="70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init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532560" y="3575160"/>
              <a:ext cx="215640" cy="661320"/>
              <a:chOff x="6532560" y="3575160"/>
              <a:chExt cx="215640" cy="661320"/>
            </a:xfrm>
          </p:grpSpPr>
          <p:sp>
            <p:nvSpPr>
              <p:cNvPr id="342" name=""/>
              <p:cNvSpPr/>
              <p:nvPr/>
            </p:nvSpPr>
            <p:spPr>
              <a:xfrm rot="16200000">
                <a:off x="6328080" y="3808440"/>
                <a:ext cx="622080" cy="155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319080" y="3807360"/>
                <a:ext cx="642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mic Sans MS"/>
                  </a:rPr>
                  <a:t>Etat fi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885960" y="350352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5960" y="5445000"/>
              <a:ext cx="79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C 0.01372 -0.0162 0.02795 -0.03217 0.03368 -0.04815 C 0.03976 -0.06412 0.01667 -0.08819 0.03542 -0.09629 C 0.05382 -0.1044 0.12483 -0.11643 0.14445 -0.09629 C 0.16406 -0.07615 0.13351 -0.00115 0.15278 0.02408 C 0.17205 0.04931 0.23507 0.07014 0.26077 0.05556 C 0.28611 0.04098 0.28316 -0.0456 0.30591 -0.06296 C 0.32865 -0.08032 0.37604 -0.06643 0.39792 -0.04815 C 0.41997 -0.02986 0.41007 0.03982 0.43646 0.0463 C 0.46233 0.05278 0.50903 0.02176 0.55556 -0.00926 E">
                                      <p:cBhvr>
                                        <p:cTn id="395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5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5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739520" y="5300640"/>
            <a:ext cx="405720" cy="545760"/>
            <a:chOff x="1739520" y="5300640"/>
            <a:chExt cx="405720" cy="545760"/>
          </a:xfrm>
        </p:grpSpPr>
        <p:grpSp>
          <p:nvGrpSpPr>
            <p:cNvPr id="360" name=""/>
            <p:cNvGrpSpPr/>
            <p:nvPr/>
          </p:nvGrpSpPr>
          <p:grpSpPr>
            <a:xfrm>
              <a:off x="1739520" y="5643720"/>
              <a:ext cx="211320" cy="202680"/>
              <a:chOff x="1739520" y="5643720"/>
              <a:chExt cx="211320" cy="202680"/>
            </a:xfrm>
          </p:grpSpPr>
          <p:sp>
            <p:nvSpPr>
              <p:cNvPr id="361" name=""/>
              <p:cNvSpPr/>
              <p:nvPr/>
            </p:nvSpPr>
            <p:spPr>
              <a:xfrm>
                <a:off x="1755720" y="5648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739520" y="5643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806120" y="5300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847880" y="5326200"/>
            <a:ext cx="713880" cy="493560"/>
            <a:chOff x="1847880" y="5326200"/>
            <a:chExt cx="713880" cy="493560"/>
          </a:xfrm>
        </p:grpSpPr>
        <p:sp>
          <p:nvSpPr>
            <p:cNvPr id="365" name=""/>
            <p:cNvSpPr/>
            <p:nvPr/>
          </p:nvSpPr>
          <p:spPr>
            <a:xfrm>
              <a:off x="1847880" y="5661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56120" y="5326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3640" y="5373720"/>
              <a:ext cx="215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57760" y="2167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pla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73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76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079640" y="5300640"/>
            <a:ext cx="1482120" cy="844560"/>
            <a:chOff x="1079640" y="5300640"/>
            <a:chExt cx="1482120" cy="844560"/>
          </a:xfrm>
        </p:grpSpPr>
        <p:sp>
          <p:nvSpPr>
            <p:cNvPr id="379" name=""/>
            <p:cNvSpPr/>
            <p:nvPr/>
          </p:nvSpPr>
          <p:spPr>
            <a:xfrm>
              <a:off x="107964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739520" y="5300640"/>
              <a:ext cx="405720" cy="545760"/>
              <a:chOff x="1739520" y="5300640"/>
              <a:chExt cx="405720" cy="5457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739520" y="5643720"/>
                <a:ext cx="211320" cy="202680"/>
                <a:chOff x="1739520" y="5643720"/>
                <a:chExt cx="211320" cy="202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755720" y="5648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1739520" y="5643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806120" y="5300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847880" y="5326200"/>
              <a:ext cx="713880" cy="493560"/>
              <a:chOff x="1847880" y="5326200"/>
              <a:chExt cx="713880" cy="493560"/>
            </a:xfrm>
          </p:grpSpPr>
          <p:sp>
            <p:nvSpPr>
              <p:cNvPr id="386" name=""/>
              <p:cNvSpPr/>
              <p:nvPr/>
            </p:nvSpPr>
            <p:spPr>
              <a:xfrm>
                <a:off x="1847880" y="5661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56120" y="5326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03640" y="537372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0.47396 1.85185E-006 E">
                                      <p:cBhvr>
                                        <p:cTn id="43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34200" y="942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06480" y="1801080"/>
            <a:ext cx="38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point d’appl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é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14120" y="2491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u se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déform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394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1460520"/>
            <a:ext cx="7726320" cy="372240"/>
            <a:chOff x="1023840" y="1460520"/>
            <a:chExt cx="7726320" cy="372240"/>
          </a:xfrm>
        </p:grpSpPr>
        <p:sp>
          <p:nvSpPr>
            <p:cNvPr id="397" name=""/>
            <p:cNvSpPr/>
            <p:nvPr/>
          </p:nvSpPr>
          <p:spPr>
            <a:xfrm>
              <a:off x="1023840" y="1464480"/>
              <a:ext cx="77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est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énergie fournie par cett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lors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2040" y="1460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079640" y="5375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77200" y="2167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objet subissant la force se déplac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096920" y="5300640"/>
            <a:ext cx="1495080" cy="844560"/>
            <a:chOff x="1096920" y="5300640"/>
            <a:chExt cx="1495080" cy="844560"/>
          </a:xfrm>
        </p:grpSpPr>
        <p:sp>
          <p:nvSpPr>
            <p:cNvPr id="402" name=""/>
            <p:cNvSpPr/>
            <p:nvPr/>
          </p:nvSpPr>
          <p:spPr>
            <a:xfrm>
              <a:off x="1096920" y="5375160"/>
              <a:ext cx="771480" cy="77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769760" y="5300640"/>
              <a:ext cx="822240" cy="545760"/>
              <a:chOff x="1769760" y="5300640"/>
              <a:chExt cx="822240" cy="5457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769760" y="5300640"/>
                <a:ext cx="405720" cy="545760"/>
                <a:chOff x="1769760" y="5300640"/>
                <a:chExt cx="405720" cy="54576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1769760" y="5643720"/>
                  <a:ext cx="211320" cy="202680"/>
                  <a:chOff x="1769760" y="5643720"/>
                  <a:chExt cx="211320" cy="2026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785960" y="5648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1769760" y="5643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>
                  <a:off x="1836360" y="5300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878120" y="5326200"/>
                <a:ext cx="713880" cy="493560"/>
                <a:chOff x="1878120" y="5326200"/>
                <a:chExt cx="713880" cy="4935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878120" y="566100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86360" y="53262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33880" y="53737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1098360" y="5381640"/>
              <a:ext cx="3240" cy="757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04167 3.33333E-006 E">
                                      <p:cBhvr>
                                        <p:cTn id="448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20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040" y="6460200"/>
            <a:ext cx="759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*le symbole du travail ( 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) est issu du mot « 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erk » (traduction du  mot travail ,en langue allema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25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079640" y="501660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739520" y="4941720"/>
            <a:ext cx="822240" cy="545760"/>
            <a:chOff x="1739520" y="4941720"/>
            <a:chExt cx="822240" cy="545760"/>
          </a:xfrm>
        </p:grpSpPr>
        <p:grpSp>
          <p:nvGrpSpPr>
            <p:cNvPr id="430" name=""/>
            <p:cNvGrpSpPr/>
            <p:nvPr/>
          </p:nvGrpSpPr>
          <p:grpSpPr>
            <a:xfrm>
              <a:off x="1739520" y="4941720"/>
              <a:ext cx="405720" cy="545760"/>
              <a:chOff x="1739520" y="4941720"/>
              <a:chExt cx="405720" cy="5457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1739520" y="5284800"/>
                <a:ext cx="211320" cy="202680"/>
                <a:chOff x="1739520" y="5284800"/>
                <a:chExt cx="211320" cy="2026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1755720" y="528948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1739520" y="528480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1806120" y="49417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847880" y="4967280"/>
              <a:ext cx="713880" cy="493560"/>
              <a:chOff x="1847880" y="4967280"/>
              <a:chExt cx="713880" cy="493560"/>
            </a:xfrm>
          </p:grpSpPr>
          <p:sp>
            <p:nvSpPr>
              <p:cNvPr id="436" name=""/>
              <p:cNvSpPr/>
              <p:nvPr/>
            </p:nvSpPr>
            <p:spPr>
              <a:xfrm>
                <a:off x="1847880" y="530208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56120" y="4967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03640" y="5014800"/>
                <a:ext cx="215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40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3320" y="180108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a valeur de la translation d’un solide provoquée par l’a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98560" y="5789520"/>
            <a:ext cx="8094600" cy="268200"/>
            <a:chOff x="898560" y="5789520"/>
            <a:chExt cx="8094600" cy="268200"/>
          </a:xfrm>
        </p:grpSpPr>
        <p:sp>
          <p:nvSpPr>
            <p:cNvPr id="446" name=""/>
            <p:cNvSpPr/>
            <p:nvPr/>
          </p:nvSpPr>
          <p:spPr>
            <a:xfrm>
              <a:off x="898560" y="580536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3240" y="578952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20640" y="14630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( W 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14680" y="1463040"/>
            <a:ext cx="6440400" cy="368280"/>
            <a:chOff x="2614680" y="1463040"/>
            <a:chExt cx="6440400" cy="368280"/>
          </a:xfrm>
        </p:grpSpPr>
        <p:sp>
          <p:nvSpPr>
            <p:cNvPr id="450" name=""/>
            <p:cNvSpPr/>
            <p:nvPr/>
          </p:nvSpPr>
          <p:spPr>
            <a:xfrm>
              <a:off x="2614680" y="1463040"/>
              <a:ext cx="64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st le résultat du produit entr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l’intensité d’une 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1520" y="148428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59880" y="2156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tte même for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079640" y="4941720"/>
            <a:ext cx="1482120" cy="844560"/>
            <a:chOff x="1079640" y="4941720"/>
            <a:chExt cx="1482120" cy="844560"/>
          </a:xfrm>
        </p:grpSpPr>
        <p:sp>
          <p:nvSpPr>
            <p:cNvPr id="454" name=""/>
            <p:cNvSpPr/>
            <p:nvPr/>
          </p:nvSpPr>
          <p:spPr>
            <a:xfrm>
              <a:off x="1079640" y="501660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739520" y="4941720"/>
              <a:ext cx="822240" cy="545760"/>
              <a:chOff x="1739520" y="4941720"/>
              <a:chExt cx="822240" cy="5457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1739520" y="4941720"/>
                <a:ext cx="405720" cy="545760"/>
                <a:chOff x="1739520" y="4941720"/>
                <a:chExt cx="405720" cy="54576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1739520" y="5284800"/>
                  <a:ext cx="211320" cy="202680"/>
                  <a:chOff x="1739520" y="5284800"/>
                  <a:chExt cx="211320" cy="2026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755720" y="528948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1739520" y="528480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806120" y="494172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847880" y="4967280"/>
                <a:ext cx="713880" cy="493560"/>
                <a:chOff x="1847880" y="4967280"/>
                <a:chExt cx="713880" cy="493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47880" y="5302080"/>
                  <a:ext cx="684360" cy="158760"/>
                </a:xfrm>
                <a:prstGeom prst="rightArrow">
                  <a:avLst>
                    <a:gd name="adj1" fmla="val 50000"/>
                    <a:gd name="adj2" fmla="val 10776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256120" y="4967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03640" y="50148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5" name=""/>
          <p:cNvGrpSpPr/>
          <p:nvPr/>
        </p:nvGrpSpPr>
        <p:grpSpPr>
          <a:xfrm>
            <a:off x="1698120" y="4149720"/>
            <a:ext cx="311760" cy="1654200"/>
            <a:chOff x="1698120" y="4149720"/>
            <a:chExt cx="311760" cy="1654200"/>
          </a:xfrm>
        </p:grpSpPr>
        <p:sp>
          <p:nvSpPr>
            <p:cNvPr id="466" name=""/>
            <p:cNvSpPr/>
            <p:nvPr/>
          </p:nvSpPr>
          <p:spPr>
            <a:xfrm flipV="1">
              <a:off x="185076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98120" y="414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017840" y="4149720"/>
            <a:ext cx="315000" cy="1654200"/>
            <a:chOff x="7017840" y="4149720"/>
            <a:chExt cx="315000" cy="1654200"/>
          </a:xfrm>
        </p:grpSpPr>
        <p:sp>
          <p:nvSpPr>
            <p:cNvPr id="469" name=""/>
            <p:cNvSpPr/>
            <p:nvPr/>
          </p:nvSpPr>
          <p:spPr>
            <a:xfrm flipV="1">
              <a:off x="7159680" y="449568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17840" y="4149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41400" y="4210200"/>
            <a:ext cx="5321520" cy="425160"/>
            <a:chOff x="1841400" y="4210200"/>
            <a:chExt cx="5321520" cy="425160"/>
          </a:xfrm>
        </p:grpSpPr>
        <p:sp>
          <p:nvSpPr>
            <p:cNvPr id="472" name=""/>
            <p:cNvSpPr/>
            <p:nvPr/>
          </p:nvSpPr>
          <p:spPr>
            <a:xfrm>
              <a:off x="1841400" y="463536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7920" y="4210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828160" y="2781360"/>
            <a:ext cx="2431800" cy="581400"/>
            <a:chOff x="2828160" y="2781360"/>
            <a:chExt cx="2431800" cy="581400"/>
          </a:xfrm>
        </p:grpSpPr>
        <p:sp>
          <p:nvSpPr>
            <p:cNvPr id="475" name=""/>
            <p:cNvSpPr/>
            <p:nvPr/>
          </p:nvSpPr>
          <p:spPr>
            <a:xfrm>
              <a:off x="2828160" y="2781360"/>
              <a:ext cx="24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8480" y="28065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78612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40200" y="332892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m 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43120" y="33289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J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52680" y="3132720"/>
            <a:ext cx="1136520" cy="736200"/>
          </a:xfrm>
          <a:prstGeom prst="rightArrow">
            <a:avLst>
              <a:gd name="adj1" fmla="val 50000"/>
              <a:gd name="adj2" fmla="val 385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u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30000" y="2530440"/>
            <a:ext cx="302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: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nité du système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tilisée pour le travail et l’énerg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qui doit son nom au Physic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nglais, James Prescott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Joules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0.57917 -2.96296E-006 E">
                                      <p:cBhvr>
                                        <p:cTn id="511" dur="5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4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49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49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496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822320" y="5516640"/>
            <a:ext cx="744480" cy="519120"/>
            <a:chOff x="1822320" y="5516640"/>
            <a:chExt cx="744480" cy="519120"/>
          </a:xfrm>
        </p:grpSpPr>
        <p:sp>
          <p:nvSpPr>
            <p:cNvPr id="500" name=""/>
            <p:cNvSpPr/>
            <p:nvPr/>
          </p:nvSpPr>
          <p:spPr>
            <a:xfrm>
              <a:off x="1822320" y="5877000"/>
              <a:ext cx="684360" cy="158760"/>
            </a:xfrm>
            <a:prstGeom prst="rightArrow">
              <a:avLst>
                <a:gd name="adj1" fmla="val 50000"/>
                <a:gd name="adj2" fmla="val 10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542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78080" y="55166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04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46200" y="18010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1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20640" y="1463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1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518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521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643120" y="2781360"/>
            <a:ext cx="2975040" cy="1464480"/>
            <a:chOff x="2643120" y="2781360"/>
            <a:chExt cx="2975040" cy="1464480"/>
          </a:xfrm>
        </p:grpSpPr>
        <p:grpSp>
          <p:nvGrpSpPr>
            <p:cNvPr id="524" name=""/>
            <p:cNvGrpSpPr/>
            <p:nvPr/>
          </p:nvGrpSpPr>
          <p:grpSpPr>
            <a:xfrm>
              <a:off x="2828160" y="2781360"/>
              <a:ext cx="2431800" cy="581400"/>
              <a:chOff x="2828160" y="2781360"/>
              <a:chExt cx="2431800" cy="581400"/>
            </a:xfrm>
          </p:grpSpPr>
          <p:sp>
            <p:nvSpPr>
              <p:cNvPr id="525" name=""/>
              <p:cNvSpPr/>
              <p:nvPr/>
            </p:nvSpPr>
            <p:spPr>
              <a:xfrm>
                <a:off x="2828160" y="2781360"/>
                <a:ext cx="24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38480" y="28065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78612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40200" y="3328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3120" y="3328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79640" y="5516640"/>
            <a:ext cx="1487160" cy="844560"/>
            <a:chOff x="1079640" y="5516640"/>
            <a:chExt cx="1487160" cy="844560"/>
          </a:xfrm>
        </p:grpSpPr>
        <p:sp>
          <p:nvSpPr>
            <p:cNvPr id="532" name=""/>
            <p:cNvSpPr/>
            <p:nvPr/>
          </p:nvSpPr>
          <p:spPr>
            <a:xfrm>
              <a:off x="1079640" y="559152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739520" y="5516640"/>
              <a:ext cx="405720" cy="545760"/>
              <a:chOff x="1739520" y="5516640"/>
              <a:chExt cx="405720" cy="545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739520" y="5859720"/>
                <a:ext cx="211320" cy="202680"/>
                <a:chOff x="1739520" y="5859720"/>
                <a:chExt cx="211320" cy="2026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755720" y="5864400"/>
                  <a:ext cx="195120" cy="19512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739520" y="5859720"/>
                  <a:ext cx="202680" cy="202680"/>
                </a:xfrm>
                <a:prstGeom prst="line">
                  <a:avLst/>
                </a:prstGeom>
                <a:ln w="1908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806120" y="55166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1822320" y="5516640"/>
              <a:ext cx="744480" cy="519120"/>
              <a:chOff x="1822320" y="5516640"/>
              <a:chExt cx="744480" cy="519120"/>
            </a:xfrm>
          </p:grpSpPr>
          <p:sp>
            <p:nvSpPr>
              <p:cNvPr id="539" name=""/>
              <p:cNvSpPr/>
              <p:nvPr/>
            </p:nvSpPr>
            <p:spPr>
              <a:xfrm>
                <a:off x="1822320" y="5877000"/>
                <a:ext cx="684360" cy="158760"/>
              </a:xfrm>
              <a:prstGeom prst="rightArrow">
                <a:avLst>
                  <a:gd name="adj1" fmla="val 50000"/>
                  <a:gd name="adj2" fmla="val 107766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30560" y="55422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78080" y="5516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43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07407E-006 L 0.57916 4.07407E-006 E">
                                      <p:cBhvr>
                                        <p:cTn id="586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50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54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58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563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568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569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574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580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58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591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595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00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02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05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06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11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17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2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2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3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63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640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7160" y="3043080"/>
            <a:ext cx="2975040" cy="1464840"/>
            <a:chOff x="227160" y="3043080"/>
            <a:chExt cx="2975040" cy="1464840"/>
          </a:xfrm>
        </p:grpSpPr>
        <p:grpSp>
          <p:nvGrpSpPr>
            <p:cNvPr id="643" name=""/>
            <p:cNvGrpSpPr/>
            <p:nvPr/>
          </p:nvGrpSpPr>
          <p:grpSpPr>
            <a:xfrm>
              <a:off x="420480" y="3043080"/>
              <a:ext cx="2712240" cy="648720"/>
              <a:chOff x="420480" y="3043080"/>
              <a:chExt cx="2712240" cy="648720"/>
            </a:xfrm>
          </p:grpSpPr>
          <p:sp>
            <p:nvSpPr>
              <p:cNvPr id="644" name=""/>
              <p:cNvSpPr/>
              <p:nvPr/>
            </p:nvSpPr>
            <p:spPr>
              <a:xfrm>
                <a:off x="420480" y="3043080"/>
                <a:ext cx="2712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fr-FR" sz="32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3200" spc="-1" strike="noStrike">
                    <a:solidFill>
                      <a:srgbClr val="000000"/>
                    </a:solidFill>
                    <a:latin typeface="Comic Sans MS"/>
                  </a:rPr>
                  <a:t> . </a:t>
                </a:r>
                <a:r>
                  <a:rPr b="1" lang="fr-FR" sz="32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749600" y="3094200"/>
                <a:ext cx="35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37016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4240" y="359100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7160" y="359100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651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656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658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661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662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667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673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677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679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682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685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688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693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696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00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04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07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3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2200" y="18010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 sont pas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715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620640" y="14630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719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429840" y="3043080"/>
            <a:ext cx="2712240" cy="648720"/>
            <a:chOff x="429840" y="3043080"/>
            <a:chExt cx="2712240" cy="648720"/>
          </a:xfrm>
        </p:grpSpPr>
        <p:sp>
          <p:nvSpPr>
            <p:cNvPr id="722" name=""/>
            <p:cNvSpPr/>
            <p:nvPr/>
          </p:nvSpPr>
          <p:spPr>
            <a:xfrm>
              <a:off x="429840" y="3043080"/>
              <a:ext cx="271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3200" spc="-1" strike="noStrike" baseline="-25000">
                  <a:solidFill>
                    <a:srgbClr val="0000ff"/>
                  </a:solidFill>
                  <a:latin typeface="Comic Sans MS"/>
                </a:rPr>
                <a:t>ox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32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8960" y="30942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200120" y="5337000"/>
            <a:ext cx="1522800" cy="609840"/>
            <a:chOff x="4200120" y="5337000"/>
            <a:chExt cx="1522800" cy="609840"/>
          </a:xfrm>
        </p:grpSpPr>
        <p:sp>
          <p:nvSpPr>
            <p:cNvPr id="726" name=""/>
            <p:cNvSpPr/>
            <p:nvPr/>
          </p:nvSpPr>
          <p:spPr>
            <a:xfrm>
              <a:off x="4200120" y="5337000"/>
              <a:ext cx="11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Trajec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4720" y="5587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64000" y="5587920"/>
              <a:ext cx="35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731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733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73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73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411920" y="4413240"/>
            <a:ext cx="1567800" cy="609120"/>
            <a:chOff x="1411920" y="4413240"/>
            <a:chExt cx="1567800" cy="609120"/>
          </a:xfrm>
        </p:grpSpPr>
        <p:sp>
          <p:nvSpPr>
            <p:cNvPr id="742" name=""/>
            <p:cNvSpPr/>
            <p:nvPr/>
          </p:nvSpPr>
          <p:spPr>
            <a:xfrm>
              <a:off x="1411920" y="441324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Ligne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41520" y="46638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20800" y="4663800"/>
              <a:ext cx="3589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31640" y="2384280"/>
            <a:ext cx="611280" cy="216000"/>
          </a:xfrm>
          <a:prstGeom prst="rightArrow">
            <a:avLst>
              <a:gd name="adj1" fmla="val 50000"/>
              <a:gd name="adj2" fmla="val 7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213200" y="2309040"/>
            <a:ext cx="7288920" cy="368280"/>
            <a:chOff x="1213200" y="2309040"/>
            <a:chExt cx="7288920" cy="368280"/>
          </a:xfrm>
        </p:grpSpPr>
        <p:sp>
          <p:nvSpPr>
            <p:cNvPr id="748" name=""/>
            <p:cNvSpPr/>
            <p:nvPr/>
          </p:nvSpPr>
          <p:spPr>
            <a:xfrm>
              <a:off x="1213200" y="2309040"/>
              <a:ext cx="72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travail (W) est égal au produit de la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proje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e la force 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s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5080" y="2313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2590920" y="534996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828800" y="5946840"/>
            <a:ext cx="762120" cy="442080"/>
            <a:chOff x="1828800" y="5946840"/>
            <a:chExt cx="762120" cy="442080"/>
          </a:xfrm>
        </p:grpSpPr>
        <p:sp>
          <p:nvSpPr>
            <p:cNvPr id="752" name=""/>
            <p:cNvSpPr/>
            <p:nvPr/>
          </p:nvSpPr>
          <p:spPr>
            <a:xfrm>
              <a:off x="1828800" y="5946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993680" y="5983200"/>
              <a:ext cx="464040" cy="405720"/>
              <a:chOff x="1993680" y="5983200"/>
              <a:chExt cx="464040" cy="405720"/>
            </a:xfrm>
          </p:grpSpPr>
          <p:sp>
            <p:nvSpPr>
              <p:cNvPr id="754" name=""/>
              <p:cNvSpPr/>
              <p:nvPr/>
            </p:nvSpPr>
            <p:spPr>
              <a:xfrm>
                <a:off x="1993680" y="598320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51280" y="6019560"/>
                <a:ext cx="28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757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760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608360" y="3033720"/>
            <a:ext cx="4319640" cy="1619280"/>
            <a:chOff x="4608360" y="3033720"/>
            <a:chExt cx="4319640" cy="1619280"/>
          </a:xfrm>
        </p:grpSpPr>
        <p:sp>
          <p:nvSpPr>
            <p:cNvPr id="763" name=""/>
            <p:cNvSpPr/>
            <p:nvPr/>
          </p:nvSpPr>
          <p:spPr>
            <a:xfrm>
              <a:off x="4608360" y="3033720"/>
              <a:ext cx="431964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07000" y="3059280"/>
              <a:ext cx="305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étermination de la valeur de 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1920" y="309564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605840" y="3444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768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5292000" y="3273480"/>
            <a:ext cx="817560" cy="405720"/>
            <a:chOff x="5292000" y="3273480"/>
            <a:chExt cx="817560" cy="405720"/>
          </a:xfrm>
        </p:grpSpPr>
        <p:sp>
          <p:nvSpPr>
            <p:cNvPr id="771" name=""/>
            <p:cNvSpPr/>
            <p:nvPr/>
          </p:nvSpPr>
          <p:spPr>
            <a:xfrm>
              <a:off x="5292000" y="3273480"/>
              <a:ext cx="81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360" y="3321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5435640" y="3619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406840" y="3664080"/>
            <a:ext cx="659160" cy="368280"/>
            <a:chOff x="5406840" y="3664080"/>
            <a:chExt cx="659160" cy="368280"/>
          </a:xfrm>
        </p:grpSpPr>
        <p:sp>
          <p:nvSpPr>
            <p:cNvPr id="775" name=""/>
            <p:cNvSpPr/>
            <p:nvPr/>
          </p:nvSpPr>
          <p:spPr>
            <a:xfrm>
              <a:off x="5406840" y="36640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82960" y="37116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6283440" y="3537000"/>
            <a:ext cx="325440" cy="144360"/>
          </a:xfrm>
          <a:prstGeom prst="rightArrow">
            <a:avLst>
              <a:gd name="adj1" fmla="val 50000"/>
              <a:gd name="adj2" fmla="val 563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581160" y="3435480"/>
            <a:ext cx="1008000" cy="405720"/>
            <a:chOff x="6581160" y="3435480"/>
            <a:chExt cx="1008000" cy="405720"/>
          </a:xfrm>
        </p:grpSpPr>
        <p:sp>
          <p:nvSpPr>
            <p:cNvPr id="779" name=""/>
            <p:cNvSpPr/>
            <p:nvPr/>
          </p:nvSpPr>
          <p:spPr>
            <a:xfrm>
              <a:off x="6581160" y="34354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45040" y="348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416000" y="3425760"/>
            <a:ext cx="784080" cy="368280"/>
            <a:chOff x="7416000" y="3425760"/>
            <a:chExt cx="784080" cy="368280"/>
          </a:xfrm>
        </p:grpSpPr>
        <p:sp>
          <p:nvSpPr>
            <p:cNvPr id="782" name=""/>
            <p:cNvSpPr/>
            <p:nvPr/>
          </p:nvSpPr>
          <p:spPr>
            <a:xfrm>
              <a:off x="7416000" y="3425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73760" y="347328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8098200" y="34448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59640" y="3392640"/>
            <a:ext cx="2125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01040" y="3933720"/>
            <a:ext cx="0" cy="4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1914480" y="4324320"/>
            <a:ext cx="568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908000" y="4010040"/>
            <a:ext cx="0" cy="3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42920" y="3068640"/>
            <a:ext cx="4265640" cy="1420200"/>
            <a:chOff x="142920" y="3068640"/>
            <a:chExt cx="4265640" cy="1420200"/>
          </a:xfrm>
        </p:grpSpPr>
        <p:sp>
          <p:nvSpPr>
            <p:cNvPr id="790" name=""/>
            <p:cNvSpPr/>
            <p:nvPr/>
          </p:nvSpPr>
          <p:spPr>
            <a:xfrm>
              <a:off x="1403640" y="3571920"/>
              <a:ext cx="77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0960" y="3571920"/>
              <a:ext cx="77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0640" y="357192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142920" y="3068640"/>
              <a:ext cx="3997440" cy="1190520"/>
              <a:chOff x="142920" y="3068640"/>
              <a:chExt cx="3997440" cy="119052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322200" y="3068640"/>
                <a:ext cx="3818160" cy="581400"/>
                <a:chOff x="322200" y="3068640"/>
                <a:chExt cx="3818160" cy="5814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322200" y="3068640"/>
                  <a:ext cx="3818160" cy="58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W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=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 Unicode MS"/>
                    </a:rPr>
                    <a:t>II .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Cos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. </a:t>
                  </a:r>
                  <a:r>
                    <a:rPr b="1" lang="en-US" sz="3200" spc="-1" strike="noStrike">
                      <a:solidFill>
                        <a:srgbClr val="339933"/>
                      </a:solidFill>
                      <a:latin typeface="Comic Sans MS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665360" y="3119760"/>
                  <a:ext cx="35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1285920" y="3616560"/>
                <a:ext cx="77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40000" y="361656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42920" y="3616560"/>
                <a:ext cx="777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1076040" y="261396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par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longueur du déplacemen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0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0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783080" y="5275440"/>
            <a:ext cx="1118520" cy="754920"/>
            <a:chOff x="1783080" y="5275440"/>
            <a:chExt cx="1118520" cy="754920"/>
          </a:xfrm>
        </p:grpSpPr>
        <p:sp>
          <p:nvSpPr>
            <p:cNvPr id="814" name=""/>
            <p:cNvSpPr/>
            <p:nvPr/>
          </p:nvSpPr>
          <p:spPr>
            <a:xfrm rot="19254000">
              <a:off x="1720800" y="5573520"/>
              <a:ext cx="1001880" cy="158760"/>
            </a:xfrm>
            <a:prstGeom prst="rightArrow">
              <a:avLst>
                <a:gd name="adj1" fmla="val 50000"/>
                <a:gd name="adj2" fmla="val 1577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2595960" y="5408640"/>
              <a:ext cx="305640" cy="368280"/>
              <a:chOff x="2595960" y="5408640"/>
              <a:chExt cx="305640" cy="368280"/>
            </a:xfrm>
          </p:grpSpPr>
          <p:sp>
            <p:nvSpPr>
              <p:cNvPr id="816" name=""/>
              <p:cNvSpPr/>
              <p:nvPr/>
            </p:nvSpPr>
            <p:spPr>
              <a:xfrm>
                <a:off x="2595960" y="540864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11440" y="540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1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2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 flipV="1">
            <a:off x="1833480" y="4929120"/>
            <a:ext cx="128772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2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2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376720" y="5020560"/>
            <a:ext cx="1082160" cy="1861920"/>
            <a:chOff x="2376720" y="5020560"/>
            <a:chExt cx="1082160" cy="1861920"/>
          </a:xfrm>
        </p:grpSpPr>
        <p:sp>
          <p:nvSpPr>
            <p:cNvPr id="832" name=""/>
            <p:cNvSpPr/>
            <p:nvPr/>
          </p:nvSpPr>
          <p:spPr>
            <a:xfrm>
              <a:off x="2376720" y="5020560"/>
              <a:ext cx="862920" cy="186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5" y="525"/>
                  </a:moveTo>
                  <a:arcTo wR="10800" hR="10800" stAng="-4324028" swAng="4230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5" y="525"/>
                  </a:moveTo>
                  <a:arcTo wR="10800" hR="10800" stAng="-4324028" swAng="423027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33440" y="5229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3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3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84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V="1">
            <a:off x="7472520" y="2198520"/>
            <a:ext cx="1287360" cy="1030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245720" y="2923560"/>
            <a:ext cx="788040" cy="756000"/>
            <a:chOff x="7245720" y="2923560"/>
            <a:chExt cx="788040" cy="756000"/>
          </a:xfrm>
        </p:grpSpPr>
        <p:sp>
          <p:nvSpPr>
            <p:cNvPr id="850" name=""/>
            <p:cNvSpPr/>
            <p:nvPr/>
          </p:nvSpPr>
          <p:spPr>
            <a:xfrm rot="938400">
              <a:off x="7322400" y="2981160"/>
              <a:ext cx="516600" cy="64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1" y="417"/>
                  </a:moveTo>
                  <a:arcTo wR="10800" hR="10800" stAng="-4441998" swAng="2866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1" y="417"/>
                  </a:moveTo>
                  <a:arcTo wR="10800" hR="10800" stAng="-4441998" swAng="286623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56920" y="29383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7991640" y="281448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467480" y="3238560"/>
            <a:ext cx="5191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85480" y="24573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75360" y="245736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78920" y="2457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227680" y="561960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motr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3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864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868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762200" y="4938840"/>
            <a:ext cx="597960" cy="1001520"/>
            <a:chOff x="1762200" y="4938840"/>
            <a:chExt cx="597960" cy="1001520"/>
          </a:xfrm>
        </p:grpSpPr>
        <p:sp>
          <p:nvSpPr>
            <p:cNvPr id="874" name=""/>
            <p:cNvSpPr/>
            <p:nvPr/>
          </p:nvSpPr>
          <p:spPr>
            <a:xfrm rot="16200000">
              <a:off x="1340640" y="536004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2054520" y="5256360"/>
              <a:ext cx="305640" cy="368280"/>
              <a:chOff x="2054520" y="5256360"/>
              <a:chExt cx="305640" cy="368280"/>
            </a:xfrm>
          </p:grpSpPr>
          <p:sp>
            <p:nvSpPr>
              <p:cNvPr id="876" name=""/>
              <p:cNvSpPr/>
              <p:nvPr/>
            </p:nvSpPr>
            <p:spPr>
              <a:xfrm>
                <a:off x="2054520" y="525636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070000" y="52563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879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880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V="1">
            <a:off x="1833480" y="3981600"/>
            <a:ext cx="25560" cy="1977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886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889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-1052640" y="4023360"/>
            <a:ext cx="4292280" cy="3855960"/>
            <a:chOff x="-1052640" y="4023360"/>
            <a:chExt cx="4292280" cy="3855960"/>
          </a:xfrm>
        </p:grpSpPr>
        <p:sp>
          <p:nvSpPr>
            <p:cNvPr id="892" name=""/>
            <p:cNvSpPr/>
            <p:nvPr/>
          </p:nvSpPr>
          <p:spPr>
            <a:xfrm>
              <a:off x="-1052640" y="4023360"/>
              <a:ext cx="4292280" cy="38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8" y="716"/>
                  </a:moveTo>
                  <a:arcTo wR="10800" hR="10800" stAng="-4140952" swAng="4115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8" y="716"/>
                  </a:moveTo>
                  <a:arcTo wR="10800" hR="10800" stAng="-4140952" swAng="411547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895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899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04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 flipH="1" flipV="1">
            <a:off x="7464600" y="2015640"/>
            <a:ext cx="7920" cy="12128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448320" y="2634120"/>
            <a:ext cx="1527480" cy="1215360"/>
            <a:chOff x="6448320" y="2634120"/>
            <a:chExt cx="1527480" cy="1215360"/>
          </a:xfrm>
        </p:grpSpPr>
        <p:sp>
          <p:nvSpPr>
            <p:cNvPr id="910" name=""/>
            <p:cNvSpPr/>
            <p:nvPr/>
          </p:nvSpPr>
          <p:spPr>
            <a:xfrm rot="938400">
              <a:off x="6543000" y="2797920"/>
              <a:ext cx="1337760" cy="8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36" y="213"/>
                  </a:moveTo>
                  <a:arcTo wR="10800" hR="10800" stAng="-4715628" swAng="3139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36" y="213"/>
                  </a:moveTo>
                  <a:arcTo wR="10800" hR="10800" stAng="-4715628" swAng="313986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37760" y="28386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7467480" y="25383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42920" y="308628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911400" y="29242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75360" y="29242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605200" y="2924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55040" y="5300640"/>
            <a:ext cx="117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sans eff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3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3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880920" y="942840"/>
            <a:ext cx="57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931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de la valeur de l’angle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) sur le travail (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698120" y="4724280"/>
            <a:ext cx="311760" cy="1654200"/>
            <a:chOff x="1698120" y="4724280"/>
            <a:chExt cx="311760" cy="1654200"/>
          </a:xfrm>
        </p:grpSpPr>
        <p:sp>
          <p:nvSpPr>
            <p:cNvPr id="935" name=""/>
            <p:cNvSpPr/>
            <p:nvPr/>
          </p:nvSpPr>
          <p:spPr>
            <a:xfrm flipV="1">
              <a:off x="185076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981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-168480" y="25034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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28800" y="5946840"/>
            <a:ext cx="68324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079640" y="5591160"/>
            <a:ext cx="7714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094400" y="4653000"/>
            <a:ext cx="801360" cy="1345320"/>
            <a:chOff x="1094400" y="4653000"/>
            <a:chExt cx="801360" cy="1345320"/>
          </a:xfrm>
        </p:grpSpPr>
        <p:sp>
          <p:nvSpPr>
            <p:cNvPr id="941" name=""/>
            <p:cNvSpPr/>
            <p:nvPr/>
          </p:nvSpPr>
          <p:spPr>
            <a:xfrm rot="13606800">
              <a:off x="994320" y="5499360"/>
              <a:ext cx="1001520" cy="158760"/>
            </a:xfrm>
            <a:prstGeom prst="rightArrow">
              <a:avLst>
                <a:gd name="adj1" fmla="val 50000"/>
                <a:gd name="adj2" fmla="val 1577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1195560" y="4653000"/>
              <a:ext cx="305640" cy="368280"/>
              <a:chOff x="1195560" y="4653000"/>
              <a:chExt cx="305640" cy="368280"/>
            </a:xfrm>
          </p:grpSpPr>
          <p:sp>
            <p:nvSpPr>
              <p:cNvPr id="943" name=""/>
              <p:cNvSpPr/>
              <p:nvPr/>
            </p:nvSpPr>
            <p:spPr>
              <a:xfrm>
                <a:off x="1195560" y="46530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11040" y="46530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1739520" y="5516640"/>
            <a:ext cx="405720" cy="545760"/>
            <a:chOff x="1739520" y="5516640"/>
            <a:chExt cx="405720" cy="545760"/>
          </a:xfrm>
        </p:grpSpPr>
        <p:grpSp>
          <p:nvGrpSpPr>
            <p:cNvPr id="946" name=""/>
            <p:cNvGrpSpPr/>
            <p:nvPr/>
          </p:nvGrpSpPr>
          <p:grpSpPr>
            <a:xfrm>
              <a:off x="1739520" y="5859720"/>
              <a:ext cx="211320" cy="202680"/>
              <a:chOff x="1739520" y="5859720"/>
              <a:chExt cx="211320" cy="202680"/>
            </a:xfrm>
          </p:grpSpPr>
          <p:sp>
            <p:nvSpPr>
              <p:cNvPr id="947" name=""/>
              <p:cNvSpPr/>
              <p:nvPr/>
            </p:nvSpPr>
            <p:spPr>
              <a:xfrm>
                <a:off x="1755720" y="586440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739520" y="585972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806120" y="5516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H="1" flipV="1">
            <a:off x="128520" y="4039920"/>
            <a:ext cx="1704960" cy="19191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515080" y="554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7017840" y="4724280"/>
            <a:ext cx="315000" cy="1654200"/>
            <a:chOff x="7017840" y="4724280"/>
            <a:chExt cx="315000" cy="1654200"/>
          </a:xfrm>
        </p:grpSpPr>
        <p:sp>
          <p:nvSpPr>
            <p:cNvPr id="953" name=""/>
            <p:cNvSpPr/>
            <p:nvPr/>
          </p:nvSpPr>
          <p:spPr>
            <a:xfrm flipV="1">
              <a:off x="7159680" y="507024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7840" y="4724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841400" y="4784760"/>
            <a:ext cx="5321520" cy="425160"/>
            <a:chOff x="1841400" y="4784760"/>
            <a:chExt cx="5321520" cy="425160"/>
          </a:xfrm>
        </p:grpSpPr>
        <p:sp>
          <p:nvSpPr>
            <p:cNvPr id="956" name=""/>
            <p:cNvSpPr/>
            <p:nvPr/>
          </p:nvSpPr>
          <p:spPr>
            <a:xfrm>
              <a:off x="1841400" y="5209920"/>
              <a:ext cx="532152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47920" y="4784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-1052280" y="4024440"/>
            <a:ext cx="4291920" cy="3856680"/>
            <a:chOff x="-1052280" y="4024440"/>
            <a:chExt cx="4291920" cy="3856680"/>
          </a:xfrm>
        </p:grpSpPr>
        <p:sp>
          <p:nvSpPr>
            <p:cNvPr id="959" name=""/>
            <p:cNvSpPr/>
            <p:nvPr/>
          </p:nvSpPr>
          <p:spPr>
            <a:xfrm>
              <a:off x="-1052280" y="4024440"/>
              <a:ext cx="4291920" cy="38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9" y="872"/>
                  </a:moveTo>
                  <a:arcTo wR="10800" hR="10800" stAng="-6790657" swAng="6765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9" y="872"/>
                  </a:moveTo>
                  <a:arcTo wR="10800" hR="10800" stAng="-6790657" swAng="676518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12760" y="4651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11760" y="1976400"/>
            <a:ext cx="2982960" cy="372960"/>
            <a:chOff x="311760" y="1976400"/>
            <a:chExt cx="2982960" cy="372960"/>
          </a:xfrm>
        </p:grpSpPr>
        <p:sp>
          <p:nvSpPr>
            <p:cNvPr id="962" name=""/>
            <p:cNvSpPr/>
            <p:nvPr/>
          </p:nvSpPr>
          <p:spPr>
            <a:xfrm>
              <a:off x="311760" y="1981080"/>
              <a:ext cx="29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ppel: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 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886040" y="19764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6340680" y="2324160"/>
            <a:ext cx="2270160" cy="2240640"/>
            <a:chOff x="6340680" y="2324160"/>
            <a:chExt cx="2270160" cy="2240640"/>
          </a:xfrm>
        </p:grpSpPr>
        <p:sp>
          <p:nvSpPr>
            <p:cNvPr id="966" name=""/>
            <p:cNvSpPr/>
            <p:nvPr/>
          </p:nvSpPr>
          <p:spPr>
            <a:xfrm>
              <a:off x="6553080" y="3238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7480" y="232416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51800" y="2549520"/>
              <a:ext cx="1400040" cy="1400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40680" y="4257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ercle trigonométr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41040" y="3176640"/>
            <a:ext cx="1143720" cy="312840"/>
            <a:chOff x="7241040" y="3176640"/>
            <a:chExt cx="1143720" cy="312840"/>
          </a:xfrm>
        </p:grpSpPr>
        <p:sp>
          <p:nvSpPr>
            <p:cNvPr id="971" name=""/>
            <p:cNvSpPr/>
            <p:nvPr/>
          </p:nvSpPr>
          <p:spPr>
            <a:xfrm>
              <a:off x="7467480" y="3238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4104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117280" y="317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26240" y="3213000"/>
              <a:ext cx="4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831360" y="2666880"/>
            <a:ext cx="1121400" cy="1228680"/>
            <a:chOff x="6831360" y="2666880"/>
            <a:chExt cx="1121400" cy="1228680"/>
          </a:xfrm>
        </p:grpSpPr>
        <p:sp>
          <p:nvSpPr>
            <p:cNvPr id="976" name=""/>
            <p:cNvSpPr/>
            <p:nvPr/>
          </p:nvSpPr>
          <p:spPr>
            <a:xfrm rot="938400">
              <a:off x="6941880" y="2845800"/>
              <a:ext cx="900000" cy="9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5" y="3283"/>
                  </a:moveTo>
                  <a:arcTo wR="10800" hR="10800" stAng="-8153535" swAng="6577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5" y="3283"/>
                  </a:moveTo>
                  <a:arcTo wR="10800" hR="10800" stAng="-8153535" swAng="657776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5480" y="26668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2806560" y="248904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98680" y="26100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11400" y="2529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21320" y="2622600"/>
            <a:ext cx="495360" cy="245880"/>
          </a:xfrm>
          <a:prstGeom prst="rightArrow">
            <a:avLst>
              <a:gd name="adj1" fmla="val 50000"/>
              <a:gd name="adj2" fmla="val 503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165640" y="2565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470560" y="2565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104840" y="297036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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6560" y="29559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98680" y="30765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910320" y="29973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621320" y="30891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66720" y="299736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607000" y="2997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8080" y="34005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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06560" y="3386160"/>
            <a:ext cx="12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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398680" y="35067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85480" y="33544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621320" y="3519360"/>
            <a:ext cx="495360" cy="246240"/>
          </a:xfrm>
          <a:prstGeom prst="rightArrow">
            <a:avLst>
              <a:gd name="adj1" fmla="val 50000"/>
              <a:gd name="adj2" fmla="val 50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75360" y="33544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578920" y="3354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6643800" y="2325600"/>
            <a:ext cx="798480" cy="8985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989760" y="2727360"/>
            <a:ext cx="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6973560" y="3238560"/>
            <a:ext cx="493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4840" y="490536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(rési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1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0164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6360" y="9810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énér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959760" y="1390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0574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vail d’une a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961200" y="24271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940680" y="271476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9800" y="37051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issance d’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961200" y="4102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4960" y="438156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en translation recti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974520" y="172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Notion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927000" y="30290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translation quelco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7" action="ppaction://hlinksldjump"/>
          </p:cNvPr>
          <p:cNvSpPr/>
          <p:nvPr/>
        </p:nvSpPr>
        <p:spPr>
          <a:xfrm>
            <a:off x="927000" y="332100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d’une force en rotation autour d’un ax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5120" y="46990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Puissance d’une force sur un solide en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720" y="5083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3360" y="550692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- Travail ,puissance et couple d’un moteur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6913800" y="6133680"/>
            <a:ext cx="2241000" cy="423000"/>
          </a:xfrm>
          <a:custGeom>
            <a:avLst/>
            <a:gdLst>
              <a:gd name="textAreaLeft" fmla="*/ 27360 w 2241000"/>
              <a:gd name="textAreaRight" fmla="*/ 2213640 w 2241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114355" h="21600">
                <a:moveTo>
                  <a:pt x="0" y="0"/>
                </a:moveTo>
                <a:lnTo>
                  <a:pt x="114355" y="0"/>
                </a:lnTo>
                <a:lnTo>
                  <a:pt x="114355" y="21600"/>
                </a:lnTo>
                <a:lnTo>
                  <a:pt x="0" y="21600"/>
                </a:lnTo>
                <a:close/>
              </a:path>
              <a:path fill="lightenLess" w="114355" h="21600">
                <a:moveTo>
                  <a:pt x="0" y="0"/>
                </a:moveTo>
                <a:lnTo>
                  <a:pt x="114355" y="0"/>
                </a:lnTo>
                <a:lnTo>
                  <a:pt x="112955" y="1400"/>
                </a:lnTo>
                <a:lnTo>
                  <a:pt x="1400" y="1400"/>
                </a:lnTo>
                <a:close/>
              </a:path>
              <a:path fill="darken" w="114355" h="21600">
                <a:moveTo>
                  <a:pt x="114355" y="0"/>
                </a:moveTo>
                <a:lnTo>
                  <a:pt x="114355" y="21600"/>
                </a:lnTo>
                <a:lnTo>
                  <a:pt x="112955" y="20200"/>
                </a:lnTo>
                <a:lnTo>
                  <a:pt x="112955" y="1400"/>
                </a:lnTo>
                <a:close/>
              </a:path>
              <a:path fill="darkenLess" w="114355" h="21600">
                <a:moveTo>
                  <a:pt x="114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955" y="20200"/>
                </a:lnTo>
                <a:close/>
              </a:path>
              <a:path fill="lighten" w="114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 du diapo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0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1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1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1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2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24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29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33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43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050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055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057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9" name=""/>
          <p:cNvGrpSpPr/>
          <p:nvPr/>
        </p:nvGrpSpPr>
        <p:grpSpPr>
          <a:xfrm>
            <a:off x="6451920" y="4295880"/>
            <a:ext cx="1681560" cy="459720"/>
            <a:chOff x="6451920" y="4295880"/>
            <a:chExt cx="1681560" cy="459720"/>
          </a:xfrm>
        </p:grpSpPr>
        <p:sp>
          <p:nvSpPr>
            <p:cNvPr id="1060" name=""/>
            <p:cNvSpPr/>
            <p:nvPr/>
          </p:nvSpPr>
          <p:spPr>
            <a:xfrm>
              <a:off x="6451920" y="4295880"/>
              <a:ext cx="168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=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 Unicode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065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069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070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077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081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085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019640" y="5803920"/>
            <a:ext cx="5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780520" y="5805360"/>
            <a:ext cx="81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097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754280" y="3527280"/>
            <a:ext cx="3417840" cy="1317600"/>
          </a:xfrm>
          <a:custGeom>
            <a:avLst/>
            <a:gdLst/>
            <a:ahLst/>
            <a:rect l="l" t="t" r="r" b="b"/>
            <a:pathLst>
              <a:path w="2153" h="830">
                <a:moveTo>
                  <a:pt x="1" y="0"/>
                </a:moveTo>
                <a:lnTo>
                  <a:pt x="0" y="830"/>
                </a:lnTo>
                <a:lnTo>
                  <a:pt x="126" y="828"/>
                </a:lnTo>
                <a:lnTo>
                  <a:pt x="124" y="428"/>
                </a:lnTo>
                <a:lnTo>
                  <a:pt x="2150" y="428"/>
                </a:lnTo>
                <a:lnTo>
                  <a:pt x="2153" y="341"/>
                </a:lnTo>
                <a:lnTo>
                  <a:pt x="124" y="340"/>
                </a:lnTo>
                <a:lnTo>
                  <a:pt x="124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104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105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752480" y="3716280"/>
            <a:ext cx="609840" cy="480960"/>
            <a:chOff x="1752480" y="3716280"/>
            <a:chExt cx="609840" cy="480960"/>
          </a:xfrm>
        </p:grpSpPr>
        <p:sp>
          <p:nvSpPr>
            <p:cNvPr id="1109" name=""/>
            <p:cNvSpPr/>
            <p:nvPr/>
          </p:nvSpPr>
          <p:spPr>
            <a:xfrm>
              <a:off x="1752480" y="4064040"/>
              <a:ext cx="609840" cy="133200"/>
            </a:xfrm>
            <a:prstGeom prst="rightArrow">
              <a:avLst>
                <a:gd name="adj1" fmla="val 50000"/>
                <a:gd name="adj2" fmla="val 114459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1951560" y="3716280"/>
              <a:ext cx="305640" cy="368280"/>
              <a:chOff x="1951560" y="3716280"/>
              <a:chExt cx="305640" cy="368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1951560" y="371628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974960" y="3762360"/>
                <a:ext cx="241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14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18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19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38760" y="4703760"/>
            <a:ext cx="1260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25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rot="19141200">
            <a:off x="5313600" y="3184920"/>
            <a:ext cx="1523160" cy="736200"/>
          </a:xfrm>
          <a:prstGeom prst="rightArrow">
            <a:avLst>
              <a:gd name="adj1" fmla="val 50000"/>
              <a:gd name="adj2" fmla="val 517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536560" y="2243880"/>
            <a:ext cx="2370960" cy="2177280"/>
            <a:chOff x="2536560" y="2243880"/>
            <a:chExt cx="2370960" cy="2177280"/>
          </a:xfrm>
        </p:grpSpPr>
        <p:sp>
          <p:nvSpPr>
            <p:cNvPr id="1134" name=""/>
            <p:cNvSpPr/>
            <p:nvPr/>
          </p:nvSpPr>
          <p:spPr>
            <a:xfrm flipH="1" rot="19168800">
              <a:off x="2476800" y="2964240"/>
              <a:ext cx="2489760" cy="736200"/>
            </a:xfrm>
            <a:prstGeom prst="rightArrow">
              <a:avLst>
                <a:gd name="adj1" fmla="val 50000"/>
                <a:gd name="adj2" fmla="val 845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gne d’action de 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4376160" y="2496240"/>
              <a:ext cx="1364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38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145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149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153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516440" y="5778360"/>
            <a:ext cx="31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70212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16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16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706400" y="3513240"/>
            <a:ext cx="2400480" cy="1333440"/>
          </a:xfrm>
          <a:custGeom>
            <a:avLst/>
            <a:gdLst/>
            <a:ahLst/>
            <a:rect l="l" t="t" r="r" b="b"/>
            <a:pathLst>
              <a:path w="1512" h="840">
                <a:moveTo>
                  <a:pt x="15" y="0"/>
                </a:moveTo>
                <a:lnTo>
                  <a:pt x="1503" y="5"/>
                </a:lnTo>
                <a:lnTo>
                  <a:pt x="1512" y="840"/>
                </a:lnTo>
                <a:lnTo>
                  <a:pt x="0" y="840"/>
                </a:lnTo>
                <a:lnTo>
                  <a:pt x="15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9080" y="9428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d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ué par la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pression d’hui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le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ist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un vé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487520" y="3129120"/>
            <a:ext cx="3489120" cy="1734840"/>
            <a:chOff x="1487520" y="3129120"/>
            <a:chExt cx="3489120" cy="1734840"/>
          </a:xfrm>
        </p:grpSpPr>
        <p:sp>
          <p:nvSpPr>
            <p:cNvPr id="1171" name=""/>
            <p:cNvSpPr/>
            <p:nvPr/>
          </p:nvSpPr>
          <p:spPr>
            <a:xfrm>
              <a:off x="1487520" y="3137040"/>
              <a:ext cx="3483000" cy="1726920"/>
            </a:xfrm>
            <a:custGeom>
              <a:avLst/>
              <a:gdLst/>
              <a:ahLst/>
              <a:rect l="l" t="t" r="r" b="b"/>
              <a:pathLst>
                <a:path w="2194" h="1088">
                  <a:moveTo>
                    <a:pt x="0" y="0"/>
                  </a:moveTo>
                  <a:lnTo>
                    <a:pt x="3" y="1088"/>
                  </a:lnTo>
                  <a:lnTo>
                    <a:pt x="1810" y="1085"/>
                  </a:lnTo>
                  <a:lnTo>
                    <a:pt x="1810" y="691"/>
                  </a:lnTo>
                  <a:lnTo>
                    <a:pt x="2194" y="69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39800" y="3129120"/>
              <a:ext cx="2598840" cy="376200"/>
            </a:xfrm>
            <a:custGeom>
              <a:avLst/>
              <a:gdLst/>
              <a:ahLst/>
              <a:rect l="l" t="t" r="r" b="b"/>
              <a:pathLst>
                <a:path w="1637" h="237">
                  <a:moveTo>
                    <a:pt x="0" y="0"/>
                  </a:moveTo>
                  <a:lnTo>
                    <a:pt x="0" y="237"/>
                  </a:lnTo>
                  <a:lnTo>
                    <a:pt x="1637" y="235"/>
                  </a:lnTo>
                  <a:lnTo>
                    <a:pt x="163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71840" y="3137040"/>
              <a:ext cx="604800" cy="904680"/>
            </a:xfrm>
            <a:custGeom>
              <a:avLst/>
              <a:gdLst/>
              <a:ahLst/>
              <a:rect l="l" t="t" r="r" b="b"/>
              <a:pathLst>
                <a:path w="381" h="570">
                  <a:moveTo>
                    <a:pt x="0" y="0"/>
                  </a:moveTo>
                  <a:lnTo>
                    <a:pt x="2" y="400"/>
                  </a:lnTo>
                  <a:lnTo>
                    <a:pt x="0" y="570"/>
                  </a:lnTo>
                  <a:lnTo>
                    <a:pt x="381" y="5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500120" y="3133800"/>
            <a:ext cx="247680" cy="1714320"/>
          </a:xfrm>
          <a:custGeom>
            <a:avLst/>
            <a:gdLst/>
            <a:ahLst/>
            <a:rect l="l" t="t" r="r" b="b"/>
            <a:pathLst>
              <a:path w="156" h="1080">
                <a:moveTo>
                  <a:pt x="0" y="3"/>
                </a:moveTo>
                <a:lnTo>
                  <a:pt x="0" y="1077"/>
                </a:lnTo>
                <a:lnTo>
                  <a:pt x="153" y="1080"/>
                </a:lnTo>
                <a:lnTo>
                  <a:pt x="156" y="240"/>
                </a:lnTo>
                <a:lnTo>
                  <a:pt x="75" y="240"/>
                </a:lnTo>
                <a:lnTo>
                  <a:pt x="7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476360" y="26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875880" y="3505320"/>
            <a:ext cx="800280" cy="1346040"/>
            <a:chOff x="875880" y="3505320"/>
            <a:chExt cx="800280" cy="1346040"/>
          </a:xfrm>
        </p:grpSpPr>
        <p:sp>
          <p:nvSpPr>
            <p:cNvPr id="1177" name=""/>
            <p:cNvSpPr/>
            <p:nvPr/>
          </p:nvSpPr>
          <p:spPr>
            <a:xfrm flipH="1">
              <a:off x="875880" y="350532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75880" y="4851360"/>
              <a:ext cx="8002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104840" y="3505320"/>
              <a:ext cx="0" cy="1346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495360" y="3952800"/>
            <a:ext cx="575280" cy="368280"/>
            <a:chOff x="495360" y="3952800"/>
            <a:chExt cx="575280" cy="368280"/>
          </a:xfrm>
        </p:grpSpPr>
        <p:grpSp>
          <p:nvGrpSpPr>
            <p:cNvPr id="1181" name=""/>
            <p:cNvGrpSpPr/>
            <p:nvPr/>
          </p:nvGrpSpPr>
          <p:grpSpPr>
            <a:xfrm>
              <a:off x="495360" y="4012920"/>
              <a:ext cx="182520" cy="273240"/>
              <a:chOff x="495360" y="4012920"/>
              <a:chExt cx="182520" cy="273240"/>
            </a:xfrm>
          </p:grpSpPr>
          <p:sp>
            <p:nvSpPr>
              <p:cNvPr id="1182" name=""/>
              <p:cNvSpPr/>
              <p:nvPr/>
            </p:nvSpPr>
            <p:spPr>
              <a:xfrm>
                <a:off x="528480" y="4060800"/>
                <a:ext cx="149400" cy="149040"/>
              </a:xfrm>
              <a:prstGeom prst="ellipse">
                <a:avLst/>
              </a:prstGeom>
              <a:noFill/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495360" y="4012920"/>
                <a:ext cx="177840" cy="27324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627840" y="3952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877400" y="2552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0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,8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937440" y="5405400"/>
            <a:ext cx="1895400" cy="762120"/>
            <a:chOff x="937440" y="5405400"/>
            <a:chExt cx="1895400" cy="762120"/>
          </a:xfrm>
        </p:grpSpPr>
        <p:grpSp>
          <p:nvGrpSpPr>
            <p:cNvPr id="1187" name=""/>
            <p:cNvGrpSpPr/>
            <p:nvPr/>
          </p:nvGrpSpPr>
          <p:grpSpPr>
            <a:xfrm>
              <a:off x="937440" y="5405400"/>
              <a:ext cx="1788480" cy="459720"/>
              <a:chOff x="937440" y="5405400"/>
              <a:chExt cx="1788480" cy="459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937440" y="5405400"/>
                <a:ext cx="1788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II 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895400" y="543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973080" y="57992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7760" y="579924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01480" y="57754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1751040" y="4140360"/>
            <a:ext cx="385272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501600" y="46832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6472440" y="4295880"/>
            <a:ext cx="1599480" cy="459720"/>
            <a:chOff x="6472440" y="4295880"/>
            <a:chExt cx="1599480" cy="459720"/>
          </a:xfrm>
        </p:grpSpPr>
        <p:sp>
          <p:nvSpPr>
            <p:cNvPr id="1196" name=""/>
            <p:cNvSpPr/>
            <p:nvPr/>
          </p:nvSpPr>
          <p:spPr>
            <a:xfrm>
              <a:off x="6472440" y="4295880"/>
              <a:ext cx="159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I = P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88080" y="4326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7092360" y="4683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756200" y="465948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153280" y="4535640"/>
            <a:ext cx="55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20552400">
            <a:off x="8093160" y="507816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926480" y="5643720"/>
            <a:ext cx="642600" cy="712440"/>
            <a:chOff x="7926480" y="5643720"/>
            <a:chExt cx="642600" cy="712440"/>
          </a:xfrm>
        </p:grpSpPr>
        <p:sp>
          <p:nvSpPr>
            <p:cNvPr id="1203" name=""/>
            <p:cNvSpPr/>
            <p:nvPr/>
          </p:nvSpPr>
          <p:spPr>
            <a:xfrm>
              <a:off x="7926480" y="5643720"/>
              <a:ext cx="64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d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038800" y="5987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42320" y="5984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749720" y="5657760"/>
            <a:ext cx="1038960" cy="712800"/>
            <a:chOff x="7749720" y="5657760"/>
            <a:chExt cx="1038960" cy="712800"/>
          </a:xfrm>
        </p:grpSpPr>
        <p:sp>
          <p:nvSpPr>
            <p:cNvPr id="1207" name=""/>
            <p:cNvSpPr/>
            <p:nvPr/>
          </p:nvSpPr>
          <p:spPr>
            <a:xfrm>
              <a:off x="7749720" y="5657760"/>
              <a:ext cx="103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,14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.</a:t>
              </a: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30</a:t>
              </a:r>
              <a:r>
                <a:rPr b="1" lang="en-US" sz="1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052120" y="6002280"/>
              <a:ext cx="40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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56560" y="5999040"/>
              <a:ext cx="94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7763040" y="5683320"/>
            <a:ext cx="1260360" cy="684000"/>
            <a:chOff x="7763040" y="5683320"/>
            <a:chExt cx="1260360" cy="684000"/>
          </a:xfrm>
        </p:grpSpPr>
        <p:sp>
          <p:nvSpPr>
            <p:cNvPr id="1211" name=""/>
            <p:cNvSpPr/>
            <p:nvPr/>
          </p:nvSpPr>
          <p:spPr>
            <a:xfrm>
              <a:off x="7763040" y="5683320"/>
              <a:ext cx="1260360" cy="6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152200" y="5815080"/>
              <a:ext cx="57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rot="897000">
            <a:off x="7434000" y="5100120"/>
            <a:ext cx="174600" cy="527040"/>
          </a:xfrm>
          <a:prstGeom prst="downArrow">
            <a:avLst>
              <a:gd name="adj1" fmla="val 50000"/>
              <a:gd name="adj2" fmla="val 754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004520" y="5803920"/>
            <a:ext cx="5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522560" y="577836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90240" y="577836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770080" y="5805360"/>
            <a:ext cx="80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95120" y="5578560"/>
            <a:ext cx="679680" cy="338040"/>
          </a:xfrm>
          <a:prstGeom prst="rightArrow">
            <a:avLst>
              <a:gd name="adj1" fmla="val 50000"/>
              <a:gd name="adj2" fmla="val 502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653840" y="3527280"/>
            <a:ext cx="3518280" cy="1317600"/>
            <a:chOff x="1653840" y="3527280"/>
            <a:chExt cx="3518280" cy="1317600"/>
          </a:xfrm>
        </p:grpSpPr>
        <p:sp>
          <p:nvSpPr>
            <p:cNvPr id="1220" name=""/>
            <p:cNvSpPr/>
            <p:nvPr/>
          </p:nvSpPr>
          <p:spPr>
            <a:xfrm>
              <a:off x="1754280" y="3527280"/>
              <a:ext cx="3417840" cy="1317600"/>
            </a:xfrm>
            <a:custGeom>
              <a:avLst/>
              <a:gdLst/>
              <a:ahLst/>
              <a:rect l="l" t="t" r="r" b="b"/>
              <a:pathLst>
                <a:path w="2153" h="830">
                  <a:moveTo>
                    <a:pt x="1" y="0"/>
                  </a:moveTo>
                  <a:lnTo>
                    <a:pt x="0" y="830"/>
                  </a:lnTo>
                  <a:lnTo>
                    <a:pt x="126" y="828"/>
                  </a:lnTo>
                  <a:lnTo>
                    <a:pt x="124" y="428"/>
                  </a:lnTo>
                  <a:lnTo>
                    <a:pt x="2150" y="428"/>
                  </a:lnTo>
                  <a:lnTo>
                    <a:pt x="2153" y="341"/>
                  </a:lnTo>
                  <a:lnTo>
                    <a:pt x="124" y="340"/>
                  </a:lnTo>
                  <a:lnTo>
                    <a:pt x="12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653840" y="4021200"/>
              <a:ext cx="548640" cy="465120"/>
              <a:chOff x="1653840" y="4021200"/>
              <a:chExt cx="548640" cy="46512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1653840" y="4021200"/>
                <a:ext cx="203760" cy="196560"/>
                <a:chOff x="1653840" y="4021200"/>
                <a:chExt cx="203760" cy="1965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166068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1653840" y="4021200"/>
                  <a:ext cx="196920" cy="196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>
                <a:off x="1863360" y="41180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1752480" y="3716280"/>
              <a:ext cx="609840" cy="480960"/>
              <a:chOff x="1752480" y="3716280"/>
              <a:chExt cx="609840" cy="480960"/>
            </a:xfrm>
          </p:grpSpPr>
          <p:sp>
            <p:nvSpPr>
              <p:cNvPr id="1227" name=""/>
              <p:cNvSpPr/>
              <p:nvPr/>
            </p:nvSpPr>
            <p:spPr>
              <a:xfrm>
                <a:off x="1752480" y="4064040"/>
                <a:ext cx="609840" cy="133200"/>
              </a:xfrm>
              <a:prstGeom prst="rightArrow">
                <a:avLst>
                  <a:gd name="adj1" fmla="val 50000"/>
                  <a:gd name="adj2" fmla="val 114459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1951560" y="3716280"/>
                <a:ext cx="305640" cy="368280"/>
                <a:chOff x="1951560" y="3716280"/>
                <a:chExt cx="305640" cy="3682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51560" y="371628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74960" y="3762360"/>
                  <a:ext cx="24156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1" name=""/>
          <p:cNvGrpSpPr/>
          <p:nvPr/>
        </p:nvGrpSpPr>
        <p:grpSpPr>
          <a:xfrm>
            <a:off x="3966840" y="4021200"/>
            <a:ext cx="535320" cy="465120"/>
            <a:chOff x="3966840" y="4021200"/>
            <a:chExt cx="535320" cy="465120"/>
          </a:xfrm>
        </p:grpSpPr>
        <p:grpSp>
          <p:nvGrpSpPr>
            <p:cNvPr id="1232" name=""/>
            <p:cNvGrpSpPr/>
            <p:nvPr/>
          </p:nvGrpSpPr>
          <p:grpSpPr>
            <a:xfrm>
              <a:off x="3966840" y="4021200"/>
              <a:ext cx="203760" cy="196560"/>
              <a:chOff x="3966840" y="4021200"/>
              <a:chExt cx="203760" cy="196560"/>
            </a:xfrm>
          </p:grpSpPr>
          <p:sp>
            <p:nvSpPr>
              <p:cNvPr id="1233" name=""/>
              <p:cNvSpPr/>
              <p:nvPr/>
            </p:nvSpPr>
            <p:spPr>
              <a:xfrm>
                <a:off x="3973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3966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5" name=""/>
            <p:cNvSpPr/>
            <p:nvPr/>
          </p:nvSpPr>
          <p:spPr>
            <a:xfrm>
              <a:off x="4167360" y="41180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1653840" y="4021200"/>
            <a:ext cx="548640" cy="465120"/>
            <a:chOff x="1653840" y="4021200"/>
            <a:chExt cx="548640" cy="465120"/>
          </a:xfrm>
        </p:grpSpPr>
        <p:grpSp>
          <p:nvGrpSpPr>
            <p:cNvPr id="1237" name=""/>
            <p:cNvGrpSpPr/>
            <p:nvPr/>
          </p:nvGrpSpPr>
          <p:grpSpPr>
            <a:xfrm>
              <a:off x="1653840" y="4021200"/>
              <a:ext cx="203760" cy="196560"/>
              <a:chOff x="1653840" y="4021200"/>
              <a:chExt cx="203760" cy="196560"/>
            </a:xfrm>
          </p:grpSpPr>
          <p:sp>
            <p:nvSpPr>
              <p:cNvPr id="1238" name=""/>
              <p:cNvSpPr/>
              <p:nvPr/>
            </p:nvSpPr>
            <p:spPr>
              <a:xfrm>
                <a:off x="166068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653840" y="4021200"/>
                <a:ext cx="196920" cy="19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1863360" y="4118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752480" y="4092480"/>
            <a:ext cx="2333880" cy="1212840"/>
            <a:chOff x="1752480" y="4092480"/>
            <a:chExt cx="2333880" cy="1212840"/>
          </a:xfrm>
        </p:grpSpPr>
        <p:sp>
          <p:nvSpPr>
            <p:cNvPr id="1242" name=""/>
            <p:cNvSpPr/>
            <p:nvPr/>
          </p:nvSpPr>
          <p:spPr>
            <a:xfrm>
              <a:off x="1752480" y="4102200"/>
              <a:ext cx="0" cy="120312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76640" y="4092480"/>
              <a:ext cx="0" cy="12128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752480" y="5229360"/>
              <a:ext cx="2333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83440" y="48578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0,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2835000" y="54054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733000" y="5824440"/>
            <a:ext cx="5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816000" y="5405400"/>
            <a:ext cx="357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706480" y="48672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35000" y="58975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88960" y="5951520"/>
            <a:ext cx="134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56,5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15 L 0.25313 0.00115 E">
                                      <p:cBhvr>
                                        <p:cTn id="1180" dur="2000" fill="hold"/>
                                        <p:tgtEl>
                                          <p:spTgt spid="1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3.33333E-006 L -0.27204 -0.05301 E">
                                      <p:cBhvr>
                                        <p:cTn id="119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0.15556 0.08704 E">
                                      <p:cBhvr>
                                        <p:cTn id="1210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57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865840" y="2652840"/>
            <a:ext cx="7714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262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263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42920" y="309096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42920" y="350820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5696280" y="3068640"/>
            <a:ext cx="627840" cy="1001520"/>
            <a:chOff x="5696280" y="3068640"/>
            <a:chExt cx="627840" cy="1001520"/>
          </a:xfrm>
        </p:grpSpPr>
        <p:sp>
          <p:nvSpPr>
            <p:cNvPr id="1270" name=""/>
            <p:cNvSpPr/>
            <p:nvPr/>
          </p:nvSpPr>
          <p:spPr>
            <a:xfrm rot="5400000">
              <a:off x="5744160" y="3490200"/>
              <a:ext cx="1001520" cy="158400"/>
            </a:xfrm>
            <a:prstGeom prst="rightArrow">
              <a:avLst>
                <a:gd name="adj1" fmla="val 50000"/>
                <a:gd name="adj2" fmla="val 15806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5696280" y="3655800"/>
              <a:ext cx="305640" cy="368280"/>
              <a:chOff x="5696280" y="3655800"/>
              <a:chExt cx="305640" cy="368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5696280" y="36558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11760" y="36558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4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276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277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6245280" y="2467080"/>
            <a:ext cx="0" cy="393696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3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815040" y="942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translation quelcon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898560" y="6364440"/>
            <a:ext cx="8094600" cy="268200"/>
            <a:chOff x="898560" y="6364440"/>
            <a:chExt cx="8094600" cy="268200"/>
          </a:xfrm>
        </p:grpSpPr>
        <p:sp>
          <p:nvSpPr>
            <p:cNvPr id="1286" name=""/>
            <p:cNvSpPr/>
            <p:nvPr/>
          </p:nvSpPr>
          <p:spPr>
            <a:xfrm>
              <a:off x="898560" y="6380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03240" y="6364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620640" y="1464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ravail d’une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stante se déplaçant entre 2 point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736560" y="3500280"/>
            <a:ext cx="1849680" cy="459720"/>
            <a:chOff x="736560" y="3500280"/>
            <a:chExt cx="1849680" cy="459720"/>
          </a:xfrm>
        </p:grpSpPr>
        <p:sp>
          <p:nvSpPr>
            <p:cNvPr id="1290" name=""/>
            <p:cNvSpPr/>
            <p:nvPr/>
          </p:nvSpPr>
          <p:spPr>
            <a:xfrm>
              <a:off x="736560" y="3500280"/>
              <a:ext cx="184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I .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92360" y="3530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696280" y="2652840"/>
            <a:ext cx="941040" cy="1417320"/>
            <a:chOff x="5696280" y="2652840"/>
            <a:chExt cx="941040" cy="1417320"/>
          </a:xfrm>
        </p:grpSpPr>
        <p:sp>
          <p:nvSpPr>
            <p:cNvPr id="1294" name=""/>
            <p:cNvSpPr/>
            <p:nvPr/>
          </p:nvSpPr>
          <p:spPr>
            <a:xfrm>
              <a:off x="5865840" y="2652840"/>
              <a:ext cx="771480" cy="76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5696280" y="3068640"/>
              <a:ext cx="627840" cy="1001520"/>
              <a:chOff x="5696280" y="3068640"/>
              <a:chExt cx="627840" cy="1001520"/>
            </a:xfrm>
          </p:grpSpPr>
          <p:sp>
            <p:nvSpPr>
              <p:cNvPr id="1296" name=""/>
              <p:cNvSpPr/>
              <p:nvPr/>
            </p:nvSpPr>
            <p:spPr>
              <a:xfrm rot="5400000">
                <a:off x="5744160" y="3490200"/>
                <a:ext cx="1001520" cy="158400"/>
              </a:xfrm>
              <a:prstGeom prst="rightArrow">
                <a:avLst>
                  <a:gd name="adj1" fmla="val 50000"/>
                  <a:gd name="adj2" fmla="val 158068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5696280" y="3655800"/>
                <a:ext cx="305640" cy="368280"/>
                <a:chOff x="5696280" y="3655800"/>
                <a:chExt cx="305640" cy="3682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696280" y="36558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711760" y="365580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0" name=""/>
          <p:cNvSpPr/>
          <p:nvPr/>
        </p:nvSpPr>
        <p:spPr>
          <a:xfrm flipH="1">
            <a:off x="4063680" y="3429000"/>
            <a:ext cx="201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3088800" y="4879800"/>
            <a:ext cx="392400" cy="545760"/>
            <a:chOff x="3088800" y="4879800"/>
            <a:chExt cx="392400" cy="545760"/>
          </a:xfrm>
        </p:grpSpPr>
        <p:grpSp>
          <p:nvGrpSpPr>
            <p:cNvPr id="1302" name=""/>
            <p:cNvGrpSpPr/>
            <p:nvPr/>
          </p:nvGrpSpPr>
          <p:grpSpPr>
            <a:xfrm>
              <a:off x="3088800" y="5222880"/>
              <a:ext cx="211320" cy="202680"/>
              <a:chOff x="3088800" y="5222880"/>
              <a:chExt cx="211320" cy="202680"/>
            </a:xfrm>
          </p:grpSpPr>
          <p:sp>
            <p:nvSpPr>
              <p:cNvPr id="1303" name=""/>
              <p:cNvSpPr/>
              <p:nvPr/>
            </p:nvSpPr>
            <p:spPr>
              <a:xfrm>
                <a:off x="3105000" y="522756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3088800" y="522288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3146400" y="487980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20640" y="1896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 égal au produit de la valeur de cett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la proje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20640" y="2277360"/>
            <a:ext cx="42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</a:t>
            </a:r>
            <a:r>
              <a:rPr b="0" lang="en-US" sz="1800" spc="-1" strike="noStrike">
                <a:solidFill>
                  <a:srgbClr val="ff33cc"/>
                </a:solidFill>
                <a:latin typeface="Comic Sans MS"/>
              </a:rPr>
              <a:t>trajectoi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 s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droite d’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6245280" y="2466720"/>
            <a:ext cx="0" cy="387324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6136920" y="2631960"/>
            <a:ext cx="405720" cy="545760"/>
            <a:chOff x="6136920" y="2631960"/>
            <a:chExt cx="405720" cy="545760"/>
          </a:xfrm>
        </p:grpSpPr>
        <p:grpSp>
          <p:nvGrpSpPr>
            <p:cNvPr id="1310" name=""/>
            <p:cNvGrpSpPr/>
            <p:nvPr/>
          </p:nvGrpSpPr>
          <p:grpSpPr>
            <a:xfrm>
              <a:off x="6136920" y="2975040"/>
              <a:ext cx="211320" cy="202680"/>
              <a:chOff x="6136920" y="2975040"/>
              <a:chExt cx="211320" cy="202680"/>
            </a:xfrm>
          </p:grpSpPr>
          <p:sp>
            <p:nvSpPr>
              <p:cNvPr id="1311" name=""/>
              <p:cNvSpPr/>
              <p:nvPr/>
            </p:nvSpPr>
            <p:spPr>
              <a:xfrm>
                <a:off x="6153120" y="2979720"/>
                <a:ext cx="195120" cy="19512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6136920" y="2975040"/>
                <a:ext cx="202680" cy="202680"/>
              </a:xfrm>
              <a:prstGeom prst="line">
                <a:avLst/>
              </a:prstGeom>
              <a:ln w="1908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03520" y="263196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203640" y="3068640"/>
            <a:ext cx="3097080" cy="2268360"/>
          </a:xfrm>
          <a:custGeom>
            <a:avLst/>
            <a:gdLst/>
            <a:ahLst/>
            <a:rect l="l" t="t" r="r" b="b"/>
            <a:pathLst>
              <a:path w="1951" h="1429">
                <a:moveTo>
                  <a:pt x="1951" y="0"/>
                </a:moveTo>
                <a:cubicBezTo>
                  <a:pt x="1866" y="13"/>
                  <a:pt x="1557" y="10"/>
                  <a:pt x="1443" y="77"/>
                </a:cubicBezTo>
                <a:cubicBezTo>
                  <a:pt x="1329" y="144"/>
                  <a:pt x="1359" y="342"/>
                  <a:pt x="1269" y="401"/>
                </a:cubicBezTo>
                <a:cubicBezTo>
                  <a:pt x="1179" y="460"/>
                  <a:pt x="1047" y="420"/>
                  <a:pt x="903" y="431"/>
                </a:cubicBezTo>
                <a:cubicBezTo>
                  <a:pt x="759" y="442"/>
                  <a:pt x="531" y="424"/>
                  <a:pt x="405" y="467"/>
                </a:cubicBezTo>
                <a:cubicBezTo>
                  <a:pt x="279" y="510"/>
                  <a:pt x="207" y="609"/>
                  <a:pt x="147" y="689"/>
                </a:cubicBezTo>
                <a:cubicBezTo>
                  <a:pt x="87" y="769"/>
                  <a:pt x="69" y="824"/>
                  <a:pt x="45" y="947"/>
                </a:cubicBezTo>
                <a:cubicBezTo>
                  <a:pt x="21" y="1070"/>
                  <a:pt x="9" y="1329"/>
                  <a:pt x="0" y="1429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6235560" y="2770200"/>
            <a:ext cx="995400" cy="368280"/>
            <a:chOff x="6235560" y="2770200"/>
            <a:chExt cx="995400" cy="368280"/>
          </a:xfrm>
        </p:grpSpPr>
        <p:sp>
          <p:nvSpPr>
            <p:cNvPr id="1316" name=""/>
            <p:cNvSpPr/>
            <p:nvPr/>
          </p:nvSpPr>
          <p:spPr>
            <a:xfrm>
              <a:off x="6235560" y="308628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98200" y="27702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200400" y="4941720"/>
            <a:ext cx="3975120" cy="379440"/>
            <a:chOff x="3200400" y="4941720"/>
            <a:chExt cx="3975120" cy="379440"/>
          </a:xfrm>
        </p:grpSpPr>
        <p:sp>
          <p:nvSpPr>
            <p:cNvPr id="1319" name=""/>
            <p:cNvSpPr/>
            <p:nvPr/>
          </p:nvSpPr>
          <p:spPr>
            <a:xfrm>
              <a:off x="3200400" y="5321160"/>
              <a:ext cx="39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51760" y="49417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6930000" y="3086280"/>
            <a:ext cx="356040" cy="2234880"/>
            <a:chOff x="6930000" y="3086280"/>
            <a:chExt cx="356040" cy="2234880"/>
          </a:xfrm>
        </p:grpSpPr>
        <p:sp>
          <p:nvSpPr>
            <p:cNvPr id="1322" name=""/>
            <p:cNvSpPr/>
            <p:nvPr/>
          </p:nvSpPr>
          <p:spPr>
            <a:xfrm>
              <a:off x="6972480" y="3086280"/>
              <a:ext cx="0" cy="22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30000" y="3921120"/>
              <a:ext cx="3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895320" y="392112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 rot="3316800">
            <a:off x="4228560" y="4075920"/>
            <a:ext cx="1522800" cy="736200"/>
          </a:xfrm>
          <a:prstGeom prst="rightArrow">
            <a:avLst>
              <a:gd name="adj1" fmla="val 50000"/>
              <a:gd name="adj2" fmla="val 517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>
            <a:hlinkClick r:id="rId2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03704E-006 C -0.03385 0.00347 -0.06753 0.00717 -0.08958 0.0236 C -0.11163 0.04004 -0.1059 0.08564 -0.13229 0.0986 C -0.15868 0.11157 -0.21771 0.09166 -0.24791 0.10138 C -0.27812 0.1111 -0.29913 0.11897 -0.31354 0.15694 C -0.32795 0.1949 -0.33125 0.26203 -0.33437 0.32916 E">
                                      <p:cBhvr>
                                        <p:cTn id="1277" dur="5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0" dur="5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34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37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grpSp>
          <p:nvGrpSpPr>
            <p:cNvPr id="1340" name=""/>
            <p:cNvGrpSpPr/>
            <p:nvPr/>
          </p:nvGrpSpPr>
          <p:grpSpPr>
            <a:xfrm>
              <a:off x="4176720" y="3686040"/>
              <a:ext cx="2786040" cy="1425600"/>
              <a:chOff x="4176720" y="3686040"/>
              <a:chExt cx="2786040" cy="1425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4181400" y="3686040"/>
                <a:ext cx="2773440" cy="540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17816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59520" y="3936960"/>
                <a:ext cx="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176720" y="3944880"/>
                <a:ext cx="2786040" cy="1166760"/>
              </a:xfrm>
              <a:custGeom>
                <a:avLst/>
                <a:gdLst/>
                <a:ahLst/>
                <a:rect l="l" t="t" r="r" b="b"/>
                <a:pathLst>
                  <a:path w="1755" h="735">
                    <a:moveTo>
                      <a:pt x="0" y="6"/>
                    </a:moveTo>
                    <a:lnTo>
                      <a:pt x="9" y="36"/>
                    </a:lnTo>
                    <a:lnTo>
                      <a:pt x="57" y="66"/>
                    </a:lnTo>
                    <a:lnTo>
                      <a:pt x="147" y="102"/>
                    </a:lnTo>
                    <a:lnTo>
                      <a:pt x="249" y="123"/>
                    </a:lnTo>
                    <a:lnTo>
                      <a:pt x="402" y="147"/>
                    </a:lnTo>
                    <a:lnTo>
                      <a:pt x="531" y="159"/>
                    </a:lnTo>
                    <a:lnTo>
                      <a:pt x="684" y="171"/>
                    </a:lnTo>
                    <a:lnTo>
                      <a:pt x="837" y="173"/>
                    </a:lnTo>
                    <a:lnTo>
                      <a:pt x="933" y="173"/>
                    </a:lnTo>
                    <a:lnTo>
                      <a:pt x="1041" y="171"/>
                    </a:lnTo>
                    <a:lnTo>
                      <a:pt x="1185" y="162"/>
                    </a:lnTo>
                    <a:lnTo>
                      <a:pt x="1317" y="153"/>
                    </a:lnTo>
                    <a:lnTo>
                      <a:pt x="1407" y="141"/>
                    </a:lnTo>
                    <a:lnTo>
                      <a:pt x="1512" y="123"/>
                    </a:lnTo>
                    <a:lnTo>
                      <a:pt x="1587" y="102"/>
                    </a:lnTo>
                    <a:lnTo>
                      <a:pt x="1662" y="81"/>
                    </a:lnTo>
                    <a:lnTo>
                      <a:pt x="1701" y="63"/>
                    </a:lnTo>
                    <a:lnTo>
                      <a:pt x="1737" y="33"/>
                    </a:lnTo>
                    <a:lnTo>
                      <a:pt x="1755" y="0"/>
                    </a:lnTo>
                    <a:lnTo>
                      <a:pt x="1755" y="561"/>
                    </a:lnTo>
                    <a:lnTo>
                      <a:pt x="1754" y="587"/>
                    </a:lnTo>
                    <a:lnTo>
                      <a:pt x="1722" y="612"/>
                    </a:lnTo>
                    <a:lnTo>
                      <a:pt x="1629" y="651"/>
                    </a:lnTo>
                    <a:lnTo>
                      <a:pt x="1527" y="678"/>
                    </a:lnTo>
                    <a:lnTo>
                      <a:pt x="1380" y="705"/>
                    </a:lnTo>
                    <a:lnTo>
                      <a:pt x="1227" y="720"/>
                    </a:lnTo>
                    <a:lnTo>
                      <a:pt x="1089" y="729"/>
                    </a:lnTo>
                    <a:lnTo>
                      <a:pt x="957" y="735"/>
                    </a:lnTo>
                    <a:lnTo>
                      <a:pt x="813" y="734"/>
                    </a:lnTo>
                    <a:lnTo>
                      <a:pt x="636" y="726"/>
                    </a:lnTo>
                    <a:lnTo>
                      <a:pt x="516" y="720"/>
                    </a:lnTo>
                    <a:lnTo>
                      <a:pt x="395" y="707"/>
                    </a:lnTo>
                    <a:lnTo>
                      <a:pt x="264" y="690"/>
                    </a:lnTo>
                    <a:lnTo>
                      <a:pt x="123" y="654"/>
                    </a:lnTo>
                    <a:lnTo>
                      <a:pt x="41" y="620"/>
                    </a:lnTo>
                    <a:lnTo>
                      <a:pt x="20" y="604"/>
                    </a:lnTo>
                    <a:lnTo>
                      <a:pt x="2" y="584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4052880" y="3149640"/>
              <a:ext cx="3327480" cy="2403360"/>
              <a:chOff x="4052880" y="3149640"/>
              <a:chExt cx="3327480" cy="2403360"/>
            </a:xfrm>
          </p:grpSpPr>
          <p:sp>
            <p:nvSpPr>
              <p:cNvPr id="1346" name=""/>
              <p:cNvSpPr/>
              <p:nvPr/>
            </p:nvSpPr>
            <p:spPr>
              <a:xfrm>
                <a:off x="4052880" y="3936960"/>
                <a:ext cx="33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589720" y="3149640"/>
                <a:ext cx="0" cy="240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8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49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678200" y="3941640"/>
            <a:ext cx="905040" cy="314640"/>
            <a:chOff x="4678200" y="3941640"/>
            <a:chExt cx="905040" cy="314640"/>
          </a:xfrm>
        </p:grpSpPr>
        <p:sp>
          <p:nvSpPr>
            <p:cNvPr id="1353" name=""/>
            <p:cNvSpPr/>
            <p:nvPr/>
          </p:nvSpPr>
          <p:spPr>
            <a:xfrm flipH="1">
              <a:off x="4933800" y="394164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4678200" y="3979800"/>
              <a:ext cx="312480" cy="276480"/>
              <a:chOff x="4678200" y="3979800"/>
              <a:chExt cx="312480" cy="27648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4881600" y="4147920"/>
                <a:ext cx="109080" cy="101160"/>
                <a:chOff x="4881600" y="4147920"/>
                <a:chExt cx="109080" cy="10116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88916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4881600" y="414792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8" name=""/>
              <p:cNvSpPr/>
              <p:nvPr/>
            </p:nvSpPr>
            <p:spPr>
              <a:xfrm>
                <a:off x="4678200" y="39798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929120" y="4189320"/>
            <a:ext cx="541440" cy="453240"/>
            <a:chOff x="4929120" y="4189320"/>
            <a:chExt cx="541440" cy="453240"/>
          </a:xfrm>
        </p:grpSpPr>
        <p:sp>
          <p:nvSpPr>
            <p:cNvPr id="1361" name=""/>
            <p:cNvSpPr/>
            <p:nvPr/>
          </p:nvSpPr>
          <p:spPr>
            <a:xfrm>
              <a:off x="4929120" y="418932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8680" y="43052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79960" y="435276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365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369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4938840" y="419112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3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3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917640" y="94284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ail d’une force en rotation autour d’un axe fi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20640" y="1896480"/>
            <a:ext cx="31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 rapport à un point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495600" y="175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i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 son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angle de rotation (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7568640" y="2108520"/>
            <a:ext cx="1333800" cy="1311840"/>
            <a:chOff x="7568640" y="2108520"/>
            <a:chExt cx="1333800" cy="1311840"/>
          </a:xfrm>
        </p:grpSpPr>
        <p:sp>
          <p:nvSpPr>
            <p:cNvPr id="1379" name=""/>
            <p:cNvSpPr/>
            <p:nvPr/>
          </p:nvSpPr>
          <p:spPr>
            <a:xfrm rot="2626200">
              <a:off x="7587720" y="2476440"/>
              <a:ext cx="1295280" cy="576000"/>
            </a:xfrm>
            <a:prstGeom prst="leftArrow">
              <a:avLst>
                <a:gd name="adj1" fmla="val 50000"/>
                <a:gd name="adj2" fmla="val 562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626200">
              <a:off x="7893000" y="2620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ê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620640" y="1464480"/>
            <a:ext cx="8307360" cy="368280"/>
            <a:chOff x="620640" y="1464480"/>
            <a:chExt cx="8307360" cy="368280"/>
          </a:xfrm>
        </p:grpSpPr>
        <p:sp>
          <p:nvSpPr>
            <p:cNvPr id="1382" name=""/>
            <p:cNvSpPr/>
            <p:nvPr/>
          </p:nvSpPr>
          <p:spPr>
            <a:xfrm>
              <a:off x="620640" y="1464480"/>
              <a:ext cx="83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vail d’un coup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 est égal au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i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moment d’une for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280360" y="148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4181400" y="3686040"/>
            <a:ext cx="2773440" cy="540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2929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17816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959520" y="393696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176720" y="3944880"/>
            <a:ext cx="2786040" cy="1166760"/>
          </a:xfrm>
          <a:custGeom>
            <a:avLst/>
            <a:gdLst/>
            <a:ahLst/>
            <a:rect l="l" t="t" r="r" b="b"/>
            <a:pathLst>
              <a:path w="1755" h="735">
                <a:moveTo>
                  <a:pt x="0" y="6"/>
                </a:moveTo>
                <a:lnTo>
                  <a:pt x="9" y="36"/>
                </a:lnTo>
                <a:lnTo>
                  <a:pt x="57" y="66"/>
                </a:lnTo>
                <a:lnTo>
                  <a:pt x="147" y="102"/>
                </a:lnTo>
                <a:lnTo>
                  <a:pt x="249" y="123"/>
                </a:lnTo>
                <a:lnTo>
                  <a:pt x="402" y="147"/>
                </a:lnTo>
                <a:lnTo>
                  <a:pt x="531" y="159"/>
                </a:lnTo>
                <a:lnTo>
                  <a:pt x="684" y="171"/>
                </a:lnTo>
                <a:lnTo>
                  <a:pt x="837" y="173"/>
                </a:lnTo>
                <a:lnTo>
                  <a:pt x="933" y="173"/>
                </a:lnTo>
                <a:lnTo>
                  <a:pt x="1041" y="171"/>
                </a:lnTo>
                <a:lnTo>
                  <a:pt x="1185" y="162"/>
                </a:lnTo>
                <a:lnTo>
                  <a:pt x="1317" y="153"/>
                </a:lnTo>
                <a:lnTo>
                  <a:pt x="1407" y="141"/>
                </a:lnTo>
                <a:lnTo>
                  <a:pt x="1512" y="123"/>
                </a:lnTo>
                <a:lnTo>
                  <a:pt x="1587" y="102"/>
                </a:lnTo>
                <a:lnTo>
                  <a:pt x="1662" y="81"/>
                </a:lnTo>
                <a:lnTo>
                  <a:pt x="1701" y="63"/>
                </a:lnTo>
                <a:lnTo>
                  <a:pt x="1737" y="33"/>
                </a:lnTo>
                <a:lnTo>
                  <a:pt x="1755" y="0"/>
                </a:lnTo>
                <a:lnTo>
                  <a:pt x="1755" y="561"/>
                </a:lnTo>
                <a:lnTo>
                  <a:pt x="1754" y="587"/>
                </a:lnTo>
                <a:lnTo>
                  <a:pt x="1722" y="612"/>
                </a:lnTo>
                <a:lnTo>
                  <a:pt x="1629" y="651"/>
                </a:lnTo>
                <a:lnTo>
                  <a:pt x="1527" y="678"/>
                </a:lnTo>
                <a:lnTo>
                  <a:pt x="1380" y="705"/>
                </a:lnTo>
                <a:lnTo>
                  <a:pt x="1227" y="720"/>
                </a:lnTo>
                <a:lnTo>
                  <a:pt x="1089" y="729"/>
                </a:lnTo>
                <a:lnTo>
                  <a:pt x="957" y="735"/>
                </a:lnTo>
                <a:lnTo>
                  <a:pt x="813" y="734"/>
                </a:lnTo>
                <a:lnTo>
                  <a:pt x="636" y="726"/>
                </a:lnTo>
                <a:lnTo>
                  <a:pt x="516" y="720"/>
                </a:lnTo>
                <a:lnTo>
                  <a:pt x="395" y="707"/>
                </a:lnTo>
                <a:lnTo>
                  <a:pt x="264" y="690"/>
                </a:lnTo>
                <a:lnTo>
                  <a:pt x="123" y="654"/>
                </a:lnTo>
                <a:lnTo>
                  <a:pt x="41" y="620"/>
                </a:lnTo>
                <a:lnTo>
                  <a:pt x="20" y="604"/>
                </a:lnTo>
                <a:lnTo>
                  <a:pt x="2" y="584"/>
                </a:lnTo>
                <a:lnTo>
                  <a:pt x="0" y="6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4052880" y="3149640"/>
            <a:ext cx="3327480" cy="2403360"/>
            <a:chOff x="4052880" y="3149640"/>
            <a:chExt cx="3327480" cy="2403360"/>
          </a:xfrm>
        </p:grpSpPr>
        <p:sp>
          <p:nvSpPr>
            <p:cNvPr id="1389" name=""/>
            <p:cNvSpPr/>
            <p:nvPr/>
          </p:nvSpPr>
          <p:spPr>
            <a:xfrm>
              <a:off x="4052880" y="393696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89720" y="3149640"/>
              <a:ext cx="0" cy="2403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6840360" y="3681360"/>
            <a:ext cx="1883880" cy="827280"/>
            <a:chOff x="6840360" y="3681360"/>
            <a:chExt cx="1883880" cy="827280"/>
          </a:xfrm>
        </p:grpSpPr>
        <p:sp>
          <p:nvSpPr>
            <p:cNvPr id="1392" name=""/>
            <p:cNvSpPr/>
            <p:nvPr/>
          </p:nvSpPr>
          <p:spPr>
            <a:xfrm>
              <a:off x="7569720" y="36813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29480" y="40021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840360" y="4000680"/>
              <a:ext cx="7891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 flipH="1">
            <a:off x="4933800" y="3941640"/>
            <a:ext cx="64944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4881600" y="4148280"/>
            <a:ext cx="109080" cy="101160"/>
            <a:chOff x="4881600" y="4148280"/>
            <a:chExt cx="109080" cy="101160"/>
          </a:xfrm>
        </p:grpSpPr>
        <p:sp>
          <p:nvSpPr>
            <p:cNvPr id="1397" name=""/>
            <p:cNvSpPr/>
            <p:nvPr/>
          </p:nvSpPr>
          <p:spPr>
            <a:xfrm>
              <a:off x="488916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4881600" y="4148280"/>
              <a:ext cx="1015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678200" y="39798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272200" y="372600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5246640" y="4033800"/>
            <a:ext cx="752400" cy="246240"/>
            <a:chOff x="5246640" y="4033800"/>
            <a:chExt cx="752400" cy="246240"/>
          </a:xfrm>
        </p:grpSpPr>
        <p:sp>
          <p:nvSpPr>
            <p:cNvPr id="1402" name=""/>
            <p:cNvSpPr/>
            <p:nvPr/>
          </p:nvSpPr>
          <p:spPr>
            <a:xfrm>
              <a:off x="5246640" y="405432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36080" y="403380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5587920" y="3940200"/>
            <a:ext cx="82728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277440" y="2805120"/>
            <a:ext cx="2296440" cy="663480"/>
            <a:chOff x="3277440" y="2805120"/>
            <a:chExt cx="2296440" cy="663480"/>
          </a:xfrm>
        </p:grpSpPr>
        <p:sp>
          <p:nvSpPr>
            <p:cNvPr id="1406" name=""/>
            <p:cNvSpPr/>
            <p:nvPr/>
          </p:nvSpPr>
          <p:spPr>
            <a:xfrm>
              <a:off x="3773520" y="31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021280" y="3149640"/>
              <a:ext cx="5526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7440" y="28051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6158880" y="3951360"/>
            <a:ext cx="317880" cy="276480"/>
            <a:chOff x="6158880" y="3951360"/>
            <a:chExt cx="317880" cy="276480"/>
          </a:xfrm>
        </p:grpSpPr>
        <p:grpSp>
          <p:nvGrpSpPr>
            <p:cNvPr id="1410" name=""/>
            <p:cNvGrpSpPr/>
            <p:nvPr/>
          </p:nvGrpSpPr>
          <p:grpSpPr>
            <a:xfrm>
              <a:off x="6367680" y="4119480"/>
              <a:ext cx="109080" cy="101160"/>
              <a:chOff x="6367680" y="4119480"/>
              <a:chExt cx="109080" cy="101160"/>
            </a:xfrm>
          </p:grpSpPr>
          <p:sp>
            <p:nvSpPr>
              <p:cNvPr id="1411" name=""/>
              <p:cNvSpPr/>
              <p:nvPr/>
            </p:nvSpPr>
            <p:spPr>
              <a:xfrm>
                <a:off x="637524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6367680" y="411948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6158880" y="3951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415200" y="4162320"/>
            <a:ext cx="0" cy="8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6406920" y="4038120"/>
            <a:ext cx="545040" cy="12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6524640" y="4172040"/>
            <a:ext cx="291960" cy="337320"/>
            <a:chOff x="6524640" y="4172040"/>
            <a:chExt cx="291960" cy="337320"/>
          </a:xfrm>
        </p:grpSpPr>
        <p:sp>
          <p:nvSpPr>
            <p:cNvPr id="1417" name=""/>
            <p:cNvSpPr/>
            <p:nvPr/>
          </p:nvSpPr>
          <p:spPr>
            <a:xfrm>
              <a:off x="6524640" y="41720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95920" y="421992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689040" y="3944880"/>
            <a:ext cx="1983600" cy="510120"/>
            <a:chOff x="689040" y="3944880"/>
            <a:chExt cx="1983600" cy="510120"/>
          </a:xfrm>
        </p:grpSpPr>
        <p:sp>
          <p:nvSpPr>
            <p:cNvPr id="1420" name=""/>
            <p:cNvSpPr/>
            <p:nvPr/>
          </p:nvSpPr>
          <p:spPr>
            <a:xfrm>
              <a:off x="689040" y="3944880"/>
              <a:ext cx="19836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= (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M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Arial Unicode MS"/>
                </a:rPr>
                <a:t>o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)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60560" y="39751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732240" y="43657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 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52480" y="353232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1015200" y="2852640"/>
            <a:ext cx="1727280" cy="459720"/>
            <a:chOff x="1015200" y="2852640"/>
            <a:chExt cx="1727280" cy="459720"/>
          </a:xfrm>
        </p:grpSpPr>
        <p:sp>
          <p:nvSpPr>
            <p:cNvPr id="1425" name=""/>
            <p:cNvSpPr/>
            <p:nvPr/>
          </p:nvSpPr>
          <p:spPr>
            <a:xfrm>
              <a:off x="1015200" y="2852640"/>
              <a:ext cx="1727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 Unicode MS"/>
                </a:rPr>
                <a:t>II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Unicode MS"/>
                </a:rPr>
                <a:t> .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r>
                <a:rPr b="1" lang="fr-FR" sz="2400" spc="-1" strike="noStrike">
                  <a:solidFill>
                    <a:srgbClr val="ff33cc"/>
                  </a:solidFill>
                  <a:latin typeface="Comic Sans MS"/>
                </a:rPr>
                <a:t>B 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66560" y="289080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1374840" y="31910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)    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rot="10800000">
            <a:off x="1752480" y="48016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586160" y="5192640"/>
            <a:ext cx="45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81560" y="5192640"/>
            <a:ext cx="807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106360" y="5192640"/>
            <a:ext cx="34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426040" y="5181480"/>
            <a:ext cx="33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6413400" y="4016520"/>
            <a:ext cx="2125080" cy="967320"/>
            <a:chOff x="6413400" y="4016520"/>
            <a:chExt cx="2125080" cy="967320"/>
          </a:xfrm>
        </p:grpSpPr>
        <p:sp>
          <p:nvSpPr>
            <p:cNvPr id="1434" name=""/>
            <p:cNvSpPr/>
            <p:nvPr/>
          </p:nvSpPr>
          <p:spPr>
            <a:xfrm>
              <a:off x="6413400" y="416880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02280" y="4016520"/>
              <a:ext cx="1513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7818480" y="4519080"/>
              <a:ext cx="52056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7911360" y="4516200"/>
              <a:ext cx="627120" cy="467640"/>
              <a:chOff x="7911360" y="4516200"/>
              <a:chExt cx="627120" cy="467640"/>
            </a:xfrm>
          </p:grpSpPr>
          <p:sp>
            <p:nvSpPr>
              <p:cNvPr id="1438" name=""/>
              <p:cNvSpPr/>
              <p:nvPr/>
            </p:nvSpPr>
            <p:spPr>
              <a:xfrm rot="20724000">
                <a:off x="7944480" y="4581000"/>
                <a:ext cx="56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Arial Unicode MS"/>
                  </a:rPr>
                  <a:t>I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8092440" y="4579200"/>
                <a:ext cx="175320" cy="45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"/>
          <p:cNvSpPr/>
          <p:nvPr/>
        </p:nvSpPr>
        <p:spPr>
          <a:xfrm>
            <a:off x="922320" y="56102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)       (N.m) 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7280" y="5160960"/>
            <a:ext cx="32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nextslide"/>
          </p:cNvPr>
          <p:cNvSpPr/>
          <p:nvPr/>
        </p:nvSpPr>
        <p:spPr>
          <a:xfrm>
            <a:off x="2987640" y="560376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021" h="21600">
                <a:moveTo>
                  <a:pt x="12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021" h="21600">
                <a:moveTo>
                  <a:pt x="9434" y="8224"/>
                </a:moveTo>
                <a:lnTo>
                  <a:pt x="13299" y="8224"/>
                </a:lnTo>
                <a:lnTo>
                  <a:pt x="13299" y="15221"/>
                </a:lnTo>
                <a:lnTo>
                  <a:pt x="14587" y="15221"/>
                </a:lnTo>
                <a:lnTo>
                  <a:pt x="14587" y="16144"/>
                </a:lnTo>
                <a:lnTo>
                  <a:pt x="9434" y="16144"/>
                </a:lnTo>
                <a:lnTo>
                  <a:pt x="9434" y="15221"/>
                </a:lnTo>
                <a:lnTo>
                  <a:pt x="10723" y="15221"/>
                </a:lnTo>
                <a:lnTo>
                  <a:pt x="10723" y="9129"/>
                </a:lnTo>
                <a:lnTo>
                  <a:pt x="9434" y="912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61160" y="2126520"/>
            <a:ext cx="80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angle 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1 ra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est un angle, qui, ayant son sommet au centre d'un cerc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49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895280" y="4689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97520" y="2418480"/>
            <a:ext cx="77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tercepte, sur la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circonféren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de ce cercle,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rc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'une longueur ég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63960" y="2698200"/>
            <a:ext cx="29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à celle du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yon du cercl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423760" y="39481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824360" y="4257720"/>
            <a:ext cx="238320" cy="42552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32360" y="4292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3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3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3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3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95840" y="1322280"/>
            <a:ext cx="876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an (symbole : rad) est l'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unit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'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ng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lan d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3086280" y="3581280"/>
            <a:ext cx="2914560" cy="2400480"/>
            <a:chOff x="3086280" y="3581280"/>
            <a:chExt cx="2914560" cy="2400480"/>
          </a:xfrm>
        </p:grpSpPr>
        <p:sp>
          <p:nvSpPr>
            <p:cNvPr id="1464" name=""/>
            <p:cNvSpPr/>
            <p:nvPr/>
          </p:nvSpPr>
          <p:spPr>
            <a:xfrm>
              <a:off x="3086280" y="4686480"/>
              <a:ext cx="29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52920" y="35812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552840" y="3686040"/>
              <a:ext cx="2000160" cy="200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572000" y="4689360"/>
            <a:ext cx="9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980960" y="43815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4562640" y="3481200"/>
            <a:ext cx="78552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108400" y="3857760"/>
            <a:ext cx="444600" cy="83484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46680" y="1907280"/>
            <a:ext cx="55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Un cercle complet représente un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angle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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rad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859280" y="4149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796000" y="19155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,28 rad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rot="18201600">
            <a:off x="4408200" y="33886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4016160" y="3448080"/>
            <a:ext cx="539640" cy="12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rot="14764800">
            <a:off x="3636720" y="372528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222720" y="4469760"/>
            <a:ext cx="1333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rot="11349000">
            <a:off x="3507840" y="454140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3640680" y="4694400"/>
            <a:ext cx="925920" cy="98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rot="7959000">
            <a:off x="4116240" y="5114520"/>
            <a:ext cx="44424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562640" y="4710240"/>
            <a:ext cx="32508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rot="4533000">
            <a:off x="4927320" y="4912920"/>
            <a:ext cx="444600" cy="835200"/>
          </a:xfrm>
          <a:custGeom>
            <a:avLst/>
            <a:gdLst/>
            <a:ahLst/>
            <a:rect l="l" t="t" r="r" b="b"/>
            <a:pathLst>
              <a:path w="280" h="526">
                <a:moveTo>
                  <a:pt x="278" y="526"/>
                </a:moveTo>
                <a:cubicBezTo>
                  <a:pt x="278" y="514"/>
                  <a:pt x="280" y="482"/>
                  <a:pt x="276" y="450"/>
                </a:cubicBezTo>
                <a:cubicBezTo>
                  <a:pt x="272" y="418"/>
                  <a:pt x="260" y="366"/>
                  <a:pt x="252" y="336"/>
                </a:cubicBezTo>
                <a:cubicBezTo>
                  <a:pt x="244" y="306"/>
                  <a:pt x="237" y="290"/>
                  <a:pt x="228" y="268"/>
                </a:cubicBezTo>
                <a:cubicBezTo>
                  <a:pt x="219" y="246"/>
                  <a:pt x="212" y="229"/>
                  <a:pt x="196" y="204"/>
                </a:cubicBezTo>
                <a:cubicBezTo>
                  <a:pt x="180" y="179"/>
                  <a:pt x="156" y="144"/>
                  <a:pt x="134" y="118"/>
                </a:cubicBezTo>
                <a:cubicBezTo>
                  <a:pt x="112" y="92"/>
                  <a:pt x="88" y="70"/>
                  <a:pt x="66" y="50"/>
                </a:cubicBezTo>
                <a:cubicBezTo>
                  <a:pt x="44" y="30"/>
                  <a:pt x="22" y="15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555080" y="4696560"/>
            <a:ext cx="1280520" cy="42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497560" y="4695840"/>
            <a:ext cx="54000" cy="318960"/>
          </a:xfrm>
          <a:custGeom>
            <a:avLst/>
            <a:gdLst/>
            <a:ahLst/>
            <a:rect l="l" t="t" r="r" b="b"/>
            <a:pathLst>
              <a:path w="34" h="201">
                <a:moveTo>
                  <a:pt x="0" y="201"/>
                </a:moveTo>
                <a:cubicBezTo>
                  <a:pt x="4" y="190"/>
                  <a:pt x="18" y="154"/>
                  <a:pt x="23" y="134"/>
                </a:cubicBezTo>
                <a:cubicBezTo>
                  <a:pt x="28" y="114"/>
                  <a:pt x="30" y="94"/>
                  <a:pt x="32" y="78"/>
                </a:cubicBezTo>
                <a:cubicBezTo>
                  <a:pt x="34" y="62"/>
                  <a:pt x="34" y="51"/>
                  <a:pt x="34" y="38"/>
                </a:cubicBezTo>
                <a:cubicBezTo>
                  <a:pt x="34" y="25"/>
                  <a:pt x="34" y="8"/>
                  <a:pt x="3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373640" y="3924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732120" y="415620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760920" y="47829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156200" y="51530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751280" y="49766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922280" y="46530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0,28 r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rId5" action="ppaction://hlinksldjump"/>
          </p:cNvPr>
          <p:cNvSpPr/>
          <p:nvPr/>
        </p:nvSpPr>
        <p:spPr>
          <a:xfrm>
            <a:off x="8424720" y="6093000"/>
            <a:ext cx="505080" cy="549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477">
                <a:moveTo>
                  <a:pt x="0" y="0"/>
                </a:moveTo>
                <a:lnTo>
                  <a:pt x="21600" y="0"/>
                </a:lnTo>
                <a:lnTo>
                  <a:pt x="21600" y="23477"/>
                </a:lnTo>
                <a:lnTo>
                  <a:pt x="0" y="23477"/>
                </a:lnTo>
                <a:close/>
              </a:path>
              <a:path fill="lightenLess" w="21600" h="234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77">
                <a:moveTo>
                  <a:pt x="21600" y="0"/>
                </a:moveTo>
                <a:lnTo>
                  <a:pt x="21600" y="23477"/>
                </a:lnTo>
                <a:lnTo>
                  <a:pt x="20200" y="22077"/>
                </a:lnTo>
                <a:lnTo>
                  <a:pt x="20200" y="1400"/>
                </a:lnTo>
                <a:close/>
              </a:path>
              <a:path fill="darkenLess" w="21600" h="23477">
                <a:moveTo>
                  <a:pt x="21600" y="23477"/>
                </a:moveTo>
                <a:lnTo>
                  <a:pt x="0" y="23477"/>
                </a:lnTo>
                <a:lnTo>
                  <a:pt x="1400" y="22077"/>
                </a:lnTo>
                <a:lnTo>
                  <a:pt x="20200" y="22077"/>
                </a:lnTo>
                <a:close/>
              </a:path>
              <a:path fill="lighten" w="21600" h="23477">
                <a:moveTo>
                  <a:pt x="0" y="234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77"/>
                </a:lnTo>
                <a:close/>
              </a:path>
              <a:path fill="darken" w="21600" h="23477">
                <a:moveTo>
                  <a:pt x="3794" y="8431"/>
                </a:moveTo>
                <a:lnTo>
                  <a:pt x="7301" y="8431"/>
                </a:lnTo>
                <a:lnTo>
                  <a:pt x="7301" y="13766"/>
                </a:lnTo>
                <a:cubicBezTo>
                  <a:pt x="7301" y="14689"/>
                  <a:pt x="8102" y="15420"/>
                  <a:pt x="9138" y="15420"/>
                </a:cubicBezTo>
                <a:lnTo>
                  <a:pt x="10800" y="15420"/>
                </a:lnTo>
                <a:cubicBezTo>
                  <a:pt x="11836" y="15420"/>
                  <a:pt x="12636" y="14689"/>
                  <a:pt x="12636" y="13766"/>
                </a:cubicBezTo>
                <a:lnTo>
                  <a:pt x="12636" y="8431"/>
                </a:lnTo>
                <a:lnTo>
                  <a:pt x="10800" y="8431"/>
                </a:lnTo>
                <a:lnTo>
                  <a:pt x="14308" y="4923"/>
                </a:lnTo>
                <a:lnTo>
                  <a:pt x="17981" y="8431"/>
                </a:lnTo>
                <a:lnTo>
                  <a:pt x="16144" y="8431"/>
                </a:lnTo>
                <a:lnTo>
                  <a:pt x="16144" y="13766"/>
                </a:lnTo>
                <a:cubicBezTo>
                  <a:pt x="16144" y="16534"/>
                  <a:pt x="13568" y="19093"/>
                  <a:pt x="10800" y="19093"/>
                </a:cubicBezTo>
                <a:lnTo>
                  <a:pt x="9138" y="19093"/>
                </a:lnTo>
                <a:cubicBezTo>
                  <a:pt x="6370" y="19093"/>
                  <a:pt x="3794" y="16534"/>
                  <a:pt x="3794" y="13766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3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3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3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3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3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3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3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3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3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882000" y="942840"/>
            <a:ext cx="30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5840" y="295740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784680" y="2670120"/>
            <a:ext cx="60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01960" y="32446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879720" y="3246480"/>
            <a:ext cx="41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6633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620640" y="1449360"/>
            <a:ext cx="7551720" cy="383400"/>
            <a:chOff x="620640" y="1449360"/>
            <a:chExt cx="7551720" cy="383400"/>
          </a:xfrm>
        </p:grpSpPr>
        <p:sp>
          <p:nvSpPr>
            <p:cNvPr id="1502" name=""/>
            <p:cNvSpPr/>
            <p:nvPr/>
          </p:nvSpPr>
          <p:spPr>
            <a:xfrm>
              <a:off x="620640" y="1464480"/>
              <a:ext cx="755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a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( </a:t>
              </a: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 d’une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orce (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 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est le résultat du 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travail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( 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 </a:t>
              </a:r>
              <a:r>
                <a:rPr b="0" lang="fr-FR" sz="1800" spc="-1" strike="noStrike">
                  <a:solidFill>
                    <a:srgbClr val="0000ff"/>
                  </a:solidFill>
                  <a:latin typeface="Comic Sans MS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103640" y="14493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620640" y="188676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’ effectue cette même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c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ndant un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Comic Sans MS"/>
              </a:rPr>
              <a:t>temp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en-US" sz="1800" spc="-1" strike="noStrike">
                <a:solidFill>
                  <a:srgbClr val="996633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442040" y="2698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383000" y="32940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048480" y="335124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1655640" y="3321000"/>
            <a:ext cx="1332000" cy="611280"/>
            <a:chOff x="1655640" y="3321000"/>
            <a:chExt cx="1332000" cy="611280"/>
          </a:xfrm>
        </p:grpSpPr>
        <p:sp>
          <p:nvSpPr>
            <p:cNvPr id="1509" name=""/>
            <p:cNvSpPr/>
            <p:nvPr/>
          </p:nvSpPr>
          <p:spPr>
            <a:xfrm>
              <a:off x="1655640" y="3321000"/>
              <a:ext cx="1332000" cy="611280"/>
            </a:xfrm>
            <a:prstGeom prst="rightArrow">
              <a:avLst>
                <a:gd name="adj1" fmla="val 50000"/>
                <a:gd name="adj2" fmla="val 544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96840" y="345276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atts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28960" y="4346640"/>
            <a:ext cx="869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*L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watt (symbole W) est 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unité du système interna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our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puissa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1040" y="5449680"/>
            <a:ext cx="791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e terme provient du nom de l'ingénieur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James Wat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qui a contribué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42000" y="476028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watt est la puissance d'un système énergétique dans lequel est transfér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7040" y="5108400"/>
            <a:ext cx="4725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énergi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de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jou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pendant 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secon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1200" y="5780160"/>
            <a:ext cx="433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éveloppement de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machine à vapeu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3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3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3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21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3330360" y="2084400"/>
            <a:ext cx="2467080" cy="581400"/>
            <a:chOff x="3330360" y="2084400"/>
            <a:chExt cx="2467080" cy="581400"/>
          </a:xfrm>
        </p:grpSpPr>
        <p:sp>
          <p:nvSpPr>
            <p:cNvPr id="1530" name=""/>
            <p:cNvSpPr/>
            <p:nvPr/>
          </p:nvSpPr>
          <p:spPr>
            <a:xfrm>
              <a:off x="3330360" y="2084400"/>
              <a:ext cx="24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35280" y="21193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090960" y="2641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848120" y="2712960"/>
            <a:ext cx="1012680" cy="520560"/>
            <a:chOff x="4848120" y="2712960"/>
            <a:chExt cx="1012680" cy="520560"/>
          </a:xfrm>
        </p:grpSpPr>
        <p:sp>
          <p:nvSpPr>
            <p:cNvPr id="1535" name=""/>
            <p:cNvSpPr/>
            <p:nvPr/>
          </p:nvSpPr>
          <p:spPr>
            <a:xfrm>
              <a:off x="4848120" y="27129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51040" y="276048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896000" y="190188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825520" y="2018520"/>
            <a:ext cx="1266840" cy="736200"/>
          </a:xfrm>
          <a:prstGeom prst="leftArrow">
            <a:avLst>
              <a:gd name="adj1" fmla="val 50000"/>
              <a:gd name="adj2" fmla="val 43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867280" y="2656800"/>
            <a:ext cx="1225800" cy="736200"/>
          </a:xfrm>
          <a:prstGeom prst="leftArrow">
            <a:avLst>
              <a:gd name="adj1" fmla="val 50000"/>
              <a:gd name="adj2" fmla="val 416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41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42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45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48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552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556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559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565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3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3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828720" y="9428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en translation rectil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649800" y="2063880"/>
            <a:ext cx="1843920" cy="1140480"/>
            <a:chOff x="649800" y="2063880"/>
            <a:chExt cx="1843920" cy="1140480"/>
          </a:xfrm>
        </p:grpSpPr>
        <p:sp>
          <p:nvSpPr>
            <p:cNvPr id="1573" name=""/>
            <p:cNvSpPr/>
            <p:nvPr/>
          </p:nvSpPr>
          <p:spPr>
            <a:xfrm>
              <a:off x="767160" y="235116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86000" y="206388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403280" y="263844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81040" y="263988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43000" y="20923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83960" y="26877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9800" y="274464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84480" y="1412280"/>
            <a:ext cx="83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ligne d’action de la fo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trajectoire du déplac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nt  parallè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687400" y="240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3251880" y="2301840"/>
            <a:ext cx="3426120" cy="581400"/>
            <a:chOff x="3251880" y="2301840"/>
            <a:chExt cx="3426120" cy="581400"/>
          </a:xfrm>
        </p:grpSpPr>
        <p:grpSp>
          <p:nvGrpSpPr>
            <p:cNvPr id="1583" name=""/>
            <p:cNvGrpSpPr/>
            <p:nvPr/>
          </p:nvGrpSpPr>
          <p:grpSpPr>
            <a:xfrm>
              <a:off x="3251880" y="2301840"/>
              <a:ext cx="3426120" cy="581400"/>
              <a:chOff x="3251880" y="2301840"/>
              <a:chExt cx="3426120" cy="581400"/>
            </a:xfrm>
          </p:grpSpPr>
          <p:sp>
            <p:nvSpPr>
              <p:cNvPr id="1584" name=""/>
              <p:cNvSpPr/>
              <p:nvPr/>
            </p:nvSpPr>
            <p:spPr>
              <a:xfrm>
                <a:off x="3251880" y="2301840"/>
                <a:ext cx="3426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N)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en-US" sz="3200" spc="-1" strike="noStrike">
                    <a:solidFill>
                      <a:srgbClr val="339933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m.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635280" y="233676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5240160" y="232236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4867920" y="2845080"/>
            <a:ext cx="1054440" cy="963360"/>
          </a:xfrm>
          <a:prstGeom prst="upArrowCallout">
            <a:avLst>
              <a:gd name="adj1" fmla="val 27366"/>
              <a:gd name="adj2" fmla="val 27364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né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898560" y="4724280"/>
            <a:ext cx="8094600" cy="1908360"/>
            <a:chOff x="898560" y="4724280"/>
            <a:chExt cx="8094600" cy="1908360"/>
          </a:xfrm>
        </p:grpSpPr>
        <p:grpSp>
          <p:nvGrpSpPr>
            <p:cNvPr id="1589" name=""/>
            <p:cNvGrpSpPr/>
            <p:nvPr/>
          </p:nvGrpSpPr>
          <p:grpSpPr>
            <a:xfrm>
              <a:off x="1698120" y="4724280"/>
              <a:ext cx="311760" cy="1654200"/>
              <a:chOff x="1698120" y="4724280"/>
              <a:chExt cx="311760" cy="1654200"/>
            </a:xfrm>
          </p:grpSpPr>
          <p:sp>
            <p:nvSpPr>
              <p:cNvPr id="1590" name=""/>
              <p:cNvSpPr/>
              <p:nvPr/>
            </p:nvSpPr>
            <p:spPr>
              <a:xfrm flipV="1">
                <a:off x="185076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698120" y="47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7840" y="4724280"/>
              <a:ext cx="315000" cy="1654200"/>
              <a:chOff x="7017840" y="4724280"/>
              <a:chExt cx="315000" cy="1654200"/>
            </a:xfrm>
          </p:grpSpPr>
          <p:sp>
            <p:nvSpPr>
              <p:cNvPr id="1593" name=""/>
              <p:cNvSpPr/>
              <p:nvPr/>
            </p:nvSpPr>
            <p:spPr>
              <a:xfrm flipV="1">
                <a:off x="7159680" y="5070240"/>
                <a:ext cx="0" cy="13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7840" y="4724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1841400" y="4784760"/>
              <a:ext cx="5321520" cy="425160"/>
              <a:chOff x="1841400" y="4784760"/>
              <a:chExt cx="5321520" cy="425160"/>
            </a:xfrm>
          </p:grpSpPr>
          <p:sp>
            <p:nvSpPr>
              <p:cNvPr id="1596" name=""/>
              <p:cNvSpPr/>
              <p:nvPr/>
            </p:nvSpPr>
            <p:spPr>
              <a:xfrm>
                <a:off x="1841400" y="5209920"/>
                <a:ext cx="5321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47920" y="478476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>
              <a:off x="1828800" y="5946840"/>
              <a:ext cx="683244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9" name=""/>
            <p:cNvGrpSpPr/>
            <p:nvPr/>
          </p:nvGrpSpPr>
          <p:grpSpPr>
            <a:xfrm>
              <a:off x="4200120" y="5337000"/>
              <a:ext cx="1522800" cy="609840"/>
              <a:chOff x="4200120" y="5337000"/>
              <a:chExt cx="1522800" cy="609840"/>
            </a:xfrm>
          </p:grpSpPr>
          <p:sp>
            <p:nvSpPr>
              <p:cNvPr id="1600" name=""/>
              <p:cNvSpPr/>
              <p:nvPr/>
            </p:nvSpPr>
            <p:spPr>
              <a:xfrm>
                <a:off x="4200120" y="5337000"/>
                <a:ext cx="115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33"/>
                    </a:solidFill>
                    <a:latin typeface="Comic Sans MS"/>
                  </a:rPr>
                  <a:t>Trajectoi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284720" y="55879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364000" y="5587920"/>
                <a:ext cx="35892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898560" y="6364440"/>
              <a:ext cx="8094600" cy="268200"/>
              <a:chOff x="898560" y="6364440"/>
              <a:chExt cx="8094600" cy="268200"/>
            </a:xfrm>
          </p:grpSpPr>
          <p:sp>
            <p:nvSpPr>
              <p:cNvPr id="1604" name=""/>
              <p:cNvSpPr/>
              <p:nvPr/>
            </p:nvSpPr>
            <p:spPr>
              <a:xfrm>
                <a:off x="898560" y="6380280"/>
                <a:ext cx="806580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903240" y="6364440"/>
                <a:ext cx="808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1079640" y="5516640"/>
              <a:ext cx="1487520" cy="844560"/>
              <a:chOff x="1079640" y="5516640"/>
              <a:chExt cx="1487520" cy="844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1079640" y="5591160"/>
                <a:ext cx="771480" cy="770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1854360" y="5516640"/>
                <a:ext cx="712800" cy="519120"/>
                <a:chOff x="1854360" y="5516640"/>
                <a:chExt cx="712800" cy="5191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1854360" y="5877000"/>
                  <a:ext cx="684000" cy="158760"/>
                </a:xfrm>
                <a:prstGeom prst="rightArrow">
                  <a:avLst>
                    <a:gd name="adj1" fmla="val 50000"/>
                    <a:gd name="adj2" fmla="val 10771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230920" y="55418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2278080" y="55166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1739520" y="5516640"/>
                <a:ext cx="405720" cy="545760"/>
                <a:chOff x="1739520" y="5516640"/>
                <a:chExt cx="405720" cy="545760"/>
              </a:xfrm>
            </p:grpSpPr>
            <p:grpSp>
              <p:nvGrpSpPr>
                <p:cNvPr id="1613" name=""/>
                <p:cNvGrpSpPr/>
                <p:nvPr/>
              </p:nvGrpSpPr>
              <p:grpSpPr>
                <a:xfrm>
                  <a:off x="1739520" y="5859720"/>
                  <a:ext cx="211320" cy="202680"/>
                  <a:chOff x="1739520" y="5859720"/>
                  <a:chExt cx="211320" cy="20268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1755720" y="5864400"/>
                    <a:ext cx="195120" cy="19512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1739520" y="5859720"/>
                    <a:ext cx="202680" cy="2026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6" name=""/>
                <p:cNvSpPr/>
                <p:nvPr/>
              </p:nvSpPr>
              <p:spPr>
                <a:xfrm>
                  <a:off x="1806120" y="55166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7" name=""/>
          <p:cNvGrpSpPr/>
          <p:nvPr/>
        </p:nvGrpSpPr>
        <p:grpSpPr>
          <a:xfrm>
            <a:off x="1847880" y="5958000"/>
            <a:ext cx="904680" cy="496800"/>
            <a:chOff x="1847880" y="5958000"/>
            <a:chExt cx="904680" cy="496800"/>
          </a:xfrm>
        </p:grpSpPr>
        <p:sp>
          <p:nvSpPr>
            <p:cNvPr id="1618" name=""/>
            <p:cNvSpPr/>
            <p:nvPr/>
          </p:nvSpPr>
          <p:spPr>
            <a:xfrm>
              <a:off x="1847880" y="5958000"/>
              <a:ext cx="9046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2343960" y="6086520"/>
              <a:ext cx="330120" cy="368280"/>
              <a:chOff x="2343960" y="6086520"/>
              <a:chExt cx="330120" cy="368280"/>
            </a:xfrm>
          </p:grpSpPr>
          <p:sp>
            <p:nvSpPr>
              <p:cNvPr id="1620" name=""/>
              <p:cNvSpPr/>
              <p:nvPr/>
            </p:nvSpPr>
            <p:spPr>
              <a:xfrm>
                <a:off x="2343960" y="60865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397240" y="609768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0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27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3427920" y="1739880"/>
            <a:ext cx="2978640" cy="581400"/>
            <a:chOff x="3427920" y="1739880"/>
            <a:chExt cx="2978640" cy="581400"/>
          </a:xfrm>
        </p:grpSpPr>
        <p:sp>
          <p:nvSpPr>
            <p:cNvPr id="1636" name=""/>
            <p:cNvSpPr/>
            <p:nvPr/>
          </p:nvSpPr>
          <p:spPr>
            <a:xfrm>
              <a:off x="3427920" y="173988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098960" y="1774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3090960" y="23097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5392800" y="2368440"/>
            <a:ext cx="1012680" cy="520560"/>
            <a:chOff x="5392800" y="2368440"/>
            <a:chExt cx="1012680" cy="520560"/>
          </a:xfrm>
        </p:grpSpPr>
        <p:sp>
          <p:nvSpPr>
            <p:cNvPr id="1640" name=""/>
            <p:cNvSpPr/>
            <p:nvPr/>
          </p:nvSpPr>
          <p:spPr>
            <a:xfrm>
              <a:off x="5392800" y="236844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95720" y="241596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5454720" y="1557360"/>
            <a:ext cx="108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440400" y="1674000"/>
            <a:ext cx="2345040" cy="736200"/>
          </a:xfrm>
          <a:prstGeom prst="leftArrow">
            <a:avLst>
              <a:gd name="adj1" fmla="val 50000"/>
              <a:gd name="adj2" fmla="val 796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gl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427800" y="2312280"/>
            <a:ext cx="1225440" cy="736200"/>
          </a:xfrm>
          <a:prstGeom prst="leftArrow">
            <a:avLst>
              <a:gd name="adj1" fmla="val 50000"/>
              <a:gd name="adj2" fmla="val 416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3636360" y="3776760"/>
            <a:ext cx="5446800" cy="2747880"/>
            <a:chOff x="3636360" y="3776760"/>
            <a:chExt cx="5446800" cy="2747880"/>
          </a:xfrm>
        </p:grpSpPr>
        <p:grpSp>
          <p:nvGrpSpPr>
            <p:cNvPr id="1647" name=""/>
            <p:cNvGrpSpPr/>
            <p:nvPr/>
          </p:nvGrpSpPr>
          <p:grpSpPr>
            <a:xfrm>
              <a:off x="4411800" y="4121280"/>
              <a:ext cx="3327120" cy="2403360"/>
              <a:chOff x="4411800" y="4121280"/>
              <a:chExt cx="3327120" cy="240336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4535280" y="4657680"/>
                <a:ext cx="2785680" cy="1425600"/>
                <a:chOff x="4535280" y="4657680"/>
                <a:chExt cx="2785680" cy="142560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4539600" y="4657680"/>
                  <a:ext cx="2773080" cy="5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29292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53636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7317720" y="4908600"/>
                  <a:ext cx="0" cy="9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535280" y="4916520"/>
                  <a:ext cx="2785680" cy="1166760"/>
                </a:xfrm>
                <a:custGeom>
                  <a:avLst/>
                  <a:gdLst/>
                  <a:ahLst/>
                  <a:rect l="l" t="t" r="r" b="b"/>
                  <a:pathLst>
                    <a:path w="1755" h="735">
                      <a:moveTo>
                        <a:pt x="0" y="6"/>
                      </a:moveTo>
                      <a:lnTo>
                        <a:pt x="9" y="36"/>
                      </a:lnTo>
                      <a:lnTo>
                        <a:pt x="57" y="66"/>
                      </a:lnTo>
                      <a:lnTo>
                        <a:pt x="147" y="102"/>
                      </a:lnTo>
                      <a:lnTo>
                        <a:pt x="249" y="123"/>
                      </a:lnTo>
                      <a:lnTo>
                        <a:pt x="402" y="147"/>
                      </a:lnTo>
                      <a:lnTo>
                        <a:pt x="531" y="159"/>
                      </a:lnTo>
                      <a:lnTo>
                        <a:pt x="684" y="171"/>
                      </a:lnTo>
                      <a:lnTo>
                        <a:pt x="837" y="173"/>
                      </a:lnTo>
                      <a:lnTo>
                        <a:pt x="933" y="173"/>
                      </a:lnTo>
                      <a:lnTo>
                        <a:pt x="1041" y="171"/>
                      </a:lnTo>
                      <a:lnTo>
                        <a:pt x="1185" y="162"/>
                      </a:lnTo>
                      <a:lnTo>
                        <a:pt x="1317" y="153"/>
                      </a:lnTo>
                      <a:lnTo>
                        <a:pt x="1407" y="141"/>
                      </a:lnTo>
                      <a:lnTo>
                        <a:pt x="1512" y="123"/>
                      </a:lnTo>
                      <a:lnTo>
                        <a:pt x="1587" y="102"/>
                      </a:lnTo>
                      <a:lnTo>
                        <a:pt x="1662" y="81"/>
                      </a:lnTo>
                      <a:lnTo>
                        <a:pt x="1701" y="63"/>
                      </a:lnTo>
                      <a:lnTo>
                        <a:pt x="1737" y="33"/>
                      </a:lnTo>
                      <a:lnTo>
                        <a:pt x="1755" y="0"/>
                      </a:lnTo>
                      <a:lnTo>
                        <a:pt x="1755" y="561"/>
                      </a:lnTo>
                      <a:lnTo>
                        <a:pt x="1754" y="587"/>
                      </a:lnTo>
                      <a:lnTo>
                        <a:pt x="1722" y="612"/>
                      </a:lnTo>
                      <a:lnTo>
                        <a:pt x="1629" y="651"/>
                      </a:lnTo>
                      <a:lnTo>
                        <a:pt x="1527" y="678"/>
                      </a:lnTo>
                      <a:lnTo>
                        <a:pt x="1380" y="705"/>
                      </a:lnTo>
                      <a:lnTo>
                        <a:pt x="1227" y="720"/>
                      </a:lnTo>
                      <a:lnTo>
                        <a:pt x="1089" y="729"/>
                      </a:lnTo>
                      <a:lnTo>
                        <a:pt x="957" y="735"/>
                      </a:lnTo>
                      <a:lnTo>
                        <a:pt x="813" y="734"/>
                      </a:lnTo>
                      <a:lnTo>
                        <a:pt x="636" y="726"/>
                      </a:lnTo>
                      <a:lnTo>
                        <a:pt x="516" y="720"/>
                      </a:lnTo>
                      <a:lnTo>
                        <a:pt x="395" y="707"/>
                      </a:lnTo>
                      <a:lnTo>
                        <a:pt x="264" y="690"/>
                      </a:lnTo>
                      <a:lnTo>
                        <a:pt x="123" y="654"/>
                      </a:lnTo>
                      <a:lnTo>
                        <a:pt x="41" y="620"/>
                      </a:lnTo>
                      <a:lnTo>
                        <a:pt x="20" y="604"/>
                      </a:lnTo>
                      <a:lnTo>
                        <a:pt x="2" y="58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4411800" y="4121280"/>
                <a:ext cx="3327120" cy="2403360"/>
                <a:chOff x="4411800" y="4121280"/>
                <a:chExt cx="3327120" cy="240336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4411800" y="490860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948280" y="4121280"/>
                  <a:ext cx="0" cy="240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6" name=""/>
            <p:cNvGrpSpPr/>
            <p:nvPr/>
          </p:nvGrpSpPr>
          <p:grpSpPr>
            <a:xfrm>
              <a:off x="7199280" y="4653000"/>
              <a:ext cx="1883880" cy="826560"/>
              <a:chOff x="7199280" y="4653000"/>
              <a:chExt cx="1883880" cy="826560"/>
            </a:xfrm>
          </p:grpSpPr>
          <p:sp>
            <p:nvSpPr>
              <p:cNvPr id="1657" name=""/>
              <p:cNvSpPr/>
              <p:nvPr/>
            </p:nvSpPr>
            <p:spPr>
              <a:xfrm>
                <a:off x="7928640" y="4653000"/>
                <a:ext cx="115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olid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88400" y="497340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7199280" y="4971960"/>
                <a:ext cx="78912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5037120" y="4913280"/>
              <a:ext cx="905040" cy="314640"/>
              <a:chOff x="5037120" y="4913280"/>
              <a:chExt cx="905040" cy="314640"/>
            </a:xfrm>
          </p:grpSpPr>
          <p:sp>
            <p:nvSpPr>
              <p:cNvPr id="1661" name=""/>
              <p:cNvSpPr/>
              <p:nvPr/>
            </p:nvSpPr>
            <p:spPr>
              <a:xfrm flipH="1">
                <a:off x="5292720" y="4913280"/>
                <a:ext cx="649440" cy="250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5037120" y="4951440"/>
                <a:ext cx="312480" cy="276480"/>
                <a:chOff x="5037120" y="4951440"/>
                <a:chExt cx="312480" cy="276480"/>
              </a:xfrm>
            </p:grpSpPr>
            <p:grpSp>
              <p:nvGrpSpPr>
                <p:cNvPr id="1663" name=""/>
                <p:cNvGrpSpPr/>
                <p:nvPr/>
              </p:nvGrpSpPr>
              <p:grpSpPr>
                <a:xfrm>
                  <a:off x="5240520" y="5119560"/>
                  <a:ext cx="109080" cy="101160"/>
                  <a:chOff x="5240520" y="5119560"/>
                  <a:chExt cx="109080" cy="10116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524808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>
                    <a:off x="5240520" y="5119560"/>
                    <a:ext cx="101520" cy="101160"/>
                  </a:xfrm>
                  <a:prstGeom prst="line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"/>
                <p:cNvSpPr/>
                <p:nvPr/>
              </p:nvSpPr>
              <p:spPr>
                <a:xfrm>
                  <a:off x="5037120" y="4951440"/>
                  <a:ext cx="285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cc"/>
                      </a:solidFill>
                      <a:latin typeface="Comic Sans MS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7" name=""/>
            <p:cNvSpPr/>
            <p:nvPr/>
          </p:nvSpPr>
          <p:spPr>
            <a:xfrm>
              <a:off x="5631120" y="4697280"/>
              <a:ext cx="3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5288040" y="5160960"/>
              <a:ext cx="541440" cy="453240"/>
              <a:chOff x="5288040" y="5160960"/>
              <a:chExt cx="541440" cy="453240"/>
            </a:xfrm>
          </p:grpSpPr>
          <p:sp>
            <p:nvSpPr>
              <p:cNvPr id="1669" name=""/>
              <p:cNvSpPr/>
              <p:nvPr/>
            </p:nvSpPr>
            <p:spPr>
              <a:xfrm>
                <a:off x="5288040" y="5160960"/>
                <a:ext cx="541440" cy="144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367600" y="527688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38880" y="532440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5605560" y="5005440"/>
              <a:ext cx="752400" cy="246240"/>
              <a:chOff x="5605560" y="5005440"/>
              <a:chExt cx="752400" cy="246240"/>
            </a:xfrm>
          </p:grpSpPr>
          <p:sp>
            <p:nvSpPr>
              <p:cNvPr id="1673" name=""/>
              <p:cNvSpPr/>
              <p:nvPr/>
            </p:nvSpPr>
            <p:spPr>
              <a:xfrm>
                <a:off x="5605560" y="5025960"/>
                <a:ext cx="752400" cy="42840"/>
              </a:xfrm>
              <a:custGeom>
                <a:avLst/>
                <a:gdLst/>
                <a:ahLst/>
                <a:rect l="l" t="t" r="r" b="b"/>
                <a:pathLst>
                  <a:path w="474" h="27">
                    <a:moveTo>
                      <a:pt x="0" y="15"/>
                    </a:moveTo>
                    <a:cubicBezTo>
                      <a:pt x="24" y="16"/>
                      <a:pt x="112" y="22"/>
                      <a:pt x="147" y="24"/>
                    </a:cubicBezTo>
                    <a:cubicBezTo>
                      <a:pt x="182" y="26"/>
                      <a:pt x="190" y="27"/>
                      <a:pt x="213" y="27"/>
                    </a:cubicBezTo>
                    <a:cubicBezTo>
                      <a:pt x="236" y="27"/>
                      <a:pt x="262" y="26"/>
                      <a:pt x="286" y="25"/>
                    </a:cubicBezTo>
                    <a:cubicBezTo>
                      <a:pt x="310" y="24"/>
                      <a:pt x="326" y="22"/>
                      <a:pt x="357" y="18"/>
                    </a:cubicBezTo>
                    <a:cubicBezTo>
                      <a:pt x="388" y="14"/>
                      <a:pt x="450" y="4"/>
                      <a:pt x="474" y="0"/>
                    </a:cubicBezTo>
                  </a:path>
                </a:pathLst>
              </a:custGeom>
              <a:noFill/>
              <a:ln w="9360">
                <a:solidFill>
                  <a:srgbClr val="33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80" bIns="-28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95000" y="500544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5946840" y="4911840"/>
              <a:ext cx="826920" cy="225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3636360" y="3776760"/>
              <a:ext cx="2295720" cy="663480"/>
              <a:chOff x="3636360" y="3776760"/>
              <a:chExt cx="2295720" cy="663480"/>
            </a:xfrm>
          </p:grpSpPr>
          <p:sp>
            <p:nvSpPr>
              <p:cNvPr id="1677" name=""/>
              <p:cNvSpPr/>
              <p:nvPr/>
            </p:nvSpPr>
            <p:spPr>
              <a:xfrm>
                <a:off x="4132080" y="412128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379840" y="4121280"/>
                <a:ext cx="55224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636360" y="3776760"/>
                <a:ext cx="183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xe de ro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5297400" y="5162400"/>
              <a:ext cx="0" cy="89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1" name=""/>
            <p:cNvGrpSpPr/>
            <p:nvPr/>
          </p:nvGrpSpPr>
          <p:grpSpPr>
            <a:xfrm>
              <a:off x="6508080" y="4929120"/>
              <a:ext cx="317880" cy="276480"/>
              <a:chOff x="6508080" y="4929120"/>
              <a:chExt cx="317880" cy="27648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716880" y="5097240"/>
                <a:ext cx="109080" cy="101160"/>
                <a:chOff x="6716880" y="5097240"/>
                <a:chExt cx="109080" cy="10116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672444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6716880" y="509724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6508080" y="4929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 flipV="1">
              <a:off x="6762600" y="5015880"/>
              <a:ext cx="545040" cy="129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6880320" y="5149800"/>
              <a:ext cx="291960" cy="337320"/>
              <a:chOff x="6880320" y="5149800"/>
              <a:chExt cx="291960" cy="337320"/>
            </a:xfrm>
          </p:grpSpPr>
          <p:sp>
            <p:nvSpPr>
              <p:cNvPr id="1688" name=""/>
              <p:cNvSpPr/>
              <p:nvPr/>
            </p:nvSpPr>
            <p:spPr>
              <a:xfrm>
                <a:off x="6880320" y="514980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51600" y="5197680"/>
                <a:ext cx="162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>
              <a:off x="6777000" y="5162400"/>
              <a:ext cx="0" cy="85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3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3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69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3437280" y="1959120"/>
            <a:ext cx="3394800" cy="581400"/>
            <a:chOff x="3437280" y="1959120"/>
            <a:chExt cx="3394800" cy="581400"/>
          </a:xfrm>
        </p:grpSpPr>
        <p:sp>
          <p:nvSpPr>
            <p:cNvPr id="1703" name=""/>
            <p:cNvSpPr/>
            <p:nvPr/>
          </p:nvSpPr>
          <p:spPr>
            <a:xfrm>
              <a:off x="3437280" y="1959120"/>
              <a:ext cx="339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Mo 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32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en-US" sz="3200" spc="-1" strike="noStrike">
                  <a:solidFill>
                    <a:srgbClr val="339933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98960" y="199368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07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14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18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20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3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4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26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30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34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39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745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0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1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2920" y="261936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649800" y="1719360"/>
            <a:ext cx="1843920" cy="1140480"/>
            <a:chOff x="649800" y="1719360"/>
            <a:chExt cx="1843920" cy="1140480"/>
          </a:xfrm>
        </p:grpSpPr>
        <p:sp>
          <p:nvSpPr>
            <p:cNvPr id="1754" name=""/>
            <p:cNvSpPr/>
            <p:nvPr/>
          </p:nvSpPr>
          <p:spPr>
            <a:xfrm>
              <a:off x="767160" y="2006640"/>
              <a:ext cx="57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86000" y="1719360"/>
              <a:ext cx="60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403280" y="2293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81040" y="2295360"/>
              <a:ext cx="414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996633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043000" y="17478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983960" y="234324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49800" y="2400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687400" y="206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849960" y="942840"/>
            <a:ext cx="61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issance d’une force sur un solide en r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4535640" y="4657680"/>
            <a:ext cx="2786040" cy="1425600"/>
            <a:chOff x="4535640" y="4657680"/>
            <a:chExt cx="2786040" cy="1425600"/>
          </a:xfrm>
        </p:grpSpPr>
        <p:sp>
          <p:nvSpPr>
            <p:cNvPr id="1765" name=""/>
            <p:cNvSpPr/>
            <p:nvPr/>
          </p:nvSpPr>
          <p:spPr>
            <a:xfrm>
              <a:off x="4540320" y="4657680"/>
              <a:ext cx="2773440" cy="540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3708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18440" y="4908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35640" y="4916520"/>
              <a:ext cx="2786040" cy="1166760"/>
            </a:xfrm>
            <a:custGeom>
              <a:avLst/>
              <a:gdLst/>
              <a:ahLst/>
              <a:rect l="l" t="t" r="r" b="b"/>
              <a:pathLst>
                <a:path w="1755" h="735">
                  <a:moveTo>
                    <a:pt x="0" y="6"/>
                  </a:moveTo>
                  <a:lnTo>
                    <a:pt x="9" y="36"/>
                  </a:lnTo>
                  <a:lnTo>
                    <a:pt x="57" y="66"/>
                  </a:lnTo>
                  <a:lnTo>
                    <a:pt x="147" y="102"/>
                  </a:lnTo>
                  <a:lnTo>
                    <a:pt x="249" y="123"/>
                  </a:lnTo>
                  <a:lnTo>
                    <a:pt x="402" y="147"/>
                  </a:lnTo>
                  <a:lnTo>
                    <a:pt x="531" y="159"/>
                  </a:lnTo>
                  <a:lnTo>
                    <a:pt x="684" y="171"/>
                  </a:lnTo>
                  <a:lnTo>
                    <a:pt x="837" y="173"/>
                  </a:lnTo>
                  <a:lnTo>
                    <a:pt x="933" y="173"/>
                  </a:lnTo>
                  <a:lnTo>
                    <a:pt x="1041" y="171"/>
                  </a:lnTo>
                  <a:lnTo>
                    <a:pt x="1185" y="162"/>
                  </a:lnTo>
                  <a:lnTo>
                    <a:pt x="1317" y="153"/>
                  </a:lnTo>
                  <a:lnTo>
                    <a:pt x="1407" y="141"/>
                  </a:lnTo>
                  <a:lnTo>
                    <a:pt x="1512" y="123"/>
                  </a:lnTo>
                  <a:lnTo>
                    <a:pt x="1587" y="102"/>
                  </a:lnTo>
                  <a:lnTo>
                    <a:pt x="1662" y="81"/>
                  </a:lnTo>
                  <a:lnTo>
                    <a:pt x="1701" y="63"/>
                  </a:lnTo>
                  <a:lnTo>
                    <a:pt x="1737" y="33"/>
                  </a:lnTo>
                  <a:lnTo>
                    <a:pt x="1755" y="0"/>
                  </a:lnTo>
                  <a:lnTo>
                    <a:pt x="1755" y="561"/>
                  </a:lnTo>
                  <a:lnTo>
                    <a:pt x="1754" y="587"/>
                  </a:lnTo>
                  <a:lnTo>
                    <a:pt x="1722" y="612"/>
                  </a:lnTo>
                  <a:lnTo>
                    <a:pt x="1629" y="651"/>
                  </a:lnTo>
                  <a:lnTo>
                    <a:pt x="1527" y="678"/>
                  </a:lnTo>
                  <a:lnTo>
                    <a:pt x="1380" y="705"/>
                  </a:lnTo>
                  <a:lnTo>
                    <a:pt x="1227" y="720"/>
                  </a:lnTo>
                  <a:lnTo>
                    <a:pt x="1089" y="729"/>
                  </a:lnTo>
                  <a:lnTo>
                    <a:pt x="957" y="735"/>
                  </a:lnTo>
                  <a:lnTo>
                    <a:pt x="813" y="734"/>
                  </a:lnTo>
                  <a:lnTo>
                    <a:pt x="636" y="726"/>
                  </a:lnTo>
                  <a:lnTo>
                    <a:pt x="516" y="720"/>
                  </a:lnTo>
                  <a:lnTo>
                    <a:pt x="395" y="707"/>
                  </a:lnTo>
                  <a:lnTo>
                    <a:pt x="264" y="690"/>
                  </a:lnTo>
                  <a:lnTo>
                    <a:pt x="123" y="654"/>
                  </a:lnTo>
                  <a:lnTo>
                    <a:pt x="41" y="620"/>
                  </a:lnTo>
                  <a:lnTo>
                    <a:pt x="20" y="604"/>
                  </a:lnTo>
                  <a:lnTo>
                    <a:pt x="2" y="58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"/>
          <p:cNvSpPr/>
          <p:nvPr/>
        </p:nvSpPr>
        <p:spPr>
          <a:xfrm>
            <a:off x="4411800" y="4908600"/>
            <a:ext cx="3327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948280" y="43876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7199280" y="4653000"/>
            <a:ext cx="1883880" cy="826560"/>
            <a:chOff x="7199280" y="4653000"/>
            <a:chExt cx="1883880" cy="826560"/>
          </a:xfrm>
        </p:grpSpPr>
        <p:sp>
          <p:nvSpPr>
            <p:cNvPr id="1772" name=""/>
            <p:cNvSpPr/>
            <p:nvPr/>
          </p:nvSpPr>
          <p:spPr>
            <a:xfrm>
              <a:off x="7928640" y="4653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88400" y="4973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199280" y="4971960"/>
              <a:ext cx="78912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5037120" y="4913280"/>
            <a:ext cx="905040" cy="314640"/>
            <a:chOff x="5037120" y="4913280"/>
            <a:chExt cx="905040" cy="314640"/>
          </a:xfrm>
        </p:grpSpPr>
        <p:sp>
          <p:nvSpPr>
            <p:cNvPr id="1776" name=""/>
            <p:cNvSpPr/>
            <p:nvPr/>
          </p:nvSpPr>
          <p:spPr>
            <a:xfrm flipH="1">
              <a:off x="5292720" y="4913280"/>
              <a:ext cx="64944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5037120" y="4951440"/>
              <a:ext cx="312480" cy="276480"/>
              <a:chOff x="5037120" y="4951440"/>
              <a:chExt cx="312480" cy="27648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5240520" y="5119560"/>
                <a:ext cx="109080" cy="101160"/>
                <a:chOff x="5240520" y="5119560"/>
                <a:chExt cx="109080" cy="1011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524808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>
                  <a:off x="5240520" y="5119560"/>
                  <a:ext cx="101520" cy="101160"/>
                </a:xfrm>
                <a:prstGeom prst="line">
                  <a:avLst/>
                </a:prstGeom>
                <a:ln w="93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1" name=""/>
              <p:cNvSpPr/>
              <p:nvPr/>
            </p:nvSpPr>
            <p:spPr>
              <a:xfrm>
                <a:off x="5037120" y="495144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2" name=""/>
          <p:cNvSpPr/>
          <p:nvPr/>
        </p:nvSpPr>
        <p:spPr>
          <a:xfrm>
            <a:off x="5631120" y="469728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5288040" y="5160960"/>
            <a:ext cx="541440" cy="453240"/>
            <a:chOff x="5288040" y="5160960"/>
            <a:chExt cx="541440" cy="453240"/>
          </a:xfrm>
        </p:grpSpPr>
        <p:sp>
          <p:nvSpPr>
            <p:cNvPr id="1784" name=""/>
            <p:cNvSpPr/>
            <p:nvPr/>
          </p:nvSpPr>
          <p:spPr>
            <a:xfrm>
              <a:off x="5288040" y="5160960"/>
              <a:ext cx="54144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367600" y="5276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438880" y="532440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5605560" y="5005440"/>
            <a:ext cx="752400" cy="246240"/>
            <a:chOff x="5605560" y="5005440"/>
            <a:chExt cx="752400" cy="246240"/>
          </a:xfrm>
        </p:grpSpPr>
        <p:sp>
          <p:nvSpPr>
            <p:cNvPr id="1788" name=""/>
            <p:cNvSpPr/>
            <p:nvPr/>
          </p:nvSpPr>
          <p:spPr>
            <a:xfrm>
              <a:off x="5605560" y="5025960"/>
              <a:ext cx="752400" cy="42840"/>
            </a:xfrm>
            <a:custGeom>
              <a:avLst/>
              <a:gdLst/>
              <a:ahLst/>
              <a:rect l="l" t="t" r="r" b="b"/>
              <a:pathLst>
                <a:path w="474" h="27">
                  <a:moveTo>
                    <a:pt x="0" y="15"/>
                  </a:moveTo>
                  <a:cubicBezTo>
                    <a:pt x="24" y="16"/>
                    <a:pt x="112" y="22"/>
                    <a:pt x="147" y="24"/>
                  </a:cubicBezTo>
                  <a:cubicBezTo>
                    <a:pt x="182" y="26"/>
                    <a:pt x="190" y="27"/>
                    <a:pt x="213" y="27"/>
                  </a:cubicBezTo>
                  <a:cubicBezTo>
                    <a:pt x="236" y="27"/>
                    <a:pt x="262" y="26"/>
                    <a:pt x="286" y="25"/>
                  </a:cubicBezTo>
                  <a:cubicBezTo>
                    <a:pt x="310" y="24"/>
                    <a:pt x="326" y="22"/>
                    <a:pt x="357" y="18"/>
                  </a:cubicBezTo>
                  <a:cubicBezTo>
                    <a:pt x="388" y="14"/>
                    <a:pt x="450" y="4"/>
                    <a:pt x="474" y="0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95000" y="5005440"/>
              <a:ext cx="2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5946840" y="4911840"/>
            <a:ext cx="826920" cy="225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636360" y="3776760"/>
            <a:ext cx="2295720" cy="663480"/>
            <a:chOff x="3636360" y="3776760"/>
            <a:chExt cx="2295720" cy="663480"/>
          </a:xfrm>
        </p:grpSpPr>
        <p:sp>
          <p:nvSpPr>
            <p:cNvPr id="1792" name=""/>
            <p:cNvSpPr/>
            <p:nvPr/>
          </p:nvSpPr>
          <p:spPr>
            <a:xfrm>
              <a:off x="4132080" y="412128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79840" y="4121280"/>
              <a:ext cx="552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36360" y="37767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xe de ro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5297400" y="5162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6508080" y="4929120"/>
            <a:ext cx="317880" cy="276480"/>
            <a:chOff x="6508080" y="4929120"/>
            <a:chExt cx="317880" cy="276480"/>
          </a:xfrm>
        </p:grpSpPr>
        <p:grpSp>
          <p:nvGrpSpPr>
            <p:cNvPr id="1797" name=""/>
            <p:cNvGrpSpPr/>
            <p:nvPr/>
          </p:nvGrpSpPr>
          <p:grpSpPr>
            <a:xfrm>
              <a:off x="6716880" y="5097240"/>
              <a:ext cx="109080" cy="101160"/>
              <a:chOff x="6716880" y="5097240"/>
              <a:chExt cx="109080" cy="101160"/>
            </a:xfrm>
          </p:grpSpPr>
          <p:sp>
            <p:nvSpPr>
              <p:cNvPr id="1798" name=""/>
              <p:cNvSpPr/>
              <p:nvPr/>
            </p:nvSpPr>
            <p:spPr>
              <a:xfrm>
                <a:off x="672444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6716880" y="5097240"/>
                <a:ext cx="101520" cy="10116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>
              <a:off x="6508080" y="492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"/>
          <p:cNvSpPr/>
          <p:nvPr/>
        </p:nvSpPr>
        <p:spPr>
          <a:xfrm flipV="1">
            <a:off x="6762600" y="5015880"/>
            <a:ext cx="545040" cy="12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6880320" y="5149800"/>
            <a:ext cx="291960" cy="337320"/>
            <a:chOff x="6880320" y="5149800"/>
            <a:chExt cx="291960" cy="337320"/>
          </a:xfrm>
        </p:grpSpPr>
        <p:sp>
          <p:nvSpPr>
            <p:cNvPr id="1803" name=""/>
            <p:cNvSpPr/>
            <p:nvPr/>
          </p:nvSpPr>
          <p:spPr>
            <a:xfrm>
              <a:off x="6880320" y="51498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51600" y="5197680"/>
              <a:ext cx="162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6777000" y="516240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354640" y="4257720"/>
            <a:ext cx="971640" cy="576360"/>
          </a:xfrm>
          <a:custGeom>
            <a:avLst/>
            <a:gdLst>
              <a:gd name="textAreaLeft" fmla="*/ 129960 w 971640"/>
              <a:gd name="textAreaRight" fmla="*/ 841680 w 97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374160" y="4149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376080" y="1959120"/>
            <a:ext cx="30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.m)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d.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055120" y="2595960"/>
            <a:ext cx="1283040" cy="963360"/>
          </a:xfrm>
          <a:prstGeom prst="upArrowCallout">
            <a:avLst>
              <a:gd name="adj1" fmla="val 33299"/>
              <a:gd name="adj2" fmla="val 332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g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219120" y="2595960"/>
            <a:ext cx="1034640" cy="963360"/>
          </a:xfrm>
          <a:prstGeom prst="upArrowCallout">
            <a:avLst>
              <a:gd name="adj1" fmla="val 26852"/>
              <a:gd name="adj2" fmla="val 26850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0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925560" y="1905120"/>
            <a:ext cx="1881000" cy="4024080"/>
            <a:chOff x="925560" y="1905120"/>
            <a:chExt cx="1881000" cy="4024080"/>
          </a:xfrm>
        </p:grpSpPr>
        <p:grpSp>
          <p:nvGrpSpPr>
            <p:cNvPr id="1817" name=""/>
            <p:cNvGrpSpPr/>
            <p:nvPr/>
          </p:nvGrpSpPr>
          <p:grpSpPr>
            <a:xfrm>
              <a:off x="1547640" y="4809960"/>
              <a:ext cx="276480" cy="1050840"/>
              <a:chOff x="1547640" y="4809960"/>
              <a:chExt cx="276480" cy="1050840"/>
            </a:xfrm>
          </p:grpSpPr>
          <p:sp>
            <p:nvSpPr>
              <p:cNvPr id="1818" name=""/>
              <p:cNvSpPr/>
              <p:nvPr/>
            </p:nvSpPr>
            <p:spPr>
              <a:xfrm>
                <a:off x="1547640" y="48099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85880" y="507996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547640" y="558468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50880" y="2714760"/>
              <a:ext cx="276480" cy="2373120"/>
              <a:chOff x="1550880" y="2714760"/>
              <a:chExt cx="276480" cy="23731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50880" y="2714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87680" y="3005280"/>
                <a:ext cx="0" cy="18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50880" y="481176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955800" y="2265480"/>
              <a:ext cx="1446120" cy="996840"/>
              <a:chOff x="955800" y="2265480"/>
              <a:chExt cx="1446120" cy="996840"/>
            </a:xfrm>
          </p:grpSpPr>
          <p:sp>
            <p:nvSpPr>
              <p:cNvPr id="1826" name=""/>
              <p:cNvSpPr/>
              <p:nvPr/>
            </p:nvSpPr>
            <p:spPr>
              <a:xfrm>
                <a:off x="9558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716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476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157400" y="5533920"/>
              <a:ext cx="379080" cy="395280"/>
              <a:chOff x="1157400" y="5533920"/>
              <a:chExt cx="379080" cy="39528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1333080" y="571500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1157400" y="5533920"/>
                <a:ext cx="172800" cy="395280"/>
                <a:chOff x="1157400" y="5533920"/>
                <a:chExt cx="172800" cy="39528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1330200" y="553572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57400" y="5533920"/>
                  <a:ext cx="166680" cy="3859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4" name=""/>
            <p:cNvSpPr/>
            <p:nvPr/>
          </p:nvSpPr>
          <p:spPr>
            <a:xfrm>
              <a:off x="925560" y="1905120"/>
              <a:ext cx="1503360" cy="2717640"/>
            </a:xfrm>
            <a:custGeom>
              <a:avLst/>
              <a:gdLst/>
              <a:ahLst/>
              <a:rect l="l" t="t" r="r" b="b"/>
              <a:pathLst>
                <a:path w="947" h="1712">
                  <a:moveTo>
                    <a:pt x="0" y="1686"/>
                  </a:moveTo>
                  <a:lnTo>
                    <a:pt x="0" y="0"/>
                  </a:lnTo>
                  <a:lnTo>
                    <a:pt x="947" y="0"/>
                  </a:lnTo>
                  <a:lnTo>
                    <a:pt x="947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5" name=""/>
            <p:cNvGrpSpPr/>
            <p:nvPr/>
          </p:nvGrpSpPr>
          <p:grpSpPr>
            <a:xfrm>
              <a:off x="2427480" y="3184560"/>
              <a:ext cx="379080" cy="395280"/>
              <a:chOff x="2427480" y="3184560"/>
              <a:chExt cx="379080" cy="395280"/>
            </a:xfrm>
          </p:grpSpPr>
          <p:sp>
            <p:nvSpPr>
              <p:cNvPr id="1836" name=""/>
              <p:cNvSpPr/>
              <p:nvPr/>
            </p:nvSpPr>
            <p:spPr>
              <a:xfrm>
                <a:off x="2427480" y="3398760"/>
                <a:ext cx="20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33760" y="3184560"/>
                <a:ext cx="172800" cy="395280"/>
                <a:chOff x="2633760" y="3184560"/>
                <a:chExt cx="172800" cy="39528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33760" y="3184560"/>
                  <a:ext cx="0" cy="39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0800000">
                  <a:off x="2639880" y="3193920"/>
                  <a:ext cx="166680" cy="385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0" name=""/>
          <p:cNvGrpSpPr/>
          <p:nvPr/>
        </p:nvGrpSpPr>
        <p:grpSpPr>
          <a:xfrm>
            <a:off x="2411280" y="3633840"/>
            <a:ext cx="2988000" cy="276480"/>
            <a:chOff x="2411280" y="3633840"/>
            <a:chExt cx="2988000" cy="276480"/>
          </a:xfrm>
        </p:grpSpPr>
        <p:sp>
          <p:nvSpPr>
            <p:cNvPr id="1841" name=""/>
            <p:cNvSpPr/>
            <p:nvPr/>
          </p:nvSpPr>
          <p:spPr>
            <a:xfrm>
              <a:off x="2411280" y="389736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135240" y="3633840"/>
              <a:ext cx="22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organes fix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1625760" y="1376280"/>
            <a:ext cx="2514240" cy="858600"/>
            <a:chOff x="1625760" y="1376280"/>
            <a:chExt cx="2514240" cy="858600"/>
          </a:xfrm>
        </p:grpSpPr>
        <p:sp>
          <p:nvSpPr>
            <p:cNvPr id="1844" name=""/>
            <p:cNvSpPr/>
            <p:nvPr/>
          </p:nvSpPr>
          <p:spPr>
            <a:xfrm>
              <a:off x="2385000" y="1376280"/>
              <a:ext cx="175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pi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1625760" y="1596600"/>
              <a:ext cx="63792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63680" y="159696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714680" y="4229280"/>
            <a:ext cx="2409480" cy="276480"/>
            <a:chOff x="1714680" y="4229280"/>
            <a:chExt cx="2409480" cy="276480"/>
          </a:xfrm>
        </p:grpSpPr>
        <p:sp>
          <p:nvSpPr>
            <p:cNvPr id="1848" name=""/>
            <p:cNvSpPr/>
            <p:nvPr/>
          </p:nvSpPr>
          <p:spPr>
            <a:xfrm>
              <a:off x="1714680" y="44924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34680" y="4229280"/>
              <a:ext cx="168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bie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685880" y="5056200"/>
            <a:ext cx="2815560" cy="276480"/>
            <a:chOff x="1685880" y="5056200"/>
            <a:chExt cx="2815560" cy="276480"/>
          </a:xfrm>
        </p:grpSpPr>
        <p:sp>
          <p:nvSpPr>
            <p:cNvPr id="1851" name=""/>
            <p:cNvSpPr/>
            <p:nvPr/>
          </p:nvSpPr>
          <p:spPr>
            <a:xfrm>
              <a:off x="1685880" y="531972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388240" y="5056200"/>
              <a:ext cx="21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us ensemble vilebrequ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5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6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6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6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2" name=""/>
          <p:cNvGrpSpPr/>
          <p:nvPr/>
        </p:nvGrpSpPr>
        <p:grpSpPr>
          <a:xfrm>
            <a:off x="957240" y="2265480"/>
            <a:ext cx="1446120" cy="996840"/>
            <a:chOff x="957240" y="2265480"/>
            <a:chExt cx="1446120" cy="996840"/>
          </a:xfrm>
        </p:grpSpPr>
        <p:sp>
          <p:nvSpPr>
            <p:cNvPr id="1873" name=""/>
            <p:cNvSpPr/>
            <p:nvPr/>
          </p:nvSpPr>
          <p:spPr>
            <a:xfrm>
              <a:off x="95724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7308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54908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957400" y="2963880"/>
            <a:ext cx="61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3" dur="3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3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3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"/>
                            </p:stCondLst>
                            <p:childTnLst>
                              <p:par>
                                <p:cTn id="19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3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3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3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3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3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19284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88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892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895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89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0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3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1904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1906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055680" y="2023920"/>
            <a:ext cx="557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écessaire à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st fournie par la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103560" y="23144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des ga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)qui règne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026880" y="2658960"/>
            <a:ext cx="56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tte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 press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’es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s consta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e progressi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946600" y="2963880"/>
            <a:ext cx="63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ortionnellement à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augmentation de 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dessus du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pist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934920" y="1916280"/>
            <a:ext cx="1478160" cy="331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934920" y="1924200"/>
            <a:ext cx="1478160" cy="331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065400" y="340056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 conséquent, lors des calculs suivants nous utiliserons une val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162600" y="3699000"/>
            <a:ext cx="56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 « pression fictive » appelée </a:t>
            </a: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3.88889E-006 0.22778 E">
                                      <p:cBhvr>
                                        <p:cTn id="1992" dur="2000" fill="hold"/>
                                        <p:tgtEl>
                                          <p:spTgt spid="1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3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3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24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28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1931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1935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1937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9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1941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334680" y="2238480"/>
            <a:ext cx="37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1949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1955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1961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1964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7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1969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1972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1977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1986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500"/>
                            </p:stCondLst>
                            <p:childTnLst>
                              <p:par>
                                <p:cTn id="2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3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3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3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3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3000"/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7" dur="3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4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2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3000"/>
                                        <p:tgtEl>
                                          <p:spTgt spid="1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03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5200" y="40766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élec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0.25035 -0.09792 E">
                                      <p:cBhvr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3681 -0.01227 E">
                                      <p:cBhvr>
                                        <p:cTn id="2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1995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7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1999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002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00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00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0" name=""/>
          <p:cNvSpPr/>
          <p:nvPr/>
        </p:nvSpPr>
        <p:spPr>
          <a:xfrm>
            <a:off x="930240" y="228132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954000" y="2265480"/>
            <a:ext cx="1446120" cy="996840"/>
            <a:chOff x="954000" y="2265480"/>
            <a:chExt cx="1446120" cy="996840"/>
          </a:xfrm>
        </p:grpSpPr>
        <p:sp>
          <p:nvSpPr>
            <p:cNvPr id="2012" name=""/>
            <p:cNvSpPr/>
            <p:nvPr/>
          </p:nvSpPr>
          <p:spPr>
            <a:xfrm>
              <a:off x="954000" y="226548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9840" y="285264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545840" y="271152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355920" y="2238480"/>
            <a:ext cx="38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fr-FR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fr-FR" sz="1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020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026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8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032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035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040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043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048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4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055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059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0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061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4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065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066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072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074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6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081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1584360" y="2281320"/>
            <a:ext cx="732240" cy="749160"/>
            <a:chOff x="1584360" y="2281320"/>
            <a:chExt cx="732240" cy="749160"/>
          </a:xfrm>
        </p:grpSpPr>
        <p:sp>
          <p:nvSpPr>
            <p:cNvPr id="2086" name=""/>
            <p:cNvSpPr/>
            <p:nvPr/>
          </p:nvSpPr>
          <p:spPr>
            <a:xfrm>
              <a:off x="1584360" y="2281320"/>
              <a:ext cx="216000" cy="718920"/>
            </a:xfrm>
            <a:prstGeom prst="downArrow">
              <a:avLst>
                <a:gd name="adj1" fmla="val 50000"/>
                <a:gd name="adj2" fmla="val 83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1751760" y="2313000"/>
              <a:ext cx="564840" cy="717480"/>
              <a:chOff x="1751760" y="2313000"/>
              <a:chExt cx="564840" cy="717480"/>
            </a:xfrm>
          </p:grpSpPr>
          <p:sp>
            <p:nvSpPr>
              <p:cNvPr id="2088" name=""/>
              <p:cNvSpPr/>
              <p:nvPr/>
            </p:nvSpPr>
            <p:spPr>
              <a:xfrm>
                <a:off x="1751760" y="2313000"/>
                <a:ext cx="56484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/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874880" y="234000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5" dur="indefinite" restart="never" nodeType="tmRoot">
          <p:childTnLst>
            <p:seq>
              <p:cTn id="2116" dur="indefinite" nodeType="mainSeq">
                <p:childTnLst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3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3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1" dur="3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3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3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3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3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205800" y="1341360"/>
            <a:ext cx="29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.Travai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ffectué par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095160" y="1341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re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097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7416360" y="1341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 l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339933"/>
                </a:solidFill>
                <a:latin typeface="Comic Sans MS"/>
              </a:rPr>
              <a:t>PMB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101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428760" y="2266920"/>
            <a:ext cx="276480" cy="1548000"/>
            <a:chOff x="428760" y="2266920"/>
            <a:chExt cx="276480" cy="1548000"/>
          </a:xfrm>
        </p:grpSpPr>
        <p:sp>
          <p:nvSpPr>
            <p:cNvPr id="2104" name=""/>
            <p:cNvSpPr/>
            <p:nvPr/>
          </p:nvSpPr>
          <p:spPr>
            <a:xfrm>
              <a:off x="676440" y="2266920"/>
              <a:ext cx="0" cy="15480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16200000">
              <a:off x="228960" y="287748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10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11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340080" y="2238480"/>
            <a:ext cx="38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Pression Moyenne Effectiv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PME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)  = </a:t>
            </a:r>
            <a:r>
              <a:rPr b="1" i="1" lang="en-US" sz="1400" spc="-1" strike="noStrike">
                <a:solidFill>
                  <a:srgbClr val="ff6600"/>
                </a:solidFill>
                <a:latin typeface="Comic Sans MS"/>
              </a:rPr>
              <a:t>1,21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176640" y="251316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33"/>
                </a:solidFill>
                <a:latin typeface="Comic Sans MS"/>
              </a:rPr>
              <a:t>Diamètre du piston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dp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fr-FR" sz="1400" spc="-1" strike="noStrike">
                <a:solidFill>
                  <a:srgbClr val="339933"/>
                </a:solidFill>
                <a:latin typeface="Comic Sans MS"/>
              </a:rPr>
              <a:t>83</a:t>
            </a:r>
            <a:r>
              <a:rPr b="0" i="1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914400" y="1305000"/>
            <a:ext cx="1498680" cy="981000"/>
            <a:chOff x="914400" y="1305000"/>
            <a:chExt cx="1498680" cy="981000"/>
          </a:xfrm>
        </p:grpSpPr>
        <p:sp>
          <p:nvSpPr>
            <p:cNvPr id="2117" name=""/>
            <p:cNvSpPr/>
            <p:nvPr/>
          </p:nvSpPr>
          <p:spPr>
            <a:xfrm>
              <a:off x="934920" y="1916280"/>
              <a:ext cx="1478160" cy="331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34920" y="1924200"/>
              <a:ext cx="1478160" cy="331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91440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2413080" y="1434960"/>
              <a:ext cx="0" cy="8510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14400" y="1612800"/>
              <a:ext cx="1498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2" name=""/>
            <p:cNvGrpSpPr/>
            <p:nvPr/>
          </p:nvGrpSpPr>
          <p:grpSpPr>
            <a:xfrm>
              <a:off x="1384920" y="1305000"/>
              <a:ext cx="680760" cy="368280"/>
              <a:chOff x="1384920" y="1305000"/>
              <a:chExt cx="680760" cy="368280"/>
            </a:xfrm>
          </p:grpSpPr>
          <p:sp>
            <p:nvSpPr>
              <p:cNvPr id="2123" name=""/>
              <p:cNvSpPr/>
              <p:nvPr/>
            </p:nvSpPr>
            <p:spPr>
              <a:xfrm>
                <a:off x="1384920" y="1305000"/>
                <a:ext cx="68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O 8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>
                <a:off x="1460520" y="1352160"/>
                <a:ext cx="142560" cy="2520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5" name=""/>
          <p:cNvSpPr/>
          <p:nvPr/>
        </p:nvSpPr>
        <p:spPr>
          <a:xfrm>
            <a:off x="1209240" y="1952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1,21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161160" y="2792520"/>
            <a:ext cx="17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Course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339933"/>
                </a:solidFill>
                <a:latin typeface="Comic Sans MS"/>
              </a:rPr>
              <a:t>90</a:t>
            </a:r>
            <a:r>
              <a:rPr b="0" i="1" lang="en-US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rot="16200000">
            <a:off x="-7560" y="2913480"/>
            <a:ext cx="97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9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3232440" y="3328920"/>
            <a:ext cx="1443960" cy="368280"/>
            <a:chOff x="3232440" y="3328920"/>
            <a:chExt cx="1443960" cy="368280"/>
          </a:xfrm>
        </p:grpSpPr>
        <p:sp>
          <p:nvSpPr>
            <p:cNvPr id="2129" name=""/>
            <p:cNvSpPr/>
            <p:nvPr/>
          </p:nvSpPr>
          <p:spPr>
            <a:xfrm>
              <a:off x="3232440" y="332892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67200" y="3349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3095640" y="3708360"/>
            <a:ext cx="2009880" cy="459000"/>
            <a:chOff x="3095640" y="3708360"/>
            <a:chExt cx="2009880" cy="459000"/>
          </a:xfrm>
        </p:grpSpPr>
        <p:sp>
          <p:nvSpPr>
            <p:cNvPr id="2132" name=""/>
            <p:cNvSpPr/>
            <p:nvPr/>
          </p:nvSpPr>
          <p:spPr>
            <a:xfrm>
              <a:off x="37814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N 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32756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m )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95640" y="370836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 J)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"/>
          <p:cNvSpPr/>
          <p:nvPr/>
        </p:nvSpPr>
        <p:spPr>
          <a:xfrm>
            <a:off x="4975200" y="341784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5568840" y="3328920"/>
            <a:ext cx="3143520" cy="405720"/>
            <a:chOff x="5568840" y="3328920"/>
            <a:chExt cx="3143520" cy="405720"/>
          </a:xfrm>
        </p:grpSpPr>
        <p:sp>
          <p:nvSpPr>
            <p:cNvPr id="2137" name=""/>
            <p:cNvSpPr/>
            <p:nvPr/>
          </p:nvSpPr>
          <p:spPr>
            <a:xfrm>
              <a:off x="5568840" y="332892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456240" y="33494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135960" y="4046400"/>
            <a:ext cx="3001680" cy="680040"/>
            <a:chOff x="3135960" y="4046400"/>
            <a:chExt cx="3001680" cy="680040"/>
          </a:xfrm>
        </p:grpSpPr>
        <p:sp>
          <p:nvSpPr>
            <p:cNvPr id="2140" name=""/>
            <p:cNvSpPr/>
            <p:nvPr/>
          </p:nvSpPr>
          <p:spPr>
            <a:xfrm>
              <a:off x="3135960" y="4046400"/>
              <a:ext cx="300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- Détermination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52800" y="4070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3132000" y="1935000"/>
            <a:ext cx="4643640" cy="12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069360" y="45464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3470040" y="4370400"/>
            <a:ext cx="659160" cy="368280"/>
            <a:chOff x="3470040" y="4370400"/>
            <a:chExt cx="659160" cy="368280"/>
          </a:xfrm>
        </p:grpSpPr>
        <p:sp>
          <p:nvSpPr>
            <p:cNvPr id="2145" name=""/>
            <p:cNvSpPr/>
            <p:nvPr/>
          </p:nvSpPr>
          <p:spPr>
            <a:xfrm>
              <a:off x="3470040" y="4370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13040" y="4390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3556080" y="4737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618360" y="477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032360" y="441000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N )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683240" y="46371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217480" y="4518000"/>
            <a:ext cx="1508040" cy="680040"/>
            <a:chOff x="5217480" y="4518000"/>
            <a:chExt cx="1508040" cy="680040"/>
          </a:xfrm>
        </p:grpSpPr>
        <p:sp>
          <p:nvSpPr>
            <p:cNvPr id="2152" name=""/>
            <p:cNvSpPr/>
            <p:nvPr/>
          </p:nvSpPr>
          <p:spPr>
            <a:xfrm>
              <a:off x="5217480" y="451800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495760" y="4538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6743880" y="4495680"/>
            <a:ext cx="136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Comic Sans MS"/>
              </a:rPr>
              <a:t>PM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fr-FR" sz="1800" spc="-1" strike="noStrike" baseline="-25000">
                <a:solidFill>
                  <a:srgbClr val="0000ff"/>
                </a:solidFill>
                <a:latin typeface="Comic Sans MS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-59040" y="5362560"/>
            <a:ext cx="1604880" cy="768240"/>
            <a:chOff x="-59040" y="5362560"/>
            <a:chExt cx="1604880" cy="768240"/>
          </a:xfrm>
        </p:grpSpPr>
        <p:sp>
          <p:nvSpPr>
            <p:cNvPr id="2156" name=""/>
            <p:cNvSpPr/>
            <p:nvPr/>
          </p:nvSpPr>
          <p:spPr>
            <a:xfrm>
              <a:off x="-59040" y="5545080"/>
              <a:ext cx="8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S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piston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825480" y="5362560"/>
              <a:ext cx="720360" cy="768240"/>
              <a:chOff x="825480" y="5362560"/>
              <a:chExt cx="720360" cy="768240"/>
            </a:xfrm>
          </p:grpSpPr>
          <p:sp>
            <p:nvSpPr>
              <p:cNvPr id="2158" name=""/>
              <p:cNvSpPr/>
              <p:nvPr/>
            </p:nvSpPr>
            <p:spPr>
              <a:xfrm>
                <a:off x="825480" y="5362560"/>
                <a:ext cx="71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dp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73000" y="572940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923400" y="5762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1" name=""/>
          <p:cNvGrpSpPr/>
          <p:nvPr/>
        </p:nvGrpSpPr>
        <p:grpSpPr>
          <a:xfrm>
            <a:off x="1562760" y="5362560"/>
            <a:ext cx="1290960" cy="757080"/>
            <a:chOff x="1562760" y="5362560"/>
            <a:chExt cx="1290960" cy="757080"/>
          </a:xfrm>
        </p:grpSpPr>
        <p:grpSp>
          <p:nvGrpSpPr>
            <p:cNvPr id="2162" name=""/>
            <p:cNvGrpSpPr/>
            <p:nvPr/>
          </p:nvGrpSpPr>
          <p:grpSpPr>
            <a:xfrm>
              <a:off x="1819440" y="5362560"/>
              <a:ext cx="1034280" cy="757080"/>
              <a:chOff x="1819440" y="5362560"/>
              <a:chExt cx="1034280" cy="757080"/>
            </a:xfrm>
          </p:grpSpPr>
          <p:sp>
            <p:nvSpPr>
              <p:cNvPr id="2163" name=""/>
              <p:cNvSpPr/>
              <p:nvPr/>
            </p:nvSpPr>
            <p:spPr>
              <a:xfrm>
                <a:off x="1819440" y="5362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,14.</a:t>
                </a:r>
                <a:r>
                  <a:rPr b="0" lang="en-US" sz="1800" spc="-1" strike="noStrike">
                    <a:solidFill>
                      <a:srgbClr val="339933"/>
                    </a:solidFill>
                    <a:latin typeface="Comic Sans MS"/>
                  </a:rPr>
                  <a:t>83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50760" y="5729040"/>
                <a:ext cx="8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117160" y="5751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1562760" y="554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716200" y="554508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540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4176720" y="5494320"/>
            <a:ext cx="3429720" cy="702360"/>
            <a:chOff x="4176720" y="5494320"/>
            <a:chExt cx="3429720" cy="702360"/>
          </a:xfrm>
        </p:grpSpPr>
        <p:sp>
          <p:nvSpPr>
            <p:cNvPr id="2169" name=""/>
            <p:cNvSpPr/>
            <p:nvPr/>
          </p:nvSpPr>
          <p:spPr>
            <a:xfrm>
              <a:off x="4176720" y="5635440"/>
              <a:ext cx="539640" cy="179640"/>
            </a:xfrm>
            <a:prstGeom prst="rightArrow">
              <a:avLst>
                <a:gd name="adj1" fmla="val 50000"/>
                <a:gd name="adj2" fmla="val 751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4710960" y="5516640"/>
              <a:ext cx="1508040" cy="680040"/>
              <a:chOff x="4710960" y="5516640"/>
              <a:chExt cx="1508040" cy="680040"/>
            </a:xfrm>
          </p:grpSpPr>
          <p:sp>
            <p:nvSpPr>
              <p:cNvPr id="2171" name=""/>
              <p:cNvSpPr/>
              <p:nvPr/>
            </p:nvSpPr>
            <p:spPr>
              <a:xfrm>
                <a:off x="4710960" y="5516640"/>
                <a:ext cx="15080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</a:t>
                </a: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fr-FR" sz="1800" spc="-1" strike="noStrike" baseline="-25000">
                    <a:solidFill>
                      <a:srgbClr val="0000ff"/>
                    </a:solidFill>
                    <a:latin typeface="Comic Sans MS"/>
                  </a:rPr>
                  <a:t>gaz/piston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</a:rPr>
                  <a:t>II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89240" y="553716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3" name=""/>
            <p:cNvSpPr/>
            <p:nvPr/>
          </p:nvSpPr>
          <p:spPr>
            <a:xfrm>
              <a:off x="6258600" y="549432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1,21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1" lang="en-US" sz="1800" spc="-1" strike="noStrike">
                  <a:solidFill>
                    <a:srgbClr val="339933"/>
                  </a:solidFill>
                  <a:latin typeface="Comic Sans MS"/>
                </a:rPr>
                <a:t>54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7711200" y="5464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0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959280" y="480528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)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3960" y="6224760"/>
            <a:ext cx="539640" cy="179280"/>
          </a:xfrm>
          <a:prstGeom prst="rightArrow">
            <a:avLst>
              <a:gd name="adj1" fmla="val 50000"/>
              <a:gd name="adj2" fmla="val 752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1047600" y="6122880"/>
            <a:ext cx="3143520" cy="405720"/>
            <a:chOff x="1047600" y="6122880"/>
            <a:chExt cx="3143520" cy="405720"/>
          </a:xfrm>
        </p:grpSpPr>
        <p:sp>
          <p:nvSpPr>
            <p:cNvPr id="2178" name=""/>
            <p:cNvSpPr/>
            <p:nvPr/>
          </p:nvSpPr>
          <p:spPr>
            <a:xfrm>
              <a:off x="1047600" y="6122880"/>
              <a:ext cx="314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Wp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r>
                <a:rPr b="0" lang="fr-FR" sz="1800" spc="-1" strike="noStrike" baseline="-25000">
                  <a:solidFill>
                    <a:srgbClr val="0000ff"/>
                  </a:solidFill>
                  <a:latin typeface="Comic Sans MS"/>
                </a:rPr>
                <a:t>gaz/piston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</a:rPr>
                <a:t>II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. </a:t>
              </a:r>
              <a:r>
                <a:rPr b="1" lang="fr-FR" sz="1800" spc="-1" strike="noStrike">
                  <a:solidFill>
                    <a:srgbClr val="339933"/>
                  </a:solidFill>
                  <a:latin typeface="Comic Sans MS"/>
                </a:rPr>
                <a:t>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935000" y="6143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0" name=""/>
          <p:cNvSpPr/>
          <p:nvPr/>
        </p:nvSpPr>
        <p:spPr>
          <a:xfrm>
            <a:off x="43369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6559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90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165720" y="61228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 590,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183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185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189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93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735280" y="48420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( Mpa)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172" dur="2000" fill="hold"/>
                                        <p:tgtEl>
                                          <p:spTgt spid="2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35640" y="2013120"/>
            <a:ext cx="893160" cy="307080"/>
            <a:chOff x="35640" y="2013120"/>
            <a:chExt cx="893160" cy="307080"/>
          </a:xfrm>
        </p:grpSpPr>
        <p:sp>
          <p:nvSpPr>
            <p:cNvPr id="2198" name=""/>
            <p:cNvSpPr/>
            <p:nvPr/>
          </p:nvSpPr>
          <p:spPr>
            <a:xfrm flipH="1">
              <a:off x="573120" y="226548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640" y="2013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3090960" y="1341360"/>
            <a:ext cx="5130000" cy="307080"/>
            <a:chOff x="3090960" y="1341360"/>
            <a:chExt cx="5130000" cy="307080"/>
          </a:xfrm>
        </p:grpSpPr>
        <p:sp>
          <p:nvSpPr>
            <p:cNvPr id="2201" name=""/>
            <p:cNvSpPr/>
            <p:nvPr/>
          </p:nvSpPr>
          <p:spPr>
            <a:xfrm>
              <a:off x="3090960" y="1341360"/>
              <a:ext cx="29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Comic Sans MS"/>
                </a:rPr>
                <a:t>Puissanc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fournie par le pis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803200" y="134136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ntre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H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086240" y="134136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 le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32400" y="3565440"/>
            <a:ext cx="896400" cy="307080"/>
            <a:chOff x="32400" y="3565440"/>
            <a:chExt cx="896400" cy="307080"/>
          </a:xfrm>
        </p:grpSpPr>
        <p:sp>
          <p:nvSpPr>
            <p:cNvPr id="2205" name=""/>
            <p:cNvSpPr/>
            <p:nvPr/>
          </p:nvSpPr>
          <p:spPr>
            <a:xfrm flipH="1">
              <a:off x="573120" y="3817800"/>
              <a:ext cx="3556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2400" y="3565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Comic Sans MS"/>
                </a:rPr>
                <a:t>P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09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11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3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343680" y="2238480"/>
            <a:ext cx="33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Travail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ffectué par le piston: W =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590,3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57640" y="251316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emps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is par le piston entre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t le 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PMB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US" sz="1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930240" y="2265480"/>
            <a:ext cx="1486080" cy="1573200"/>
            <a:chOff x="930240" y="2265480"/>
            <a:chExt cx="1486080" cy="1573200"/>
          </a:xfrm>
        </p:grpSpPr>
        <p:sp>
          <p:nvSpPr>
            <p:cNvPr id="2219" name=""/>
            <p:cNvSpPr/>
            <p:nvPr/>
          </p:nvSpPr>
          <p:spPr>
            <a:xfrm>
              <a:off x="930240" y="2281320"/>
              <a:ext cx="1486080" cy="1557360"/>
            </a:xfrm>
            <a:custGeom>
              <a:avLst/>
              <a:gdLst/>
              <a:ahLst/>
              <a:rect l="l" t="t" r="r" b="b"/>
              <a:pathLst>
                <a:path w="936" h="981">
                  <a:moveTo>
                    <a:pt x="24" y="0"/>
                  </a:moveTo>
                  <a:lnTo>
                    <a:pt x="915" y="3"/>
                  </a:lnTo>
                  <a:lnTo>
                    <a:pt x="918" y="621"/>
                  </a:lnTo>
                  <a:lnTo>
                    <a:pt x="936" y="624"/>
                  </a:lnTo>
                  <a:lnTo>
                    <a:pt x="933" y="981"/>
                  </a:lnTo>
                  <a:lnTo>
                    <a:pt x="0" y="972"/>
                  </a:lnTo>
                  <a:lnTo>
                    <a:pt x="3" y="606"/>
                  </a:lnTo>
                  <a:lnTo>
                    <a:pt x="24" y="60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954000" y="2265480"/>
              <a:ext cx="1446120" cy="996840"/>
              <a:chOff x="954000" y="2265480"/>
              <a:chExt cx="1446120" cy="996840"/>
            </a:xfrm>
          </p:grpSpPr>
          <p:sp>
            <p:nvSpPr>
              <p:cNvPr id="2221" name=""/>
              <p:cNvSpPr/>
              <p:nvPr/>
            </p:nvSpPr>
            <p:spPr>
              <a:xfrm>
                <a:off x="954000" y="2265480"/>
                <a:ext cx="1446120" cy="996840"/>
              </a:xfrm>
              <a:custGeom>
                <a:avLst/>
                <a:gdLst/>
                <a:ahLst/>
                <a:rect l="l" t="t" r="r" b="b"/>
                <a:pathLst>
                  <a:path w="911" h="628">
                    <a:moveTo>
                      <a:pt x="0" y="619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11" y="6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969840" y="2852640"/>
                <a:ext cx="56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545840" y="2711520"/>
                <a:ext cx="27648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1584360" y="2281320"/>
              <a:ext cx="732240" cy="749160"/>
              <a:chOff x="1584360" y="2281320"/>
              <a:chExt cx="732240" cy="749160"/>
            </a:xfrm>
          </p:grpSpPr>
          <p:sp>
            <p:nvSpPr>
              <p:cNvPr id="2225" name=""/>
              <p:cNvSpPr/>
              <p:nvPr/>
            </p:nvSpPr>
            <p:spPr>
              <a:xfrm>
                <a:off x="1584360" y="2281320"/>
                <a:ext cx="216000" cy="718920"/>
              </a:xfrm>
              <a:prstGeom prst="downArrow">
                <a:avLst>
                  <a:gd name="adj1" fmla="val 50000"/>
                  <a:gd name="adj2" fmla="val 83208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1751760" y="2313000"/>
                <a:ext cx="564840" cy="717480"/>
                <a:chOff x="1751760" y="2313000"/>
                <a:chExt cx="564840" cy="71748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1751760" y="2313000"/>
                  <a:ext cx="56484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F</a:t>
                  </a:r>
                  <a:r>
                    <a:rPr b="0" lang="en-US" sz="1800" spc="-1" strike="noStrike" baseline="-25000">
                      <a:solidFill>
                        <a:srgbClr val="0000ff"/>
                      </a:solidFill>
                      <a:latin typeface="Comic Sans MS"/>
                    </a:rPr>
                    <a:t>g/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874880" y="2340000"/>
                  <a:ext cx="20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9" name=""/>
          <p:cNvSpPr/>
          <p:nvPr/>
        </p:nvSpPr>
        <p:spPr>
          <a:xfrm>
            <a:off x="24120" y="22068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-720" y="3807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t=</a:t>
            </a:r>
            <a:r>
              <a:rPr b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cc66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7255080" y="24922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00"/>
                </a:solidFill>
                <a:latin typeface="Comic Sans MS"/>
              </a:rPr>
              <a:t>t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1400" spc="-1" strike="noStrike">
                <a:solidFill>
                  <a:srgbClr val="cc6600"/>
                </a:solidFill>
                <a:latin typeface="Comic Sans MS"/>
              </a:rPr>
              <a:t>0,008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3629520" y="3249720"/>
            <a:ext cx="1843920" cy="1140480"/>
            <a:chOff x="3629520" y="3249720"/>
            <a:chExt cx="1843920" cy="1140480"/>
          </a:xfrm>
        </p:grpSpPr>
        <p:grpSp>
          <p:nvGrpSpPr>
            <p:cNvPr id="2233" name=""/>
            <p:cNvGrpSpPr/>
            <p:nvPr/>
          </p:nvGrpSpPr>
          <p:grpSpPr>
            <a:xfrm>
              <a:off x="3746880" y="3249720"/>
              <a:ext cx="1726560" cy="1131480"/>
              <a:chOff x="3746880" y="3249720"/>
              <a:chExt cx="1726560" cy="1131480"/>
            </a:xfrm>
          </p:grpSpPr>
          <p:sp>
            <p:nvSpPr>
              <p:cNvPr id="2234" name=""/>
              <p:cNvSpPr/>
              <p:nvPr/>
            </p:nvSpPr>
            <p:spPr>
              <a:xfrm>
                <a:off x="3746880" y="3537000"/>
                <a:ext cx="577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Comic Sans MS"/>
                  </a:rPr>
                  <a:t>P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365720" y="3249720"/>
                <a:ext cx="603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Comic Sans MS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383000" y="3824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483080" y="3860640"/>
                <a:ext cx="4140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33"/>
                    </a:solidFill>
                    <a:latin typeface="Comic Sans MS"/>
                  </a:rPr>
                  <a:t> </a:t>
                </a:r>
                <a:r>
                  <a:rPr b="1" lang="en-US" sz="2800" spc="-1" strike="noStrike">
                    <a:solidFill>
                      <a:srgbClr val="996633"/>
                    </a:solidFill>
                    <a:latin typeface="Comic Sans MS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022720" y="327816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J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963680" y="3873600"/>
                <a:ext cx="50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>
              <a:off x="3629520" y="393048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5706720" y="35863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289200" y="3394080"/>
            <a:ext cx="75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59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326280" y="38242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278760" y="3933720"/>
            <a:ext cx="75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Comic Sans MS"/>
              </a:rPr>
              <a:t>0,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7230600" y="3586320"/>
            <a:ext cx="1403640" cy="459720"/>
            <a:chOff x="7230600" y="3586320"/>
            <a:chExt cx="1403640" cy="459720"/>
          </a:xfrm>
        </p:grpSpPr>
        <p:sp>
          <p:nvSpPr>
            <p:cNvPr id="2246" name=""/>
            <p:cNvSpPr/>
            <p:nvPr/>
          </p:nvSpPr>
          <p:spPr>
            <a:xfrm>
              <a:off x="7230600" y="35863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578720" y="3635280"/>
              <a:ext cx="1055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73790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8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30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3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7" dur="3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3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06358E-006 L 3.88889E-006 0.2296 E">
                                      <p:cBhvr>
                                        <p:cTn id="2211" dur="2000" fill="hold"/>
                                        <p:tgtEl>
                                          <p:spTgt spid="2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9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30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20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4" dur="20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9" dur="20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086280" y="1341360"/>
            <a:ext cx="39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induite ,en bout  de vilebrequ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54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8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241800" y="2238480"/>
            <a:ext cx="368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ournie par le piston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: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264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268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272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276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7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278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0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82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3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284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6" name=""/>
          <p:cNvSpPr/>
          <p:nvPr/>
        </p:nvSpPr>
        <p:spPr>
          <a:xfrm>
            <a:off x="3086640" y="3306600"/>
            <a:ext cx="55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négligeant les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tes d’énerg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lors de la transmission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011760" y="3621240"/>
            <a:ext cx="58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st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u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ilebrequi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ar l’intermédiaire de la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iel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069000" y="3948120"/>
            <a:ext cx="566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 puissance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 vilebrequin  (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puissance moteu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 sera égale à c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672000" y="4927680"/>
            <a:ext cx="900000" cy="252360"/>
          </a:xfrm>
          <a:prstGeom prst="rightArrow">
            <a:avLst>
              <a:gd name="adj1" fmla="val 50000"/>
              <a:gd name="adj2" fmla="val 891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4737960" y="48322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P. Mote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7379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128400" y="42577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urnie par le pisto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0" dur="indefinite" restart="never" nodeType="tmRoot">
          <p:childTnLst>
            <p:seq>
              <p:cTn id="2251" dur="indefinite" nodeType="mainSeq">
                <p:childTnLst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30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3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7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3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3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3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3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3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/>
          <p:nvPr/>
        </p:nvSpPr>
        <p:spPr>
          <a:xfrm>
            <a:off x="934920" y="1916280"/>
            <a:ext cx="1478160" cy="19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117960" y="1341360"/>
            <a:ext cx="25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Couple moteur maxi ( CM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7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298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00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2" name=""/>
          <p:cNvSpPr/>
          <p:nvPr/>
        </p:nvSpPr>
        <p:spPr>
          <a:xfrm>
            <a:off x="3101760" y="158904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phase </a:t>
            </a: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Combustion détente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141000" y="1925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nné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25600" y="223848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uissance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oteur au couple maxi :</a:t>
            </a:r>
            <a:r>
              <a:rPr b="0" i="1" lang="en-US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P M= </a:t>
            </a:r>
            <a:r>
              <a:rPr b="1" i="1" lang="en-US" sz="1400" spc="-1" strike="noStrike">
                <a:solidFill>
                  <a:srgbClr val="ff0066"/>
                </a:solidFill>
                <a:latin typeface="Comic Sans MS"/>
              </a:rPr>
              <a:t>73790 </a:t>
            </a:r>
            <a:r>
              <a:rPr b="0" i="1" lang="en-US" sz="1400" spc="-1" strike="noStrike">
                <a:solidFill>
                  <a:srgbClr val="ff0066"/>
                </a:solidFill>
                <a:latin typeface="Comic Sans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132000" y="1935000"/>
            <a:ext cx="5062680" cy="9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930240" y="2928960"/>
            <a:ext cx="1486080" cy="1557360"/>
          </a:xfrm>
          <a:custGeom>
            <a:avLst/>
            <a:gdLst/>
            <a:ahLst/>
            <a:rect l="l" t="t" r="r" b="b"/>
            <a:pathLst>
              <a:path w="936" h="981">
                <a:moveTo>
                  <a:pt x="24" y="0"/>
                </a:moveTo>
                <a:lnTo>
                  <a:pt x="915" y="3"/>
                </a:lnTo>
                <a:lnTo>
                  <a:pt x="918" y="621"/>
                </a:lnTo>
                <a:lnTo>
                  <a:pt x="936" y="624"/>
                </a:lnTo>
                <a:lnTo>
                  <a:pt x="933" y="981"/>
                </a:lnTo>
                <a:lnTo>
                  <a:pt x="0" y="972"/>
                </a:lnTo>
                <a:lnTo>
                  <a:pt x="3" y="606"/>
                </a:lnTo>
                <a:lnTo>
                  <a:pt x="24" y="60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954000" y="2913120"/>
            <a:ext cx="1446120" cy="996840"/>
            <a:chOff x="954000" y="2913120"/>
            <a:chExt cx="1446120" cy="996840"/>
          </a:xfrm>
        </p:grpSpPr>
        <p:sp>
          <p:nvSpPr>
            <p:cNvPr id="2308" name=""/>
            <p:cNvSpPr/>
            <p:nvPr/>
          </p:nvSpPr>
          <p:spPr>
            <a:xfrm>
              <a:off x="954000" y="2913120"/>
              <a:ext cx="1446120" cy="996840"/>
            </a:xfrm>
            <a:custGeom>
              <a:avLst/>
              <a:gdLst/>
              <a:ahLst/>
              <a:rect l="l" t="t" r="r" b="b"/>
              <a:pathLst>
                <a:path w="911" h="628">
                  <a:moveTo>
                    <a:pt x="0" y="619"/>
                  </a:moveTo>
                  <a:lnTo>
                    <a:pt x="0" y="0"/>
                  </a:lnTo>
                  <a:lnTo>
                    <a:pt x="911" y="0"/>
                  </a:lnTo>
                  <a:lnTo>
                    <a:pt x="911" y="6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69840" y="3500280"/>
              <a:ext cx="56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545840" y="3359160"/>
              <a:ext cx="27648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513080" y="5277240"/>
            <a:ext cx="1085040" cy="583560"/>
            <a:chOff x="1513080" y="5277240"/>
            <a:chExt cx="1085040" cy="583560"/>
          </a:xfrm>
        </p:grpSpPr>
        <p:sp>
          <p:nvSpPr>
            <p:cNvPr id="2312" name=""/>
            <p:cNvSpPr/>
            <p:nvPr/>
          </p:nvSpPr>
          <p:spPr>
            <a:xfrm rot="4335000">
              <a:off x="2286360" y="531252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802880" y="5491080"/>
              <a:ext cx="4957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4335000">
              <a:off x="1548360" y="554904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1502640" y="3319200"/>
            <a:ext cx="1103400" cy="2316240"/>
            <a:chOff x="1502640" y="3319200"/>
            <a:chExt cx="1103400" cy="2316240"/>
          </a:xfrm>
        </p:grpSpPr>
        <p:sp>
          <p:nvSpPr>
            <p:cNvPr id="2316" name=""/>
            <p:cNvSpPr/>
            <p:nvPr/>
          </p:nvSpPr>
          <p:spPr>
            <a:xfrm rot="20348400">
              <a:off x="1542600" y="335916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733760" y="3640680"/>
              <a:ext cx="64836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0348400">
              <a:off x="2289600" y="5319000"/>
              <a:ext cx="276120" cy="276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1170000" y="5533920"/>
            <a:ext cx="379080" cy="395280"/>
            <a:chOff x="1170000" y="5533920"/>
            <a:chExt cx="379080" cy="395280"/>
          </a:xfrm>
        </p:grpSpPr>
        <p:sp>
          <p:nvSpPr>
            <p:cNvPr id="2320" name=""/>
            <p:cNvSpPr/>
            <p:nvPr/>
          </p:nvSpPr>
          <p:spPr>
            <a:xfrm flipH="1">
              <a:off x="1345680" y="571500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1170000" y="5533920"/>
              <a:ext cx="172800" cy="395280"/>
              <a:chOff x="1170000" y="5533920"/>
              <a:chExt cx="172800" cy="395280"/>
            </a:xfrm>
          </p:grpSpPr>
          <p:sp>
            <p:nvSpPr>
              <p:cNvPr id="2322" name=""/>
              <p:cNvSpPr/>
              <p:nvPr/>
            </p:nvSpPr>
            <p:spPr>
              <a:xfrm>
                <a:off x="1342800" y="553572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70000" y="5533920"/>
                <a:ext cx="166680" cy="38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4" name=""/>
          <p:cNvSpPr/>
          <p:nvPr/>
        </p:nvSpPr>
        <p:spPr>
          <a:xfrm>
            <a:off x="925560" y="1905120"/>
            <a:ext cx="1503360" cy="2717640"/>
          </a:xfrm>
          <a:custGeom>
            <a:avLst/>
            <a:gdLst/>
            <a:ahLst/>
            <a:rect l="l" t="t" r="r" b="b"/>
            <a:pathLst>
              <a:path w="947" h="1712">
                <a:moveTo>
                  <a:pt x="0" y="1686"/>
                </a:moveTo>
                <a:lnTo>
                  <a:pt x="0" y="0"/>
                </a:lnTo>
                <a:lnTo>
                  <a:pt x="947" y="0"/>
                </a:lnTo>
                <a:lnTo>
                  <a:pt x="947" y="17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427480" y="3184560"/>
            <a:ext cx="379080" cy="395280"/>
            <a:chOff x="2427480" y="3184560"/>
            <a:chExt cx="379080" cy="395280"/>
          </a:xfrm>
        </p:grpSpPr>
        <p:sp>
          <p:nvSpPr>
            <p:cNvPr id="2326" name=""/>
            <p:cNvSpPr/>
            <p:nvPr/>
          </p:nvSpPr>
          <p:spPr>
            <a:xfrm>
              <a:off x="2427480" y="3398760"/>
              <a:ext cx="20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2633760" y="3184560"/>
              <a:ext cx="172800" cy="395280"/>
              <a:chOff x="2633760" y="3184560"/>
              <a:chExt cx="172800" cy="395280"/>
            </a:xfrm>
          </p:grpSpPr>
          <p:sp>
            <p:nvSpPr>
              <p:cNvPr id="2328" name=""/>
              <p:cNvSpPr/>
              <p:nvPr/>
            </p:nvSpPr>
            <p:spPr>
              <a:xfrm flipV="1">
                <a:off x="2633760" y="318456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rot="10800000">
                <a:off x="2639880" y="3193920"/>
                <a:ext cx="166680" cy="385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0" name=""/>
          <p:cNvSpPr/>
          <p:nvPr/>
        </p:nvSpPr>
        <p:spPr>
          <a:xfrm>
            <a:off x="85680" y="800280"/>
            <a:ext cx="83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pplication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ravail ,puissance et  couple d’un moteur th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916600" y="3162240"/>
            <a:ext cx="360360" cy="250920"/>
          </a:xfrm>
          <a:prstGeom prst="rightArrow">
            <a:avLst>
              <a:gd name="adj1" fmla="val 50000"/>
              <a:gd name="adj2" fmla="val 359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201480" y="2525760"/>
            <a:ext cx="42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Vitesse moteur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au couple maxi: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= 3750 tr.min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3222000" y="2997360"/>
            <a:ext cx="1967400" cy="469080"/>
            <a:chOff x="3222000" y="2997360"/>
            <a:chExt cx="1967400" cy="469080"/>
          </a:xfrm>
        </p:grpSpPr>
        <p:sp>
          <p:nvSpPr>
            <p:cNvPr id="2334" name=""/>
            <p:cNvSpPr/>
            <p:nvPr/>
          </p:nvSpPr>
          <p:spPr>
            <a:xfrm>
              <a:off x="3222000" y="2997360"/>
              <a:ext cx="372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87480" y="300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61040" y="299736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 . </a:t>
              </a:r>
              <a:r>
                <a:rPr b="1" lang="en-US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3109320" y="3249720"/>
            <a:ext cx="2827440" cy="461160"/>
            <a:chOff x="3109320" y="3249720"/>
            <a:chExt cx="2827440" cy="461160"/>
          </a:xfrm>
        </p:grpSpPr>
        <p:sp>
          <p:nvSpPr>
            <p:cNvPr id="2338" name=""/>
            <p:cNvSpPr/>
            <p:nvPr/>
          </p:nvSpPr>
          <p:spPr>
            <a:xfrm>
              <a:off x="3109320" y="33256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58920" y="32511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N.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27960" y="32497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rad.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6386760" y="3044880"/>
            <a:ext cx="2206080" cy="459720"/>
            <a:chOff x="6386760" y="3044880"/>
            <a:chExt cx="2206080" cy="459720"/>
          </a:xfrm>
        </p:grpSpPr>
        <p:sp>
          <p:nvSpPr>
            <p:cNvPr id="2342" name=""/>
            <p:cNvSpPr/>
            <p:nvPr/>
          </p:nvSpPr>
          <p:spPr>
            <a:xfrm>
              <a:off x="6386760" y="3106800"/>
              <a:ext cx="53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80680" y="304488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494480" y="310680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CM . </a:t>
              </a: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5" name=""/>
          <p:cNvSpPr/>
          <p:nvPr/>
        </p:nvSpPr>
        <p:spPr>
          <a:xfrm rot="5400000">
            <a:off x="7174080" y="3706920"/>
            <a:ext cx="374400" cy="250560"/>
          </a:xfrm>
          <a:prstGeom prst="rightArrow">
            <a:avLst>
              <a:gd name="adj1" fmla="val 50000"/>
              <a:gd name="adj2" fmla="val 373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6580800" y="4041720"/>
            <a:ext cx="1697760" cy="806400"/>
            <a:chOff x="6580800" y="4041720"/>
            <a:chExt cx="1697760" cy="806400"/>
          </a:xfrm>
        </p:grpSpPr>
        <p:sp>
          <p:nvSpPr>
            <p:cNvPr id="2347" name=""/>
            <p:cNvSpPr/>
            <p:nvPr/>
          </p:nvSpPr>
          <p:spPr>
            <a:xfrm>
              <a:off x="6580800" y="4260960"/>
              <a:ext cx="54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66440" y="419904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34160" y="447984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</a:t>
              </a:r>
              <a:r>
                <a:rPr b="1" lang="fr-FR" sz="1800" spc="-1" strike="noStrike">
                  <a:solidFill>
                    <a:srgbClr val="ff66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50360" y="404172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Comic Sans MS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651440" y="443700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2" name=""/>
          <p:cNvSpPr/>
          <p:nvPr/>
        </p:nvSpPr>
        <p:spPr>
          <a:xfrm rot="5400000">
            <a:off x="7678440" y="4930560"/>
            <a:ext cx="374400" cy="250920"/>
          </a:xfrm>
          <a:prstGeom prst="rightArrow">
            <a:avLst>
              <a:gd name="adj1" fmla="val 50000"/>
              <a:gd name="adj2" fmla="val 373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7449120" y="5300640"/>
            <a:ext cx="892440" cy="806400"/>
            <a:chOff x="7449120" y="5300640"/>
            <a:chExt cx="892440" cy="806400"/>
          </a:xfrm>
        </p:grpSpPr>
        <p:sp>
          <p:nvSpPr>
            <p:cNvPr id="2354" name=""/>
            <p:cNvSpPr/>
            <p:nvPr/>
          </p:nvSpPr>
          <p:spPr>
            <a:xfrm>
              <a:off x="7711920" y="5738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449120" y="53006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615080" y="569592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4965480" y="5373720"/>
            <a:ext cx="1649880" cy="731880"/>
            <a:chOff x="4965480" y="5373720"/>
            <a:chExt cx="1649880" cy="731880"/>
          </a:xfrm>
        </p:grpSpPr>
        <p:sp>
          <p:nvSpPr>
            <p:cNvPr id="2358" name=""/>
            <p:cNvSpPr/>
            <p:nvPr/>
          </p:nvSpPr>
          <p:spPr>
            <a:xfrm>
              <a:off x="5689800" y="5737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65480" y="5373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. 3,14 . 37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19640" y="573408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 rot="10800000">
            <a:off x="6708240" y="554472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420880" y="45086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39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rot="16200000">
            <a:off x="5618160" y="5079600"/>
            <a:ext cx="374760" cy="250920"/>
          </a:xfrm>
          <a:prstGeom prst="rightArrow">
            <a:avLst>
              <a:gd name="adj1" fmla="val 50000"/>
              <a:gd name="adj2" fmla="val 37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635760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472000" y="4476600"/>
            <a:ext cx="27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472000" y="44737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24120" y="40719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73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81464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3831120" y="42642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027440" y="5132520"/>
            <a:ext cx="1224720" cy="15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92640" y="47689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8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3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3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9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3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30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3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2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3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3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1" dur="3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6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3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6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2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6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20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1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1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2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27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44680" y="407664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oteur ther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6771 -0.05764 E">
                                      <p:cBhvr>
                                        <p:cTn id="23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64514 -0.01666 E">
                                      <p:cBhvr>
                                        <p:cTn id="23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1800" y="99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énerg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46440" y="146448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ractérise l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acité à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produir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des action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084640"/>
            <a:ext cx="118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81360" y="195804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xemp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duire un mouveme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5360" y="47800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finition de l’énergéti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65520" y="237744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eut prendr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es form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3640" y="5245920"/>
            <a:ext cx="84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Elle est la partie de la mécanique appliquée qui étudie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ation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920" y="5547600"/>
            <a:ext cx="53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 l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effet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 différentes 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formes d’énergi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b4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our au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859280" y="3249720"/>
            <a:ext cx="2933640" cy="1131840"/>
            <a:chOff x="4859280" y="3249720"/>
            <a:chExt cx="2933640" cy="1131840"/>
          </a:xfrm>
        </p:grpSpPr>
        <p:sp>
          <p:nvSpPr>
            <p:cNvPr id="152" name=""/>
            <p:cNvSpPr/>
            <p:nvPr/>
          </p:nvSpPr>
          <p:spPr>
            <a:xfrm>
              <a:off x="5568840" y="3249720"/>
              <a:ext cx="151308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928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94520" y="3645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9600" y="40384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837040" y="438156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9362600">
            <a:off x="7536960" y="4635360"/>
            <a:ext cx="252720" cy="671760"/>
          </a:xfrm>
          <a:prstGeom prst="upArrow">
            <a:avLst>
              <a:gd name="adj1" fmla="val 50000"/>
              <a:gd name="adj2" fmla="val 66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17360" y="3309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9600" y="407664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tern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27806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2760" y="3079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720" y="3644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im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5840" y="33458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mécaniq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8400" y="3953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e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5120" y="4220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25278 -0.01481 E">
                                      <p:cBhvr>
                                        <p:cTn id="24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0.63784 -0.10509 E">
                                      <p:cBhvr>
                                        <p:cTn id="25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98560" y="6148440"/>
            <a:ext cx="8094600" cy="257040"/>
            <a:chOff x="898560" y="6148440"/>
            <a:chExt cx="8094600" cy="257040"/>
          </a:xfrm>
        </p:grpSpPr>
        <p:sp>
          <p:nvSpPr>
            <p:cNvPr id="172" name=""/>
            <p:cNvSpPr/>
            <p:nvPr/>
          </p:nvSpPr>
          <p:spPr>
            <a:xfrm>
              <a:off x="898560" y="6153120"/>
              <a:ext cx="806616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75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27720" y="5281560"/>
            <a:ext cx="662040" cy="863640"/>
            <a:chOff x="6327720" y="5281560"/>
            <a:chExt cx="662040" cy="863640"/>
          </a:xfrm>
        </p:grpSpPr>
        <p:sp>
          <p:nvSpPr>
            <p:cNvPr id="179" name=""/>
            <p:cNvSpPr/>
            <p:nvPr/>
          </p:nvSpPr>
          <p:spPr>
            <a:xfrm>
              <a:off x="66564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673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77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274840" y="570384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0052 2.22222E-006 L 0.55782 2.22222E-006 E">
                                      <p:cBhvr>
                                        <p:cTn id="298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98760" y="5810400"/>
            <a:ext cx="771480" cy="333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8000" y="9428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on de trav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2602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2600" y="1464480"/>
            <a:ext cx="80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ava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ce qu’il fau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nir à un systè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ur 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5560" y="1801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’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initi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à un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tat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34280" y="220896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marque: </a:t>
            </a:r>
            <a:r>
              <a:rPr b="1" i="1" lang="en-US" sz="1800" spc="-1" strike="noStrike">
                <a:solidFill>
                  <a:srgbClr val="339933"/>
                </a:solidFill>
                <a:latin typeface="Comic Sans MS"/>
              </a:rPr>
              <a:t>Les moyens utilisé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n’ont pas d’incidence sur le résultat obten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98560" y="6148440"/>
            <a:ext cx="8094600" cy="268200"/>
            <a:chOff x="898560" y="6148440"/>
            <a:chExt cx="8094600" cy="268200"/>
          </a:xfrm>
        </p:grpSpPr>
        <p:sp>
          <p:nvSpPr>
            <p:cNvPr id="191" name=""/>
            <p:cNvSpPr/>
            <p:nvPr/>
          </p:nvSpPr>
          <p:spPr>
            <a:xfrm>
              <a:off x="898560" y="6164280"/>
              <a:ext cx="80658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3240" y="6148440"/>
              <a:ext cx="80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226880" y="5281560"/>
            <a:ext cx="708120" cy="863640"/>
            <a:chOff x="1226880" y="5281560"/>
            <a:chExt cx="708120" cy="863640"/>
          </a:xfrm>
        </p:grpSpPr>
        <p:sp>
          <p:nvSpPr>
            <p:cNvPr id="194" name=""/>
            <p:cNvSpPr/>
            <p:nvPr/>
          </p:nvSpPr>
          <p:spPr>
            <a:xfrm>
              <a:off x="156204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7296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6880" y="528156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315120" y="5281560"/>
            <a:ext cx="662040" cy="863640"/>
            <a:chOff x="6315120" y="5281560"/>
            <a:chExt cx="662040" cy="863640"/>
          </a:xfrm>
        </p:grpSpPr>
        <p:sp>
          <p:nvSpPr>
            <p:cNvPr id="198" name=""/>
            <p:cNvSpPr/>
            <p:nvPr/>
          </p:nvSpPr>
          <p:spPr>
            <a:xfrm>
              <a:off x="6643800" y="5460840"/>
              <a:ext cx="3636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4720" y="5310000"/>
              <a:ext cx="622440" cy="15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15120" y="528156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Etat fi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24480" y="4194000"/>
            <a:ext cx="990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8120" y="5800680"/>
            <a:ext cx="782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98760" y="5013360"/>
            <a:ext cx="2146320" cy="1135080"/>
            <a:chOff x="1598760" y="5013360"/>
            <a:chExt cx="2146320" cy="1135080"/>
          </a:xfrm>
        </p:grpSpPr>
        <p:sp>
          <p:nvSpPr>
            <p:cNvPr id="204" name=""/>
            <p:cNvSpPr/>
            <p:nvPr/>
          </p:nvSpPr>
          <p:spPr>
            <a:xfrm>
              <a:off x="2274840" y="570384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808600"/>
              <a:ext cx="771480" cy="333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98760" y="597060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0240" y="58593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cubicBezTo>
                    <a:pt x="3" y="29"/>
                    <a:pt x="5" y="39"/>
                    <a:pt x="17" y="10"/>
                  </a:cubicBezTo>
                  <a:cubicBezTo>
                    <a:pt x="18" y="1"/>
                    <a:pt x="20" y="1"/>
                    <a:pt x="29" y="0"/>
                  </a:cubicBezTo>
                  <a:cubicBezTo>
                    <a:pt x="35" y="8"/>
                    <a:pt x="31" y="18"/>
                    <a:pt x="27" y="27"/>
                  </a:cubicBezTo>
                  <a:cubicBezTo>
                    <a:pt x="25" y="38"/>
                    <a:pt x="11" y="39"/>
                    <a:pt x="6" y="51"/>
                  </a:cubicBezTo>
                  <a:cubicBezTo>
                    <a:pt x="5" y="58"/>
                    <a:pt x="6" y="65"/>
                    <a:pt x="0" y="6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0240" y="595620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0" y="11"/>
                  </a:moveTo>
                  <a:cubicBezTo>
                    <a:pt x="9" y="7"/>
                    <a:pt x="17" y="4"/>
                    <a:pt x="26" y="0"/>
                  </a:cubicBezTo>
                  <a:cubicBezTo>
                    <a:pt x="35" y="2"/>
                    <a:pt x="40" y="0"/>
                    <a:pt x="42" y="9"/>
                  </a:cubicBezTo>
                  <a:cubicBezTo>
                    <a:pt x="41" y="27"/>
                    <a:pt x="45" y="48"/>
                    <a:pt x="23" y="32"/>
                  </a:cubicBezTo>
                  <a:cubicBezTo>
                    <a:pt x="20" y="27"/>
                    <a:pt x="7" y="4"/>
                    <a:pt x="0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374920" y="5553000"/>
              <a:ext cx="82872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2771640" y="5013360"/>
              <a:ext cx="97344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55694 2.59259E-006 E">
                                      <p:cBhvr>
                                        <p:cTn id="311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49:43Z</dcterms:created>
  <dc:creator>GENERIQUE</dc:creator>
  <dc:description/>
  <dc:language>en-US</dc:language>
  <cp:lastModifiedBy>GENERIQUE</cp:lastModifiedBy>
  <dcterms:modified xsi:type="dcterms:W3CDTF">2010-05-04T14:31:57Z</dcterms:modified>
  <cp:revision>343</cp:revision>
  <dc:subject/>
  <dc:title>Diapositive 1</dc:title>
</cp:coreProperties>
</file>