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907588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FF57-2F3E-4ED8-9C2C-B0023B41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21F-80D9-4BE6-A967-439C7B0B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1E4-A03D-402D-8E11-C170A201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664-8940-4830-AF33-328F0B5A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EF3-F60C-45EC-9E80-4E380637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C97-C0AC-43FD-ABD0-6A8E7846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D0E-6203-4C03-AD46-EA90EE26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4EE-9E60-49E2-B322-E4999657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814-44B0-4336-B483-F282861B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127-FECC-44F6-A8BD-D4163FA7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1C2-C07E-47EC-870F-CA110765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3C5-FE20-4799-AC55-5E815344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13F4-3079-49E9-9F54-835FF731D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57240"/>
            <a:ext cx="6781680" cy="984888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9200" y="5262480"/>
            <a:ext cx="501084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bobine Haute Tension d’allu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6200" y="6634080"/>
            <a:ext cx="649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éterminer la courbe de l’intensité primaire,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émontrer l’importance du temps de rempli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6654960"/>
            <a:ext cx="6597720" cy="1739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080" y="927432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8840" y="2260440"/>
            <a:ext cx="5884200" cy="13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ALLUMA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50760" y="453960"/>
            <a:ext cx="5475600" cy="20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Arial Black"/>
              </a:rPr>
              <a:t>ALLUM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6586560" y="1270080"/>
            <a:ext cx="12600" cy="1260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05520" y="1066680"/>
            <a:ext cx="277920" cy="2127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3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83440" y="1279440"/>
            <a:ext cx="277560" cy="2127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3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99040" y="1276200"/>
            <a:ext cx="59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36880" y="1295280"/>
            <a:ext cx="3214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 (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97600" y="1012680"/>
            <a:ext cx="2520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6559200" y="1250640"/>
            <a:ext cx="3636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559200" y="1271520"/>
            <a:ext cx="4284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2400" y="1353960"/>
            <a:ext cx="85680" cy="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02440" y="1386000"/>
            <a:ext cx="7452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91280" y="1397160"/>
            <a:ext cx="3636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5040" y="1258920"/>
            <a:ext cx="55800" cy="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002280" y="992160"/>
            <a:ext cx="0" cy="542880"/>
          </a:xfrm>
          <a:prstGeom prst="line">
            <a:avLst/>
          </a:prstGeom>
          <a:ln w="32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33440" y="200160"/>
            <a:ext cx="531360" cy="863640"/>
            <a:chOff x="433440" y="200160"/>
            <a:chExt cx="531360" cy="86364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33440" y="200160"/>
              <a:ext cx="2620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85720" y="1024920"/>
              <a:ext cx="375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4280" y="1012320"/>
              <a:ext cx="111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98760" y="926640"/>
              <a:ext cx="6264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3200" y="928440"/>
              <a:ext cx="20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19440" y="930600"/>
              <a:ext cx="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909720" y="934200"/>
              <a:ext cx="756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7640" y="934200"/>
              <a:ext cx="9360" cy="2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909720" y="1002600"/>
              <a:ext cx="756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17640" y="1001160"/>
              <a:ext cx="5400" cy="2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854640" y="951120"/>
              <a:ext cx="45720" cy="47880"/>
              <a:chOff x="854640" y="951120"/>
              <a:chExt cx="45720" cy="47880"/>
            </a:xfrm>
          </p:grpSpPr>
          <p:sp>
            <p:nvSpPr>
              <p:cNvPr id="73" name=""/>
              <p:cNvSpPr/>
              <p:nvPr/>
            </p:nvSpPr>
            <p:spPr>
              <a:xfrm>
                <a:off x="854640" y="951480"/>
                <a:ext cx="4176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856440" y="951120"/>
                <a:ext cx="4392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14880" y="1979640"/>
            <a:ext cx="75240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524560" y="2413080"/>
            <a:ext cx="712800" cy="433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90520" y="2075040"/>
            <a:ext cx="584280" cy="7999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108240" y="2274840"/>
            <a:ext cx="503280" cy="778320"/>
            <a:chOff x="3108240" y="2274840"/>
            <a:chExt cx="503280" cy="778320"/>
          </a:xfrm>
        </p:grpSpPr>
        <p:sp>
          <p:nvSpPr>
            <p:cNvPr id="79" name=""/>
            <p:cNvSpPr/>
            <p:nvPr/>
          </p:nvSpPr>
          <p:spPr>
            <a:xfrm>
              <a:off x="3177360" y="2274840"/>
              <a:ext cx="434160" cy="283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108240" y="2558520"/>
              <a:ext cx="502560" cy="21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24800" y="2741040"/>
              <a:ext cx="353520" cy="31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2" name=""/>
          <p:cNvGraphicFramePr/>
          <p:nvPr/>
        </p:nvGraphicFramePr>
        <p:xfrm>
          <a:off x="260280" y="3873600"/>
          <a:ext cx="6300720" cy="5511600"/>
        </p:xfrm>
        <a:graphic>
          <a:graphicData uri="http://schemas.openxmlformats.org/drawingml/2006/table">
            <a:tbl>
              <a:tblPr/>
              <a:tblGrid>
                <a:gridCol w="792360"/>
                <a:gridCol w="5508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2708280" y="3169080"/>
            <a:ext cx="230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M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912960" y="41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 bobine Haute Ten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41360" y="2603520"/>
            <a:ext cx="5040000" cy="4436640"/>
            <a:chOff x="441360" y="2603520"/>
            <a:chExt cx="5040000" cy="4436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64400" y="3123360"/>
              <a:ext cx="1574280" cy="39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V="1">
              <a:off x="5419800" y="5785200"/>
              <a:ext cx="1800" cy="28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68720" y="3496320"/>
              <a:ext cx="1800" cy="10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70520" y="2603520"/>
              <a:ext cx="1440" cy="28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432760" y="2612160"/>
              <a:ext cx="1800" cy="144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41360" y="5769360"/>
              <a:ext cx="1800" cy="10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444480" y="3843720"/>
              <a:ext cx="179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479560" y="4575600"/>
              <a:ext cx="1800" cy="252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52080" y="24066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e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99880" y="245916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mentation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0240" y="33955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yau de fer do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01320" y="33955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uleme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25880" y="449424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ulement second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22640" y="57196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rtie H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920" y="56466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rtie H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171880"/>
            <a:ext cx="6480360" cy="1871640"/>
          </a:xfrm>
          <a:custGeom>
            <a:avLst/>
            <a:gdLst/>
            <a:ahLst/>
            <a:rect l="l" t="t" r="r" b="b"/>
            <a:pathLst>
              <a:path w="4082" h="1225">
                <a:moveTo>
                  <a:pt x="91" y="227"/>
                </a:moveTo>
                <a:lnTo>
                  <a:pt x="182" y="136"/>
                </a:lnTo>
                <a:lnTo>
                  <a:pt x="454" y="91"/>
                </a:lnTo>
                <a:lnTo>
                  <a:pt x="1452" y="0"/>
                </a:lnTo>
                <a:lnTo>
                  <a:pt x="2087" y="0"/>
                </a:lnTo>
                <a:lnTo>
                  <a:pt x="3266" y="46"/>
                </a:lnTo>
                <a:lnTo>
                  <a:pt x="3674" y="182"/>
                </a:lnTo>
                <a:lnTo>
                  <a:pt x="3992" y="499"/>
                </a:lnTo>
                <a:lnTo>
                  <a:pt x="4082" y="998"/>
                </a:lnTo>
                <a:lnTo>
                  <a:pt x="3810" y="1225"/>
                </a:lnTo>
                <a:lnTo>
                  <a:pt x="2858" y="1225"/>
                </a:lnTo>
                <a:lnTo>
                  <a:pt x="1542" y="1225"/>
                </a:lnTo>
                <a:lnTo>
                  <a:pt x="1270" y="771"/>
                </a:lnTo>
                <a:lnTo>
                  <a:pt x="817" y="681"/>
                </a:lnTo>
                <a:lnTo>
                  <a:pt x="272" y="635"/>
                </a:lnTo>
                <a:lnTo>
                  <a:pt x="45" y="454"/>
                </a:lnTo>
                <a:lnTo>
                  <a:pt x="0" y="318"/>
                </a:lnTo>
                <a:lnTo>
                  <a:pt x="45" y="227"/>
                </a:lnTo>
                <a:lnTo>
                  <a:pt x="136" y="182"/>
                </a:lnTo>
              </a:path>
            </a:pathLst>
          </a:custGeom>
          <a:noFill/>
          <a:ln w="1908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88600" y="1857240"/>
            <a:ext cx="34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es éléments du circui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711520" y="3122640"/>
            <a:ext cx="698400" cy="851040"/>
            <a:chOff x="2711520" y="3122640"/>
            <a:chExt cx="698400" cy="851040"/>
          </a:xfrm>
        </p:grpSpPr>
        <p:sp>
          <p:nvSpPr>
            <p:cNvPr id="104" name=""/>
            <p:cNvSpPr/>
            <p:nvPr/>
          </p:nvSpPr>
          <p:spPr>
            <a:xfrm>
              <a:off x="2873520" y="3144960"/>
              <a:ext cx="536400" cy="82872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11520" y="3122640"/>
              <a:ext cx="203040" cy="84132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1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5480" y="7300800"/>
            <a:ext cx="1573200" cy="391644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711520" y="7299360"/>
            <a:ext cx="698400" cy="851040"/>
            <a:chOff x="2711520" y="7299360"/>
            <a:chExt cx="698400" cy="851040"/>
          </a:xfrm>
        </p:grpSpPr>
        <p:sp>
          <p:nvSpPr>
            <p:cNvPr id="108" name=""/>
            <p:cNvSpPr/>
            <p:nvPr/>
          </p:nvSpPr>
          <p:spPr>
            <a:xfrm>
              <a:off x="2873520" y="7321680"/>
              <a:ext cx="536400" cy="82872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11520" y="7299360"/>
              <a:ext cx="203040" cy="84132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581360" y="596124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9720" y="596124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62499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32640" y="62499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639288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34080" y="6392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37000" y="6392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5733360" y="6536160"/>
            <a:ext cx="792720" cy="505440"/>
          </a:xfrm>
          <a:prstGeom prst="bentConnector3">
            <a:avLst>
              <a:gd name="adj1" fmla="val 36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6" idx="0"/>
            <a:endCxn id="119" idx="0"/>
          </p:cNvCxnSpPr>
          <p:nvPr/>
        </p:nvCxnSpPr>
        <p:spPr>
          <a:xfrm rot="5400000">
            <a:off x="3609360" y="6201360"/>
            <a:ext cx="646920" cy="1008720"/>
          </a:xfrm>
          <a:prstGeom prst="bentConnector3">
            <a:avLst>
              <a:gd name="adj1" fmla="val 22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 flipV="1">
            <a:off x="3429000" y="70423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708280" y="70423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936440" y="6392880"/>
            <a:ext cx="26820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434960" y="6310080"/>
            <a:ext cx="5032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197000" y="63928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04640" y="7184520"/>
            <a:ext cx="649440" cy="145080"/>
            <a:chOff x="404640" y="7184520"/>
            <a:chExt cx="649440" cy="145080"/>
          </a:xfrm>
        </p:grpSpPr>
        <p:grpSp>
          <p:nvGrpSpPr>
            <p:cNvPr id="126" name=""/>
            <p:cNvGrpSpPr/>
            <p:nvPr/>
          </p:nvGrpSpPr>
          <p:grpSpPr>
            <a:xfrm>
              <a:off x="404640" y="7257960"/>
              <a:ext cx="649440" cy="71640"/>
              <a:chOff x="404640" y="7257960"/>
              <a:chExt cx="649440" cy="7164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404640" y="7257960"/>
                <a:ext cx="64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484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629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7740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43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98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46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V="1">
              <a:off x="765000" y="718452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019560" y="7184520"/>
            <a:ext cx="649080" cy="145080"/>
            <a:chOff x="6019560" y="7184520"/>
            <a:chExt cx="649080" cy="145080"/>
          </a:xfrm>
        </p:grpSpPr>
        <p:grpSp>
          <p:nvGrpSpPr>
            <p:cNvPr id="136" name=""/>
            <p:cNvGrpSpPr/>
            <p:nvPr/>
          </p:nvGrpSpPr>
          <p:grpSpPr>
            <a:xfrm>
              <a:off x="6019560" y="7257960"/>
              <a:ext cx="649080" cy="71640"/>
              <a:chOff x="6019560" y="7257960"/>
              <a:chExt cx="649080" cy="71640"/>
            </a:xfrm>
          </p:grpSpPr>
          <p:sp>
            <p:nvSpPr>
              <p:cNvPr id="137" name=""/>
              <p:cNvSpPr/>
              <p:nvPr/>
            </p:nvSpPr>
            <p:spPr>
              <a:xfrm flipH="1">
                <a:off x="6019560" y="7257960"/>
                <a:ext cx="64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637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47820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9268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2492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351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199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6379920" y="718452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"/>
          <p:cNvCxnSpPr>
            <a:stCxn id="121" idx="0"/>
            <a:endCxn id="122" idx="0"/>
          </p:cNvCxnSpPr>
          <p:nvPr/>
        </p:nvCxnSpPr>
        <p:spPr>
          <a:xfrm flipV="1" rot="16200000">
            <a:off x="2151360" y="6471000"/>
            <a:ext cx="612000" cy="501840"/>
          </a:xfrm>
          <a:prstGeom prst="bentConnector3">
            <a:avLst>
              <a:gd name="adj1" fmla="val 10282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endCxn id="124" idx="0"/>
          </p:cNvCxnSpPr>
          <p:nvPr/>
        </p:nvCxnSpPr>
        <p:spPr>
          <a:xfrm flipH="1" flipV="1" rot="5400000">
            <a:off x="584640" y="6586920"/>
            <a:ext cx="792720" cy="432720"/>
          </a:xfrm>
          <a:prstGeom prst="bentConnector3">
            <a:avLst>
              <a:gd name="adj1" fmla="val 100181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2730600" y="7329600"/>
            <a:ext cx="698400" cy="850320"/>
            <a:chOff x="2730600" y="7329600"/>
            <a:chExt cx="698400" cy="850320"/>
          </a:xfrm>
        </p:grpSpPr>
        <p:sp>
          <p:nvSpPr>
            <p:cNvPr id="148" name=""/>
            <p:cNvSpPr/>
            <p:nvPr/>
          </p:nvSpPr>
          <p:spPr>
            <a:xfrm>
              <a:off x="2892600" y="7351560"/>
              <a:ext cx="536400" cy="82836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0600" y="7329600"/>
              <a:ext cx="203040" cy="84096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04640" y="560160"/>
            <a:ext cx="613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ude du coura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 du courant traversant l’enroulement primaire en fonction du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152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876320" y="2575080"/>
            <a:ext cx="3228480" cy="31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663440" y="988200"/>
            <a:ext cx="2349000" cy="31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7" y="79"/>
                </a:moveTo>
                <a:arcTo wR="10800" hR="10800" stAng="-4983073" swAng="4983073"/>
                <a:lnTo>
                  <a:pt x="10800" y="10800"/>
                </a:lnTo>
                <a:close/>
              </a:path>
              <a:path fill="none" w="21600" h="21600">
                <a:moveTo>
                  <a:pt x="12107" y="79"/>
                </a:moveTo>
                <a:arcTo wR="10800" hR="10800" stAng="-4983073" swAng="4983073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3320" y="2575080"/>
            <a:ext cx="1320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00400" y="4013280"/>
            <a:ext cx="42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876320" y="2459160"/>
            <a:ext cx="1457280" cy="2073240"/>
            <a:chOff x="1876320" y="2459160"/>
            <a:chExt cx="1457280" cy="2073240"/>
          </a:xfrm>
        </p:grpSpPr>
        <p:sp>
          <p:nvSpPr>
            <p:cNvPr id="164" name=""/>
            <p:cNvSpPr/>
            <p:nvPr/>
          </p:nvSpPr>
          <p:spPr>
            <a:xfrm flipH="1">
              <a:off x="1876320" y="4341960"/>
              <a:ext cx="145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3600" y="245916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55880" y="4013280"/>
            <a:ext cx="48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333600" y="2459160"/>
            <a:ext cx="1316160" cy="2008080"/>
            <a:chOff x="3333600" y="2459160"/>
            <a:chExt cx="1316160" cy="2008080"/>
          </a:xfrm>
        </p:grpSpPr>
        <p:sp>
          <p:nvSpPr>
            <p:cNvPr id="170" name=""/>
            <p:cNvSpPr/>
            <p:nvPr/>
          </p:nvSpPr>
          <p:spPr>
            <a:xfrm flipH="1">
              <a:off x="3333600" y="4341960"/>
              <a:ext cx="13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9760" y="2459160"/>
              <a:ext cx="0" cy="200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649400" y="3430440"/>
            <a:ext cx="1033920" cy="911520"/>
            <a:chOff x="4649400" y="3430440"/>
            <a:chExt cx="1033920" cy="911520"/>
          </a:xfrm>
        </p:grpSpPr>
        <p:sp>
          <p:nvSpPr>
            <p:cNvPr id="174" name=""/>
            <p:cNvSpPr/>
            <p:nvPr/>
          </p:nvSpPr>
          <p:spPr>
            <a:xfrm flipV="1">
              <a:off x="5683320" y="343044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49400" y="434196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332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78440" y="4013280"/>
            <a:ext cx="44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915160" y="487836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688" y="-1533600"/>
                </a:lnTo>
                <a:lnTo>
                  <a:pt x="-109688" y="993600"/>
                </a:lnTo>
                <a:lnTo>
                  <a:pt x="-67922" y="9806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6720" y="4102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700280" y="5024520"/>
            <a:ext cx="216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89000" y="5097600"/>
            <a:ext cx="2448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60000">
                                      <p:cBhvr>
                                        <p:cTn id="11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04640" y="560160"/>
            <a:ext cx="613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ude du coura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 du courant traversant l’enroulement primaire en fonction du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198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76320" y="2575080"/>
            <a:ext cx="3228480" cy="31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663440" y="988200"/>
            <a:ext cx="2349000" cy="31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7" y="79"/>
                </a:moveTo>
                <a:arcTo wR="10800" hR="10800" stAng="-4983073" swAng="4983073"/>
                <a:lnTo>
                  <a:pt x="10800" y="10800"/>
                </a:lnTo>
                <a:close/>
              </a:path>
              <a:path fill="none" w="21600" h="21600">
                <a:moveTo>
                  <a:pt x="12107" y="79"/>
                </a:moveTo>
                <a:arcTo wR="10800" hR="10800" stAng="-4983073" swAng="4983073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43320" y="2575080"/>
            <a:ext cx="1320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00400" y="4013280"/>
            <a:ext cx="42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876320" y="2459160"/>
            <a:ext cx="1457280" cy="2073240"/>
            <a:chOff x="1876320" y="2459160"/>
            <a:chExt cx="1457280" cy="2073240"/>
          </a:xfrm>
        </p:grpSpPr>
        <p:sp>
          <p:nvSpPr>
            <p:cNvPr id="210" name=""/>
            <p:cNvSpPr/>
            <p:nvPr/>
          </p:nvSpPr>
          <p:spPr>
            <a:xfrm flipH="1">
              <a:off x="1876320" y="4341960"/>
              <a:ext cx="145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33600" y="245916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55880" y="4013280"/>
            <a:ext cx="48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333600" y="2459160"/>
            <a:ext cx="1316160" cy="2008080"/>
            <a:chOff x="3333600" y="2459160"/>
            <a:chExt cx="1316160" cy="2008080"/>
          </a:xfrm>
        </p:grpSpPr>
        <p:sp>
          <p:nvSpPr>
            <p:cNvPr id="216" name=""/>
            <p:cNvSpPr/>
            <p:nvPr/>
          </p:nvSpPr>
          <p:spPr>
            <a:xfrm flipH="1">
              <a:off x="3333600" y="4341960"/>
              <a:ext cx="13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49760" y="2459160"/>
              <a:ext cx="0" cy="200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649400" y="3430440"/>
            <a:ext cx="1033920" cy="911520"/>
            <a:chOff x="4649400" y="3430440"/>
            <a:chExt cx="1033920" cy="911520"/>
          </a:xfrm>
        </p:grpSpPr>
        <p:sp>
          <p:nvSpPr>
            <p:cNvPr id="220" name=""/>
            <p:cNvSpPr/>
            <p:nvPr/>
          </p:nvSpPr>
          <p:spPr>
            <a:xfrm flipV="1">
              <a:off x="5683320" y="343044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649400" y="434196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8332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78440" y="4013280"/>
            <a:ext cx="44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4143240"/>
            <a:ext cx="846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915160" y="487836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688" y="-1533600"/>
                </a:lnTo>
                <a:lnTo>
                  <a:pt x="-109688" y="993600"/>
                </a:lnTo>
                <a:lnTo>
                  <a:pt x="-67922" y="9806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602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73760" y="5312520"/>
            <a:ext cx="5929560" cy="1883160"/>
            <a:chOff x="473760" y="5312520"/>
            <a:chExt cx="5929560" cy="1883160"/>
          </a:xfrm>
        </p:grpSpPr>
        <p:grpSp>
          <p:nvGrpSpPr>
            <p:cNvPr id="234" name=""/>
            <p:cNvGrpSpPr/>
            <p:nvPr/>
          </p:nvGrpSpPr>
          <p:grpSpPr>
            <a:xfrm>
              <a:off x="473760" y="5312520"/>
              <a:ext cx="5929560" cy="1883160"/>
              <a:chOff x="473760" y="5312520"/>
              <a:chExt cx="5929560" cy="1883160"/>
            </a:xfrm>
          </p:grpSpPr>
          <p:sp>
            <p:nvSpPr>
              <p:cNvPr id="235" name=""/>
              <p:cNvSpPr/>
              <p:nvPr/>
            </p:nvSpPr>
            <p:spPr>
              <a:xfrm>
                <a:off x="486000" y="5312520"/>
                <a:ext cx="540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Ip maxi : 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3000" y="5726880"/>
                <a:ext cx="5379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 :_____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3000" y="6087240"/>
                <a:ext cx="5379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 :_____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3760" y="6437520"/>
                <a:ext cx="5929560" cy="75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</a:t>
                </a:r>
                <a:r>
                  <a:rPr b="0" lang="en-US" sz="20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: ____________________________________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____________________________________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836640" y="6608880"/>
              <a:ext cx="141120" cy="582480"/>
            </a:xfrm>
            <a:custGeom>
              <a:avLst/>
              <a:gdLst>
                <a:gd name="textAreaLeft" fmla="*/ 90360 w 141120"/>
                <a:gd name="textAreaRight" fmla="*/ 141480 w 141120"/>
                <a:gd name="textAreaTop" fmla="*/ 15120 h 582480"/>
                <a:gd name="textAreaBottom" fmla="*/ 56736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6647"/>
                  </a:lnTo>
                  <a:cubicBezTo>
                    <a:pt x="10800" y="7547"/>
                    <a:pt x="5400" y="8447"/>
                    <a:pt x="0" y="8447"/>
                  </a:cubicBezTo>
                  <a:cubicBezTo>
                    <a:pt x="5400" y="8447"/>
                    <a:pt x="10800" y="9347"/>
                    <a:pt x="10800" y="1024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27200" y="7329600"/>
            <a:ext cx="6014880" cy="1740960"/>
            <a:chOff x="727200" y="7329600"/>
            <a:chExt cx="6014880" cy="1740960"/>
          </a:xfrm>
        </p:grpSpPr>
        <p:sp>
          <p:nvSpPr>
            <p:cNvPr id="241" name=""/>
            <p:cNvSpPr/>
            <p:nvPr/>
          </p:nvSpPr>
          <p:spPr>
            <a:xfrm>
              <a:off x="727200" y="7329600"/>
              <a:ext cx="6014880" cy="1740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9040" y="8854560"/>
              <a:ext cx="577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15920" y="7710480"/>
            <a:ext cx="563400" cy="849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84280" y="5313240"/>
            <a:ext cx="47926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Intensité maxi dans l’enroulement primaire  (I=U/R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2640" y="5745240"/>
            <a:ext cx="4228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emps d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bob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52640" y="6105600"/>
            <a:ext cx="49338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emps d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de la bobine (elle chauff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81000" y="6465960"/>
            <a:ext cx="55450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 magnétiqu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le bobinage secondaire subit une variation de champ magnétiq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2280" y="7329600"/>
            <a:ext cx="601488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Si le laps de temps entre l’ouverture et la fermeture est inférieur au temps de remplissage bobine, celle-ci n’aura pas le temps de se remplir complètemen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e courant Ip Maxi ne sera pas atte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’énergie accumulée sera fa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’étincelle au secondaire sera moins importante, voir inexist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84640" y="5745240"/>
            <a:ext cx="720720" cy="287280"/>
          </a:xfrm>
          <a:prstGeom prst="cloudCallout">
            <a:avLst>
              <a:gd name="adj1" fmla="val -15199"/>
              <a:gd name="adj2" fmla="val 68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69000" y="6105600"/>
            <a:ext cx="358560" cy="71280"/>
          </a:xfrm>
          <a:prstGeom prst="cloudCallout">
            <a:avLst>
              <a:gd name="adj1" fmla="val 12833"/>
              <a:gd name="adj2" fmla="val 34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93720" y="4102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8000"/>
                            </p:stCondLst>
                            <p:childTnLst>
                              <p:par>
                                <p:cTn id="3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04640" y="834480"/>
            <a:ext cx="61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reten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262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876320" y="988560"/>
            <a:ext cx="5136480" cy="4732560"/>
            <a:chOff x="1876320" y="988560"/>
            <a:chExt cx="5136480" cy="4732560"/>
          </a:xfrm>
        </p:grpSpPr>
        <p:sp>
          <p:nvSpPr>
            <p:cNvPr id="266" name=""/>
            <p:cNvSpPr/>
            <p:nvPr/>
          </p:nvSpPr>
          <p:spPr>
            <a:xfrm flipH="1">
              <a:off x="1876320" y="2575080"/>
              <a:ext cx="3228480" cy="314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4663440" y="988200"/>
              <a:ext cx="2349000" cy="317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7" y="79"/>
                  </a:moveTo>
                  <a:arcTo wR="10800" hR="10800" stAng="-4983073" swAng="49830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7" y="79"/>
                  </a:moveTo>
                  <a:arcTo wR="10800" hR="10800" stAng="-4983073" swAng="4983073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43320" y="2575080"/>
              <a:ext cx="1320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2000" y="4143240"/>
            <a:ext cx="846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915160" y="4879080"/>
            <a:ext cx="406440" cy="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772" y="-1533600"/>
                </a:lnTo>
                <a:lnTo>
                  <a:pt x="-109772" y="4924800"/>
                </a:lnTo>
                <a:lnTo>
                  <a:pt x="-72816" y="27410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602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6080" y="6543720"/>
            <a:ext cx="60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e temps de fermeture du circuit primaire est trop cou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3880" y="7832880"/>
            <a:ext cx="50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e temps de fermeture primaire est trop long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8720" y="6962760"/>
            <a:ext cx="55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risque de ne pas avoir assez d’énergie pour cré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" y="8121600"/>
            <a:ext cx="60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risque de faire trop chauffer la bobine et de la détru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7320" y="884880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ystèmes électronique gèrent ce temps, quelques so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fréquences de rotation mo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920" y="5673600"/>
            <a:ext cx="64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l faut un certain temps pour atteindre l’Intensité primaire ma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2280" y="52610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p maxi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9000" y="603252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9000" y="632160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5920" y="732960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5920" y="761688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5920" y="84819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5920" y="87692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2680" y="59612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ans une bob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6240" y="73296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une étinc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0080" y="87480"/>
            <a:ext cx="6858000" cy="981864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0280" y="3687840"/>
            <a:ext cx="655344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500" spc="-1" strike="noStrike" u="sng">
                <a:solidFill>
                  <a:srgbClr val="ffffff"/>
                </a:solidFill>
                <a:uFillTx/>
                <a:latin typeface="Times New Roman"/>
              </a:rPr>
              <a:t>THE END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5360" y="87692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5:28:11Z</dcterms:created>
  <dc:creator>Yannick LE HEGARAT</dc:creator>
  <dc:description/>
  <dc:language>en-US</dc:language>
  <cp:lastModifiedBy>Yannick LE HEGARAT</cp:lastModifiedBy>
  <dcterms:modified xsi:type="dcterms:W3CDTF">2003-03-07T13:29:14Z</dcterms:modified>
  <cp:revision>31</cp:revision>
  <dc:subject/>
  <dc:title>Diapositive 1</dc:title>
</cp:coreProperties>
</file>