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E6FF-463B-448D-8622-53834728D6D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onjour, déplacez moi dans le coin à gauch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 coloriage magique est un soutient du cours et pemet aux élèves de travailler à la maison (avec l'aide des parents qui se cultivent aussi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 A ou B le relais est commandé et la lampe doit s'étei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 repos la lampe devrait être allumée or elle est étei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c6 à 1 permet de vérifier que le relais fonctionne correct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nne provient d'une coupure soit dans la lampe soit à la masse soit aux contacts de la lam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 par la mas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c6 est le complémentaire de la lam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e = A ou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mande normale par la 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lampe doit s'allumer si A ou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ur le casprésenté elle est éteinte et sa masse est au pl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i la masse ne se fait pas, 2 raisons possib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- La commande du relais n'a pas fonctionnée alors qu'elle est command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languette du relais ne fait pas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ans les 2 cas on accuse le rel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 par le p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 I = 0 alors RI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s ce montage K ne peut pas être commandé : A &amp; /A 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&amp; /A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mple de pa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c5 = BCc6 = 1 donc le fonctionnement du relais est cohé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nne est en comman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 précédemment mais le court circuit peut n'être que sur l'interrupteur A (si c'est le seul cas de pan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c5 = 0implique que le relais n'est pas commandé, la lampe étant allumée il y a donc un court circuit sur la puiss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 par la masse sur un normalement ferm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courant ne passe pas en commande donc le relais reste au repos; comme la lampe est commandée par un "normalement fermé" elle s'allu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fonctionnement est 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= A ou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1 = / (A ou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bobine du relais est sous 12 voltse et tire le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ormalement le circuit de puissance aurait du s'ouvrir et la lampe s'étein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lle reste allumée, BCc5 à 1 permet de voir que le défaut ne provient pas de la commande, BCc6 à 0 permet de confirmer que la lampe est allum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 possibilités de panne : coupure à la commande ou court circuit à la puiss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 par le plus sur un normalement ferm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 repos la lampe est allum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= A ou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= / (A ou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5F36-ABCA-4FB5-B34D-0E273C5B9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82F8-0D7B-4A5A-AB65-54F39E3B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4265-E7C7-4225-9EC0-1C0482A22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5720-2547-4C64-BA75-21461A542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F7CF-E7D5-48D4-B6E7-C5CB5E25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148B-7099-4E92-B588-9F3EBF81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4773-118F-45E6-808D-D0D17F55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583A-AE1B-4DE6-B941-8D1FCBD9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79CD-08D1-4C54-AA23-E909AB8A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E165-1CF7-445F-BFC4-51403B2C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8D91-8A1C-4AC7-AA31-77DE488A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761B-85B4-4AEA-AE84-1C1973AB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7305-DB32-4B9E-A13F-84D623414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1196640"/>
            <a:ext cx="8893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andes par le plus et par la mass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at d’une commande, d’un relais, d’un actionneur, d’un point 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ser avec le cours pour corriger le coloriage magique, afficher les commentaires du présent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6589800" y="4317840"/>
            <a:ext cx="6699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605040" y="333360"/>
            <a:ext cx="32785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énergie au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781520" y="5950080"/>
            <a:ext cx="2878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049720" y="5116680"/>
            <a:ext cx="5079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31828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183440" y="3941640"/>
            <a:ext cx="0" cy="392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18344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942240" y="5067360"/>
            <a:ext cx="480960" cy="44136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18344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405480" y="5048280"/>
            <a:ext cx="854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29740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484520" y="4251240"/>
            <a:ext cx="6415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995720" y="43830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995720" y="4529160"/>
            <a:ext cx="4813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918480" y="3468600"/>
            <a:ext cx="741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318280" y="1639800"/>
            <a:ext cx="0" cy="3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97400" y="2489040"/>
            <a:ext cx="0" cy="176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484520" y="1982880"/>
            <a:ext cx="6415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995720" y="208116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995720" y="2227320"/>
            <a:ext cx="11797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905440" y="790560"/>
            <a:ext cx="743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300640" y="2489040"/>
            <a:ext cx="878040" cy="2481480"/>
          </a:xfrm>
          <a:custGeom>
            <a:avLst/>
            <a:gdLst/>
            <a:ahLst/>
            <a:rect l="l" t="t" r="r" b="b"/>
            <a:pathLst>
              <a:path w="741" h="2166">
                <a:moveTo>
                  <a:pt x="741" y="0"/>
                </a:moveTo>
                <a:lnTo>
                  <a:pt x="741" y="2166"/>
                </a:lnTo>
                <a:lnTo>
                  <a:pt x="0" y="21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297400" y="2031840"/>
            <a:ext cx="20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175440" y="2031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175440" y="1247760"/>
            <a:ext cx="0" cy="78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297400" y="1639800"/>
            <a:ext cx="878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7151760" y="43275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189920" y="4923000"/>
            <a:ext cx="8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897680" y="4870440"/>
            <a:ext cx="10670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140360" y="4581360"/>
            <a:ext cx="10666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4211280" y="496584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1 ou B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5219280" y="1700280"/>
            <a:ext cx="1009800" cy="360036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524720" y="5013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7164360" y="544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284720" y="2276640"/>
            <a:ext cx="1866960" cy="2796840"/>
          </a:xfrm>
          <a:custGeom>
            <a:avLst/>
            <a:gdLst/>
            <a:ahLst/>
            <a:rect l="l" t="t" r="r" b="b"/>
            <a:pathLst>
              <a:path w="1176" h="1762">
                <a:moveTo>
                  <a:pt x="636" y="1762"/>
                </a:moveTo>
                <a:lnTo>
                  <a:pt x="633" y="1660"/>
                </a:lnTo>
                <a:lnTo>
                  <a:pt x="0" y="1660"/>
                </a:lnTo>
                <a:lnTo>
                  <a:pt x="644" y="1671"/>
                </a:lnTo>
                <a:lnTo>
                  <a:pt x="632" y="1542"/>
                </a:lnTo>
                <a:lnTo>
                  <a:pt x="632" y="1678"/>
                </a:lnTo>
                <a:lnTo>
                  <a:pt x="1176" y="1678"/>
                </a:lnTo>
                <a:lnTo>
                  <a:pt x="1176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5292720" y="551664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8245440" y="450864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781440" y="5084640"/>
            <a:ext cx="15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=12 vo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5076720" y="1965240"/>
            <a:ext cx="355320" cy="1032120"/>
            <a:chOff x="5076720" y="1965240"/>
            <a:chExt cx="355320" cy="1032120"/>
          </a:xfrm>
        </p:grpSpPr>
        <p:sp>
          <p:nvSpPr>
            <p:cNvPr id="657" name=""/>
            <p:cNvSpPr/>
            <p:nvPr/>
          </p:nvSpPr>
          <p:spPr>
            <a:xfrm flipH="1">
              <a:off x="5297040" y="1965240"/>
              <a:ext cx="135000" cy="52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076720" y="292428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5905440" y="1965240"/>
            <a:ext cx="610920" cy="1103400"/>
            <a:chOff x="5905440" y="1965240"/>
            <a:chExt cx="610920" cy="1103400"/>
          </a:xfrm>
        </p:grpSpPr>
        <p:sp>
          <p:nvSpPr>
            <p:cNvPr id="660" name=""/>
            <p:cNvSpPr/>
            <p:nvPr/>
          </p:nvSpPr>
          <p:spPr>
            <a:xfrm>
              <a:off x="5905440" y="1965240"/>
              <a:ext cx="26964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445080" y="2997360"/>
              <a:ext cx="712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5094360" y="4251240"/>
            <a:ext cx="557280" cy="1049400"/>
            <a:chOff x="5094360" y="4251240"/>
            <a:chExt cx="557280" cy="1049400"/>
          </a:xfrm>
        </p:grpSpPr>
        <p:sp>
          <p:nvSpPr>
            <p:cNvPr id="663" name=""/>
            <p:cNvSpPr/>
            <p:nvPr/>
          </p:nvSpPr>
          <p:spPr>
            <a:xfrm>
              <a:off x="5094360" y="4251240"/>
              <a:ext cx="223920" cy="52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580360" y="5229360"/>
              <a:ext cx="712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7020000" y="4262400"/>
            <a:ext cx="228600" cy="1109880"/>
            <a:chOff x="7020000" y="4262400"/>
            <a:chExt cx="228600" cy="1109880"/>
          </a:xfrm>
        </p:grpSpPr>
        <p:sp>
          <p:nvSpPr>
            <p:cNvPr id="666" name=""/>
            <p:cNvSpPr/>
            <p:nvPr/>
          </p:nvSpPr>
          <p:spPr>
            <a:xfrm flipH="1">
              <a:off x="7183800" y="4262400"/>
              <a:ext cx="64800" cy="51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020000" y="5300640"/>
              <a:ext cx="71640" cy="7164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"/>
          <p:cNvSpPr/>
          <p:nvPr/>
        </p:nvSpPr>
        <p:spPr>
          <a:xfrm flipH="1">
            <a:off x="5219280" y="1557360"/>
            <a:ext cx="144360" cy="352728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292720" y="2492280"/>
            <a:ext cx="0" cy="1800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7237080" y="3933720"/>
            <a:ext cx="142920" cy="172728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178760" y="4292640"/>
            <a:ext cx="920520" cy="793800"/>
          </a:xfrm>
          <a:custGeom>
            <a:avLst/>
            <a:gdLst/>
            <a:ahLst/>
            <a:rect l="l" t="t" r="r" b="b"/>
            <a:pathLst>
              <a:path w="580" h="500">
                <a:moveTo>
                  <a:pt x="580" y="384"/>
                </a:moveTo>
                <a:lnTo>
                  <a:pt x="4" y="380"/>
                </a:lnTo>
                <a:lnTo>
                  <a:pt x="0" y="500"/>
                </a:lnTo>
                <a:lnTo>
                  <a:pt x="0" y="292"/>
                </a:lnTo>
                <a:lnTo>
                  <a:pt x="173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627280" y="260280"/>
            <a:ext cx="6985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c5=1, BCc6=0, Lampe étei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780000" y="45086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5653080" y="4508280"/>
            <a:ext cx="1511280" cy="86508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524720" y="4076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668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670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677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679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686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720" dur="2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6229440" y="4317840"/>
            <a:ext cx="6699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973760" y="33336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énergie au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421160" y="5950080"/>
            <a:ext cx="2878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689360" y="5116680"/>
            <a:ext cx="5079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95792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823080" y="3941640"/>
            <a:ext cx="0" cy="392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6822720" y="4262400"/>
            <a:ext cx="651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2308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581880" y="5067360"/>
            <a:ext cx="480960" cy="44136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82308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045120" y="5048280"/>
            <a:ext cx="854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734000" y="4251240"/>
            <a:ext cx="223920" cy="5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93704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124160" y="4251240"/>
            <a:ext cx="6415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635360" y="43830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635360" y="4529160"/>
            <a:ext cx="4813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558120" y="3468600"/>
            <a:ext cx="741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957920" y="1639800"/>
            <a:ext cx="0" cy="3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4936680" y="1965240"/>
            <a:ext cx="135000" cy="52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937040" y="2489040"/>
            <a:ext cx="0" cy="176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124160" y="1982880"/>
            <a:ext cx="6415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635360" y="208116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635360" y="2227320"/>
            <a:ext cx="11797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545080" y="790560"/>
            <a:ext cx="743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545080" y="1965240"/>
            <a:ext cx="27000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940280" y="2489040"/>
            <a:ext cx="878040" cy="2481480"/>
          </a:xfrm>
          <a:custGeom>
            <a:avLst/>
            <a:gdLst/>
            <a:ahLst/>
            <a:rect l="l" t="t" r="r" b="b"/>
            <a:pathLst>
              <a:path w="741" h="2166">
                <a:moveTo>
                  <a:pt x="741" y="0"/>
                </a:moveTo>
                <a:lnTo>
                  <a:pt x="741" y="2166"/>
                </a:lnTo>
                <a:lnTo>
                  <a:pt x="0" y="21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937040" y="2031840"/>
            <a:ext cx="20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815080" y="2031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5815080" y="1247760"/>
            <a:ext cx="0" cy="78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937040" y="1639800"/>
            <a:ext cx="878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6791400" y="43275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829560" y="4923000"/>
            <a:ext cx="8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537320" y="4870440"/>
            <a:ext cx="10670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851280" y="5013360"/>
            <a:ext cx="10666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3850920" y="496584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0, Lampe éteinte, BCc5 = 0,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419640" y="5229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4932360" y="544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929040" y="2349360"/>
            <a:ext cx="1866960" cy="3167280"/>
          </a:xfrm>
          <a:custGeom>
            <a:avLst/>
            <a:gdLst/>
            <a:ahLst/>
            <a:rect l="l" t="t" r="r" b="b"/>
            <a:pathLst>
              <a:path w="1176" h="1995">
                <a:moveTo>
                  <a:pt x="632" y="1995"/>
                </a:moveTo>
                <a:lnTo>
                  <a:pt x="633" y="1660"/>
                </a:lnTo>
                <a:lnTo>
                  <a:pt x="0" y="1660"/>
                </a:lnTo>
                <a:lnTo>
                  <a:pt x="644" y="1671"/>
                </a:lnTo>
                <a:lnTo>
                  <a:pt x="632" y="1542"/>
                </a:lnTo>
                <a:lnTo>
                  <a:pt x="632" y="1678"/>
                </a:lnTo>
                <a:lnTo>
                  <a:pt x="1176" y="1678"/>
                </a:lnTo>
                <a:lnTo>
                  <a:pt x="1176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6803640" y="4292640"/>
            <a:ext cx="73080" cy="576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804000" y="4869000"/>
            <a:ext cx="865080" cy="215640"/>
          </a:xfrm>
          <a:custGeom>
            <a:avLst/>
            <a:gdLst/>
            <a:ahLst/>
            <a:rect l="l" t="t" r="r" b="b"/>
            <a:pathLst>
              <a:path w="545" h="136">
                <a:moveTo>
                  <a:pt x="545" y="46"/>
                </a:moveTo>
                <a:lnTo>
                  <a:pt x="0" y="46"/>
                </a:lnTo>
                <a:lnTo>
                  <a:pt x="0" y="1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6804000" y="551664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084720" y="4653000"/>
            <a:ext cx="1513080" cy="1297080"/>
          </a:xfrm>
          <a:custGeom>
            <a:avLst/>
            <a:gdLst>
              <a:gd name="textAreaLeft" fmla="*/ 623520 w 1513080"/>
              <a:gd name="textAreaRight" fmla="*/ 889560 w 1513080"/>
              <a:gd name="textAreaTop" fmla="*/ 534240 h 1297080"/>
              <a:gd name="textAreaBottom" fmla="*/ 7628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7669080" y="4581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19640" y="4437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846920" y="5157720"/>
            <a:ext cx="12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=12 vo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164360" y="907920"/>
            <a:ext cx="144360" cy="388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11280" y="1916280"/>
            <a:ext cx="273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mpe grillé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0" dur="100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2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6094440" y="4346640"/>
            <a:ext cx="8096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178680" y="5091120"/>
            <a:ext cx="63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62480" y="189000"/>
            <a:ext cx="31082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énergie au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638600" y="5992920"/>
            <a:ext cx="27291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92760" y="5132520"/>
            <a:ext cx="48096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146560" y="553716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915240" y="3917880"/>
            <a:ext cx="0" cy="40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915240" y="4778280"/>
            <a:ext cx="0" cy="35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675480" y="4317840"/>
            <a:ext cx="457200" cy="45720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915240" y="553716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935600" y="4238640"/>
            <a:ext cx="21096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127480" y="4778280"/>
            <a:ext cx="0" cy="35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356000" y="4238640"/>
            <a:ext cx="6098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840200" y="437364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840200" y="4524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662880" y="3429000"/>
            <a:ext cx="7048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146560" y="1538280"/>
            <a:ext cx="0" cy="40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5127120" y="1876320"/>
            <a:ext cx="127080" cy="5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127480" y="2416320"/>
            <a:ext cx="0" cy="182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356000" y="1893960"/>
            <a:ext cx="60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840200" y="199404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840200" y="2146320"/>
            <a:ext cx="111924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703840" y="662040"/>
            <a:ext cx="7034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703840" y="1876320"/>
            <a:ext cx="255600" cy="5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130720" y="2416320"/>
            <a:ext cx="831960" cy="2563560"/>
          </a:xfrm>
          <a:custGeom>
            <a:avLst/>
            <a:gdLst/>
            <a:ahLst/>
            <a:rect l="l" t="t" r="r" b="b"/>
            <a:pathLst>
              <a:path w="741" h="2166">
                <a:moveTo>
                  <a:pt x="741" y="0"/>
                </a:moveTo>
                <a:lnTo>
                  <a:pt x="741" y="2166"/>
                </a:lnTo>
                <a:lnTo>
                  <a:pt x="0" y="21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127480" y="194328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959440" y="1943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5959440" y="1133280"/>
            <a:ext cx="0" cy="809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127480" y="1538280"/>
            <a:ext cx="8319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784920" y="5091120"/>
            <a:ext cx="141480" cy="48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919920" y="4932360"/>
            <a:ext cx="80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310520" y="4941720"/>
            <a:ext cx="1011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068720" y="4653000"/>
            <a:ext cx="10112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4098960" y="4975200"/>
            <a:ext cx="1009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0, Lampe éteinte, BCc5 = 0,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5076360" y="1628640"/>
            <a:ext cx="1009800" cy="360072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708360" y="5157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5143680" y="544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140360" y="2349360"/>
            <a:ext cx="1866600" cy="3167280"/>
          </a:xfrm>
          <a:custGeom>
            <a:avLst/>
            <a:gdLst/>
            <a:ahLst/>
            <a:rect l="l" t="t" r="r" b="b"/>
            <a:pathLst>
              <a:path w="1176" h="1995">
                <a:moveTo>
                  <a:pt x="632" y="1995"/>
                </a:moveTo>
                <a:lnTo>
                  <a:pt x="633" y="1660"/>
                </a:lnTo>
                <a:lnTo>
                  <a:pt x="0" y="1660"/>
                </a:lnTo>
                <a:lnTo>
                  <a:pt x="644" y="1671"/>
                </a:lnTo>
                <a:lnTo>
                  <a:pt x="632" y="1542"/>
                </a:lnTo>
                <a:lnTo>
                  <a:pt x="632" y="1678"/>
                </a:lnTo>
                <a:lnTo>
                  <a:pt x="1176" y="1678"/>
                </a:lnTo>
                <a:lnTo>
                  <a:pt x="1176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6876720" y="4365720"/>
            <a:ext cx="142920" cy="172728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237440" y="4076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948360" y="3933720"/>
            <a:ext cx="863640" cy="1224000"/>
          </a:xfrm>
          <a:custGeom>
            <a:avLst/>
            <a:gdLst/>
            <a:ahLst/>
            <a:rect l="l" t="t" r="r" b="b"/>
            <a:pathLst>
              <a:path w="544" h="771">
                <a:moveTo>
                  <a:pt x="0" y="0"/>
                </a:moveTo>
                <a:lnTo>
                  <a:pt x="0" y="771"/>
                </a:lnTo>
                <a:lnTo>
                  <a:pt x="0" y="635"/>
                </a:lnTo>
                <a:lnTo>
                  <a:pt x="544" y="635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8029440" y="4653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6237360" y="4346640"/>
            <a:ext cx="8096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321600" y="5091120"/>
            <a:ext cx="634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757760" y="189000"/>
            <a:ext cx="31082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énergie au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781520" y="5992920"/>
            <a:ext cx="2728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035680" y="5132520"/>
            <a:ext cx="48096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289480" y="553716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058160" y="3917880"/>
            <a:ext cx="0" cy="40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058160" y="4778280"/>
            <a:ext cx="0" cy="35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818400" y="4317840"/>
            <a:ext cx="457200" cy="45720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058160" y="553716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270400" y="4778280"/>
            <a:ext cx="0" cy="35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498920" y="4238640"/>
            <a:ext cx="6094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983120" y="437364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983120" y="4524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805440" y="3429000"/>
            <a:ext cx="7048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289480" y="1538280"/>
            <a:ext cx="0" cy="40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5270040" y="1876320"/>
            <a:ext cx="127080" cy="5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270400" y="2416320"/>
            <a:ext cx="0" cy="182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498920" y="1893960"/>
            <a:ext cx="609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983120" y="199404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983120" y="2146320"/>
            <a:ext cx="111924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846760" y="662040"/>
            <a:ext cx="7034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846760" y="1876320"/>
            <a:ext cx="255600" cy="5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273640" y="2416320"/>
            <a:ext cx="831960" cy="2563560"/>
          </a:xfrm>
          <a:custGeom>
            <a:avLst/>
            <a:gdLst/>
            <a:ahLst/>
            <a:rect l="l" t="t" r="r" b="b"/>
            <a:pathLst>
              <a:path w="741" h="2166">
                <a:moveTo>
                  <a:pt x="741" y="0"/>
                </a:moveTo>
                <a:lnTo>
                  <a:pt x="741" y="2166"/>
                </a:lnTo>
                <a:lnTo>
                  <a:pt x="0" y="21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270400" y="194328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6102360" y="1943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6102360" y="1133280"/>
            <a:ext cx="0" cy="809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270400" y="1538280"/>
            <a:ext cx="8319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7062840" y="4932360"/>
            <a:ext cx="80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736040" y="4876920"/>
            <a:ext cx="10112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995640" y="5013360"/>
            <a:ext cx="10112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4241880" y="4975200"/>
            <a:ext cx="1009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1, Lampe éteinte, BCc5 = 1,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219640" y="1628640"/>
            <a:ext cx="0" cy="360072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419640" y="5300640"/>
            <a:ext cx="201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12 vo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5286240" y="544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7019640" y="4005360"/>
            <a:ext cx="142920" cy="208764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596360" y="3573360"/>
            <a:ext cx="237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12 vo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995640" y="4437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5078520" y="4238640"/>
            <a:ext cx="501120" cy="1135080"/>
            <a:chOff x="5078520" y="4238640"/>
            <a:chExt cx="501120" cy="1135080"/>
          </a:xfrm>
        </p:grpSpPr>
        <p:sp>
          <p:nvSpPr>
            <p:cNvPr id="810" name=""/>
            <p:cNvSpPr/>
            <p:nvPr/>
          </p:nvSpPr>
          <p:spPr>
            <a:xfrm>
              <a:off x="5078520" y="4238640"/>
              <a:ext cx="21096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506920" y="5300640"/>
              <a:ext cx="7272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4300560" y="1557360"/>
            <a:ext cx="992160" cy="3600360"/>
          </a:xfrm>
          <a:custGeom>
            <a:avLst/>
            <a:gdLst/>
            <a:ahLst/>
            <a:rect l="l" t="t" r="r" b="b"/>
            <a:pathLst>
              <a:path w="625" h="2268">
                <a:moveTo>
                  <a:pt x="624" y="0"/>
                </a:moveTo>
                <a:lnTo>
                  <a:pt x="612" y="2155"/>
                </a:lnTo>
                <a:lnTo>
                  <a:pt x="0" y="2164"/>
                </a:lnTo>
                <a:lnTo>
                  <a:pt x="612" y="2155"/>
                </a:lnTo>
                <a:lnTo>
                  <a:pt x="625" y="2268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5506920" y="5300280"/>
            <a:ext cx="1440000" cy="7308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6875640" y="5084640"/>
            <a:ext cx="360000" cy="936360"/>
            <a:chOff x="6875640" y="5084640"/>
            <a:chExt cx="360000" cy="936360"/>
          </a:xfrm>
        </p:grpSpPr>
        <p:sp>
          <p:nvSpPr>
            <p:cNvPr id="815" name=""/>
            <p:cNvSpPr/>
            <p:nvPr/>
          </p:nvSpPr>
          <p:spPr>
            <a:xfrm>
              <a:off x="6875640" y="5084640"/>
              <a:ext cx="164880" cy="49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150320" y="5949360"/>
              <a:ext cx="85320" cy="7164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7020000" y="4724280"/>
            <a:ext cx="863640" cy="1297080"/>
          </a:xfrm>
          <a:custGeom>
            <a:avLst/>
            <a:gdLst/>
            <a:ahLst/>
            <a:rect l="l" t="t" r="r" b="b"/>
            <a:pathLst>
              <a:path w="544" h="817">
                <a:moveTo>
                  <a:pt x="0" y="0"/>
                </a:moveTo>
                <a:lnTo>
                  <a:pt x="0" y="137"/>
                </a:lnTo>
                <a:lnTo>
                  <a:pt x="544" y="137"/>
                </a:lnTo>
                <a:lnTo>
                  <a:pt x="0" y="137"/>
                </a:lnTo>
                <a:lnTo>
                  <a:pt x="0" y="817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8388360" y="4797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rot="18736200">
            <a:off x="6298920" y="3933360"/>
            <a:ext cx="1513080" cy="1296720"/>
          </a:xfrm>
          <a:custGeom>
            <a:avLst/>
            <a:gdLst>
              <a:gd name="textAreaLeft" fmla="*/ 623520 w 1513080"/>
              <a:gd name="textAreaRight" fmla="*/ 889560 w 1513080"/>
              <a:gd name="textAreaTop" fmla="*/ 534240 h 1296720"/>
              <a:gd name="textAreaBottom" fmla="*/ 762480 h 129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7020000" y="3860640"/>
            <a:ext cx="0" cy="50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908000" y="0"/>
            <a:ext cx="2737080" cy="1197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659640" y="0"/>
            <a:ext cx="1873080" cy="1197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7020000" y="558936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7307280" y="1989000"/>
            <a:ext cx="151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59640" y="5084640"/>
            <a:ext cx="647640" cy="289080"/>
            <a:chOff x="6659640" y="5084640"/>
            <a:chExt cx="647640" cy="289080"/>
          </a:xfrm>
        </p:grpSpPr>
        <p:sp>
          <p:nvSpPr>
            <p:cNvPr id="826" name=""/>
            <p:cNvSpPr/>
            <p:nvPr/>
          </p:nvSpPr>
          <p:spPr>
            <a:xfrm>
              <a:off x="6659640" y="5084640"/>
              <a:ext cx="647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659640" y="5229000"/>
              <a:ext cx="6476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8" name=""/>
          <p:cNvSpPr/>
          <p:nvPr/>
        </p:nvSpPr>
        <p:spPr>
          <a:xfrm>
            <a:off x="7020000" y="4724280"/>
            <a:ext cx="934920" cy="433440"/>
          </a:xfrm>
          <a:custGeom>
            <a:avLst/>
            <a:gdLst/>
            <a:ahLst/>
            <a:rect l="l" t="t" r="r" b="b"/>
            <a:pathLst>
              <a:path w="589" h="273">
                <a:moveTo>
                  <a:pt x="0" y="0"/>
                </a:moveTo>
                <a:lnTo>
                  <a:pt x="0" y="273"/>
                </a:lnTo>
                <a:lnTo>
                  <a:pt x="0" y="137"/>
                </a:lnTo>
                <a:lnTo>
                  <a:pt x="589" y="137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874" dur="2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5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905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95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968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179280" y="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un seul des contacts est ouvert le courant est interrompu, la chute de tension dans la résistance redevient nulle (RI) et la tension de « Mesure » à la masse remonte à 12 vo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340000" y="1341360"/>
            <a:ext cx="1847880" cy="2228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lcula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846600" y="2595600"/>
            <a:ext cx="47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667400" y="259560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529160" y="266544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624640" y="259560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487840" y="266544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583320" y="259560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445080" y="266544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7540560" y="259560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7404120" y="266544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2819160" y="3157560"/>
            <a:ext cx="136440" cy="415800"/>
            <a:chOff x="2819160" y="3157560"/>
            <a:chExt cx="136440" cy="415800"/>
          </a:xfrm>
        </p:grpSpPr>
        <p:sp>
          <p:nvSpPr>
            <p:cNvPr id="842" name=""/>
            <p:cNvSpPr/>
            <p:nvPr/>
          </p:nvSpPr>
          <p:spPr>
            <a:xfrm>
              <a:off x="2955600" y="3157560"/>
              <a:ext cx="0" cy="41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 flipV="1">
              <a:off x="2819160" y="3157560"/>
              <a:ext cx="13644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 flipV="1">
              <a:off x="2819160" y="3296160"/>
              <a:ext cx="13644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2819160" y="3365280"/>
              <a:ext cx="13644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 flipV="1">
              <a:off x="2819160" y="3434760"/>
              <a:ext cx="13644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 flipV="1">
              <a:off x="2819160" y="3226680"/>
              <a:ext cx="13644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"/>
          <p:cNvSpPr/>
          <p:nvPr/>
        </p:nvSpPr>
        <p:spPr>
          <a:xfrm flipH="1">
            <a:off x="2819160" y="2595600"/>
            <a:ext cx="47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2819520" y="2316240"/>
            <a:ext cx="136440" cy="139680"/>
            <a:chOff x="2819520" y="2316240"/>
            <a:chExt cx="136440" cy="139680"/>
          </a:xfrm>
        </p:grpSpPr>
        <p:sp>
          <p:nvSpPr>
            <p:cNvPr id="850" name=""/>
            <p:cNvSpPr/>
            <p:nvPr/>
          </p:nvSpPr>
          <p:spPr>
            <a:xfrm flipV="1">
              <a:off x="2887560" y="2316240"/>
              <a:ext cx="0" cy="13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819520" y="2386080"/>
              <a:ext cx="13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55960" y="2595600"/>
            <a:ext cx="5200560" cy="760320"/>
          </a:xfrm>
          <a:custGeom>
            <a:avLst/>
            <a:gdLst/>
            <a:ahLst/>
            <a:rect l="l" t="t" r="r" b="b"/>
            <a:pathLst>
              <a:path w="8362" h="1017">
                <a:moveTo>
                  <a:pt x="8362" y="0"/>
                </a:moveTo>
                <a:lnTo>
                  <a:pt x="8362" y="1017"/>
                </a:lnTo>
                <a:lnTo>
                  <a:pt x="0" y="101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887560" y="2038320"/>
            <a:ext cx="1163880" cy="557280"/>
          </a:xfrm>
          <a:custGeom>
            <a:avLst/>
            <a:gdLst/>
            <a:ahLst/>
            <a:rect l="l" t="t" r="r" b="b"/>
            <a:pathLst>
              <a:path w="2034" h="904">
                <a:moveTo>
                  <a:pt x="2034" y="904"/>
                </a:moveTo>
                <a:lnTo>
                  <a:pt x="203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635200" y="1763640"/>
            <a:ext cx="12319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427640" y="2997360"/>
            <a:ext cx="342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364000" y="2997360"/>
            <a:ext cx="341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318360" y="2997360"/>
            <a:ext cx="341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236000" y="2997360"/>
            <a:ext cx="342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030480" y="2401920"/>
            <a:ext cx="81612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284720" y="18446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284720" y="14842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219640" y="18288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219640" y="14684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156360" y="18288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156360" y="14684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093080" y="18288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093080" y="14684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4032720" y="2301120"/>
            <a:ext cx="628200" cy="678600"/>
            <a:chOff x="4032720" y="2301120"/>
            <a:chExt cx="628200" cy="678600"/>
          </a:xfrm>
        </p:grpSpPr>
        <p:grpSp>
          <p:nvGrpSpPr>
            <p:cNvPr id="869" name=""/>
            <p:cNvGrpSpPr/>
            <p:nvPr/>
          </p:nvGrpSpPr>
          <p:grpSpPr>
            <a:xfrm>
              <a:off x="4331880" y="2594880"/>
              <a:ext cx="329040" cy="384840"/>
              <a:chOff x="4331880" y="2594880"/>
              <a:chExt cx="329040" cy="384840"/>
            </a:xfrm>
          </p:grpSpPr>
          <p:sp>
            <p:nvSpPr>
              <p:cNvPr id="870" name=""/>
              <p:cNvSpPr/>
              <p:nvPr/>
            </p:nvSpPr>
            <p:spPr>
              <a:xfrm>
                <a:off x="4331880" y="2594880"/>
                <a:ext cx="329040" cy="119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513600">
                <a:off x="4424400" y="2830320"/>
                <a:ext cx="13824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 rot="513600">
              <a:off x="4037400" y="230580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4952520" y="2320560"/>
            <a:ext cx="648000" cy="644040"/>
            <a:chOff x="4952520" y="2320560"/>
            <a:chExt cx="648000" cy="644040"/>
          </a:xfrm>
        </p:grpSpPr>
        <p:grpSp>
          <p:nvGrpSpPr>
            <p:cNvPr id="874" name=""/>
            <p:cNvGrpSpPr/>
            <p:nvPr/>
          </p:nvGrpSpPr>
          <p:grpSpPr>
            <a:xfrm>
              <a:off x="5265000" y="2594880"/>
              <a:ext cx="335520" cy="369720"/>
              <a:chOff x="5265000" y="2594880"/>
              <a:chExt cx="335520" cy="369720"/>
            </a:xfrm>
          </p:grpSpPr>
          <p:sp>
            <p:nvSpPr>
              <p:cNvPr id="875" name=""/>
              <p:cNvSpPr/>
              <p:nvPr/>
            </p:nvSpPr>
            <p:spPr>
              <a:xfrm>
                <a:off x="5265000" y="2594880"/>
                <a:ext cx="335520" cy="98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291600">
                <a:off x="5376600" y="2819160"/>
                <a:ext cx="13788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 rot="291600">
              <a:off x="4955400" y="2323440"/>
              <a:ext cx="7128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5902920" y="2302920"/>
            <a:ext cx="630000" cy="675360"/>
            <a:chOff x="5902920" y="2302920"/>
            <a:chExt cx="630000" cy="675360"/>
          </a:xfrm>
        </p:grpSpPr>
        <p:grpSp>
          <p:nvGrpSpPr>
            <p:cNvPr id="879" name=""/>
            <p:cNvGrpSpPr/>
            <p:nvPr/>
          </p:nvGrpSpPr>
          <p:grpSpPr>
            <a:xfrm>
              <a:off x="6203160" y="2594880"/>
              <a:ext cx="329760" cy="383400"/>
              <a:chOff x="6203160" y="2594880"/>
              <a:chExt cx="329760" cy="383400"/>
            </a:xfrm>
          </p:grpSpPr>
          <p:sp>
            <p:nvSpPr>
              <p:cNvPr id="880" name=""/>
              <p:cNvSpPr/>
              <p:nvPr/>
            </p:nvSpPr>
            <p:spPr>
              <a:xfrm>
                <a:off x="6203160" y="2594880"/>
                <a:ext cx="329760" cy="11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493200">
                <a:off x="6297840" y="2829240"/>
                <a:ext cx="13824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2" name=""/>
            <p:cNvSpPr/>
            <p:nvPr/>
          </p:nvSpPr>
          <p:spPr>
            <a:xfrm rot="493200">
              <a:off x="5907600" y="230760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6922440" y="2310840"/>
            <a:ext cx="644760" cy="649800"/>
            <a:chOff x="6922440" y="2310840"/>
            <a:chExt cx="644760" cy="649800"/>
          </a:xfrm>
        </p:grpSpPr>
        <p:grpSp>
          <p:nvGrpSpPr>
            <p:cNvPr id="884" name=""/>
            <p:cNvGrpSpPr/>
            <p:nvPr/>
          </p:nvGrpSpPr>
          <p:grpSpPr>
            <a:xfrm>
              <a:off x="7232400" y="2588400"/>
              <a:ext cx="334800" cy="372240"/>
              <a:chOff x="7232400" y="2588400"/>
              <a:chExt cx="334800" cy="372240"/>
            </a:xfrm>
          </p:grpSpPr>
          <p:sp>
            <p:nvSpPr>
              <p:cNvPr id="885" name=""/>
              <p:cNvSpPr/>
              <p:nvPr/>
            </p:nvSpPr>
            <p:spPr>
              <a:xfrm>
                <a:off x="7232400" y="2588400"/>
                <a:ext cx="334800" cy="102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328200">
                <a:off x="7341120" y="2814480"/>
                <a:ext cx="13788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7" name=""/>
            <p:cNvSpPr/>
            <p:nvPr/>
          </p:nvSpPr>
          <p:spPr>
            <a:xfrm rot="328200">
              <a:off x="6925320" y="2313720"/>
              <a:ext cx="7128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2484360" y="2565360"/>
            <a:ext cx="574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556000" y="2565360"/>
            <a:ext cx="5616360" cy="790560"/>
          </a:xfrm>
          <a:custGeom>
            <a:avLst/>
            <a:gdLst/>
            <a:ahLst/>
            <a:rect l="l" t="t" r="r" b="b"/>
            <a:pathLst>
              <a:path w="3538" h="498">
                <a:moveTo>
                  <a:pt x="0" y="498"/>
                </a:moveTo>
                <a:lnTo>
                  <a:pt x="3538" y="498"/>
                </a:lnTo>
                <a:lnTo>
                  <a:pt x="3538" y="0"/>
                </a:lnTo>
                <a:lnTo>
                  <a:pt x="3153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771640" y="1989000"/>
            <a:ext cx="1584360" cy="576360"/>
          </a:xfrm>
          <a:custGeom>
            <a:avLst/>
            <a:gdLst/>
            <a:ahLst/>
            <a:rect l="l" t="t" r="r" b="b"/>
            <a:pathLst>
              <a:path w="998" h="363">
                <a:moveTo>
                  <a:pt x="680" y="363"/>
                </a:moveTo>
                <a:lnTo>
                  <a:pt x="998" y="363"/>
                </a:lnTo>
                <a:lnTo>
                  <a:pt x="816" y="363"/>
                </a:lnTo>
                <a:lnTo>
                  <a:pt x="81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771640" y="1989000"/>
            <a:ext cx="1584360" cy="576360"/>
          </a:xfrm>
          <a:custGeom>
            <a:avLst/>
            <a:gdLst/>
            <a:ahLst/>
            <a:rect l="l" t="t" r="r" b="b"/>
            <a:pathLst>
              <a:path w="998" h="363">
                <a:moveTo>
                  <a:pt x="680" y="363"/>
                </a:moveTo>
                <a:lnTo>
                  <a:pt x="998" y="363"/>
                </a:lnTo>
                <a:lnTo>
                  <a:pt x="816" y="363"/>
                </a:lnTo>
                <a:lnTo>
                  <a:pt x="81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643280" y="2565360"/>
            <a:ext cx="649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580000" y="2565360"/>
            <a:ext cx="647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516720" y="2565360"/>
            <a:ext cx="719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755640" y="2060280"/>
            <a:ext cx="1944720" cy="1295280"/>
            <a:chOff x="755640" y="2060280"/>
            <a:chExt cx="1944720" cy="1295280"/>
          </a:xfrm>
        </p:grpSpPr>
        <p:sp>
          <p:nvSpPr>
            <p:cNvPr id="896" name=""/>
            <p:cNvSpPr/>
            <p:nvPr/>
          </p:nvSpPr>
          <p:spPr>
            <a:xfrm>
              <a:off x="1692360" y="2852640"/>
              <a:ext cx="1008000" cy="50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1692360" y="2060280"/>
              <a:ext cx="936720" cy="43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55640" y="2276280"/>
              <a:ext cx="1008360" cy="9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755640" y="2060280"/>
            <a:ext cx="1944720" cy="1295280"/>
            <a:chOff x="755640" y="2060280"/>
            <a:chExt cx="1944720" cy="1295280"/>
          </a:xfrm>
        </p:grpSpPr>
        <p:sp>
          <p:nvSpPr>
            <p:cNvPr id="900" name=""/>
            <p:cNvSpPr/>
            <p:nvPr/>
          </p:nvSpPr>
          <p:spPr>
            <a:xfrm>
              <a:off x="1692360" y="2852640"/>
              <a:ext cx="1008000" cy="50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1692360" y="2060280"/>
              <a:ext cx="936720" cy="43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55640" y="2276280"/>
              <a:ext cx="1008360" cy="9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"/>
          <p:cNvSpPr/>
          <p:nvPr/>
        </p:nvSpPr>
        <p:spPr>
          <a:xfrm>
            <a:off x="395280" y="18900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autoriser le fonctionnement du toit souple il faut être sur que les 4 contacts soient enfonc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419640" y="2852640"/>
            <a:ext cx="41767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95280" y="33336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courant se met à circuler dans la résistance mais la tension mesurée par l’ordinateur est nulle : « Mesure »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11280" y="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s ouverts le courant ne peut pas circuler donc la chute de tension est nulle dans la ré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2843280" y="2565360"/>
            <a:ext cx="1152360" cy="1224000"/>
            <a:chOff x="2843280" y="2565360"/>
            <a:chExt cx="1152360" cy="1224000"/>
          </a:xfrm>
        </p:grpSpPr>
        <p:sp>
          <p:nvSpPr>
            <p:cNvPr id="908" name=""/>
            <p:cNvSpPr/>
            <p:nvPr/>
          </p:nvSpPr>
          <p:spPr>
            <a:xfrm flipV="1">
              <a:off x="3780000" y="2565360"/>
              <a:ext cx="21564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2843280" y="2636640"/>
              <a:ext cx="216000" cy="36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916360" y="2852640"/>
              <a:ext cx="100800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755640" y="2276640"/>
            <a:ext cx="1944720" cy="1079280"/>
            <a:chOff x="755640" y="2276640"/>
            <a:chExt cx="1944720" cy="1079280"/>
          </a:xfrm>
        </p:grpSpPr>
        <p:sp>
          <p:nvSpPr>
            <p:cNvPr id="912" name=""/>
            <p:cNvSpPr/>
            <p:nvPr/>
          </p:nvSpPr>
          <p:spPr>
            <a:xfrm>
              <a:off x="1692360" y="2852640"/>
              <a:ext cx="1008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692360" y="2492280"/>
              <a:ext cx="718920" cy="73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55640" y="2276640"/>
              <a:ext cx="1008000" cy="9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395280" y="407664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es 4 capteurs sont actionnés « Mesure » est à 0 : (Si A . B . C . 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395280" y="5013360"/>
            <a:ext cx="8820000" cy="947160"/>
            <a:chOff x="395280" y="5013360"/>
            <a:chExt cx="8820000" cy="947160"/>
          </a:xfrm>
        </p:grpSpPr>
        <p:sp>
          <p:nvSpPr>
            <p:cNvPr id="917" name=""/>
            <p:cNvSpPr/>
            <p:nvPr/>
          </p:nvSpPr>
          <p:spPr>
            <a:xfrm>
              <a:off x="395280" y="5013360"/>
              <a:ext cx="8820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i un seul des capteurs n’est pas actionné « Mesure » est à 1 (Si A + B + C + D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95280" y="551808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842920" y="551808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138560" y="551808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90920" y="551808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"/>
          <p:cNvSpPr/>
          <p:nvPr/>
        </p:nvSpPr>
        <p:spPr>
          <a:xfrm>
            <a:off x="395280" y="59119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cas de coupure « Mesure » est toujours à 1 et le moteur n’est pas autorisé à fonctio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4642920" y="2565360"/>
            <a:ext cx="360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4788000" y="2420640"/>
            <a:ext cx="433440" cy="360360"/>
            <a:chOff x="4788000" y="2420640"/>
            <a:chExt cx="433440" cy="360360"/>
          </a:xfrm>
        </p:grpSpPr>
        <p:sp>
          <p:nvSpPr>
            <p:cNvPr id="925" name=""/>
            <p:cNvSpPr/>
            <p:nvPr/>
          </p:nvSpPr>
          <p:spPr>
            <a:xfrm>
              <a:off x="4788000" y="2421000"/>
              <a:ext cx="433440" cy="358920"/>
            </a:xfrm>
            <a:prstGeom prst="parallelogram">
              <a:avLst>
                <a:gd name="adj" fmla="val 925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4932360" y="2420640"/>
              <a:ext cx="289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4788000" y="2420640"/>
              <a:ext cx="289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395280" y="1700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ure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68360" y="126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ure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5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016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8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025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7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034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043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5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3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1" dur="3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3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103" dur="3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3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8" dur="3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2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7" dur="3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0" dur="3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3" dur="2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6" dur="2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3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138" dur="2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0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>
            <a:off x="2340000" y="2563920"/>
            <a:ext cx="1819080" cy="252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lcula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976480" y="3533760"/>
            <a:ext cx="72864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705120" y="3727440"/>
            <a:ext cx="63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2703600" y="4308120"/>
            <a:ext cx="182160" cy="582840"/>
            <a:chOff x="2703600" y="4308120"/>
            <a:chExt cx="182160" cy="582840"/>
          </a:xfrm>
        </p:grpSpPr>
        <p:sp>
          <p:nvSpPr>
            <p:cNvPr id="934" name=""/>
            <p:cNvSpPr/>
            <p:nvPr/>
          </p:nvSpPr>
          <p:spPr>
            <a:xfrm>
              <a:off x="2885760" y="4308480"/>
              <a:ext cx="0" cy="58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flipV="1">
              <a:off x="2703600" y="4308120"/>
              <a:ext cx="18216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 flipV="1">
              <a:off x="2703600" y="4502160"/>
              <a:ext cx="18216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 flipV="1">
              <a:off x="2703600" y="4599360"/>
              <a:ext cx="18216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 flipV="1">
              <a:off x="2703600" y="4696560"/>
              <a:ext cx="182160" cy="9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 flipV="1">
              <a:off x="2703600" y="4405320"/>
              <a:ext cx="182160" cy="9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0" name=""/>
          <p:cNvSpPr/>
          <p:nvPr/>
        </p:nvSpPr>
        <p:spPr>
          <a:xfrm flipH="1">
            <a:off x="2703600" y="3727440"/>
            <a:ext cx="27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2703600" y="3436920"/>
            <a:ext cx="182520" cy="193680"/>
            <a:chOff x="2703600" y="3436920"/>
            <a:chExt cx="182520" cy="193680"/>
          </a:xfrm>
        </p:grpSpPr>
        <p:sp>
          <p:nvSpPr>
            <p:cNvPr id="942" name=""/>
            <p:cNvSpPr/>
            <p:nvPr/>
          </p:nvSpPr>
          <p:spPr>
            <a:xfrm flipV="1">
              <a:off x="2794680" y="3436920"/>
              <a:ext cx="0" cy="193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703600" y="3533760"/>
              <a:ext cx="182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"/>
          <p:cNvSpPr/>
          <p:nvPr/>
        </p:nvSpPr>
        <p:spPr>
          <a:xfrm flipV="1">
            <a:off x="2886120" y="4502880"/>
            <a:ext cx="4822920" cy="96840"/>
          </a:xfrm>
          <a:custGeom>
            <a:avLst/>
            <a:gdLst/>
            <a:ahLst/>
            <a:rect l="l" t="t" r="r" b="b"/>
            <a:pathLst>
              <a:path w="8588" h="1">
                <a:moveTo>
                  <a:pt x="8588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703600" y="3144960"/>
            <a:ext cx="1274760" cy="582480"/>
          </a:xfrm>
          <a:custGeom>
            <a:avLst/>
            <a:gdLst/>
            <a:ahLst/>
            <a:rect l="l" t="t" r="r" b="b"/>
            <a:pathLst>
              <a:path w="2034" h="904">
                <a:moveTo>
                  <a:pt x="2034" y="904"/>
                </a:moveTo>
                <a:lnTo>
                  <a:pt x="203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430360" y="2854440"/>
            <a:ext cx="16383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432320" y="3851280"/>
            <a:ext cx="5302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3322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4694400" y="419724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332240"/>
            <a:ext cx="13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37274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433840" y="3851280"/>
            <a:ext cx="5288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956200" y="43322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5697360" y="419724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5954760" y="4332240"/>
            <a:ext cx="12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5956200" y="37274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343560" y="3851280"/>
            <a:ext cx="5288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865920" y="43322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6607080" y="419724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864480" y="4332240"/>
            <a:ext cx="12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865920" y="37274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7162920" y="3851280"/>
            <a:ext cx="5284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7684920" y="43322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7426440" y="419724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7683480" y="4332240"/>
            <a:ext cx="12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7684920" y="37274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341960" y="3727440"/>
            <a:ext cx="33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716360" y="306864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716360" y="270828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653080" y="30686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653080" y="27082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589800" y="30686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589800" y="27082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7381800" y="306864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381800" y="270828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4628880" y="3643200"/>
            <a:ext cx="447840" cy="755640"/>
            <a:chOff x="4628880" y="3643200"/>
            <a:chExt cx="447840" cy="755640"/>
          </a:xfrm>
        </p:grpSpPr>
        <p:grpSp>
          <p:nvGrpSpPr>
            <p:cNvPr id="977" name=""/>
            <p:cNvGrpSpPr/>
            <p:nvPr/>
          </p:nvGrpSpPr>
          <p:grpSpPr>
            <a:xfrm>
              <a:off x="4628880" y="3995640"/>
              <a:ext cx="387720" cy="403200"/>
              <a:chOff x="4628880" y="3995640"/>
              <a:chExt cx="387720" cy="403200"/>
            </a:xfrm>
          </p:grpSpPr>
          <p:sp>
            <p:nvSpPr>
              <p:cNvPr id="978" name=""/>
              <p:cNvSpPr/>
              <p:nvPr/>
            </p:nvSpPr>
            <p:spPr>
              <a:xfrm>
                <a:off x="4951440" y="3995640"/>
                <a:ext cx="6516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rot="5400000">
                <a:off x="4627080" y="4132080"/>
                <a:ext cx="133560" cy="12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0" name=""/>
            <p:cNvSpPr/>
            <p:nvPr/>
          </p:nvSpPr>
          <p:spPr>
            <a:xfrm>
              <a:off x="5003640" y="3643200"/>
              <a:ext cx="73080" cy="72720"/>
            </a:xfrm>
            <a:prstGeom prst="ellipse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5651280" y="3643200"/>
            <a:ext cx="447840" cy="755640"/>
            <a:chOff x="5651280" y="3643200"/>
            <a:chExt cx="447840" cy="755640"/>
          </a:xfrm>
        </p:grpSpPr>
        <p:grpSp>
          <p:nvGrpSpPr>
            <p:cNvPr id="982" name=""/>
            <p:cNvGrpSpPr/>
            <p:nvPr/>
          </p:nvGrpSpPr>
          <p:grpSpPr>
            <a:xfrm>
              <a:off x="5651280" y="3995640"/>
              <a:ext cx="387720" cy="403200"/>
              <a:chOff x="5651280" y="3995640"/>
              <a:chExt cx="387720" cy="403200"/>
            </a:xfrm>
          </p:grpSpPr>
          <p:sp>
            <p:nvSpPr>
              <p:cNvPr id="983" name=""/>
              <p:cNvSpPr/>
              <p:nvPr/>
            </p:nvSpPr>
            <p:spPr>
              <a:xfrm>
                <a:off x="5973840" y="3995640"/>
                <a:ext cx="6516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5400000">
                <a:off x="5649480" y="4132080"/>
                <a:ext cx="133560" cy="12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5" name=""/>
            <p:cNvSpPr/>
            <p:nvPr/>
          </p:nvSpPr>
          <p:spPr>
            <a:xfrm>
              <a:off x="6026040" y="3643200"/>
              <a:ext cx="73080" cy="72720"/>
            </a:xfrm>
            <a:prstGeom prst="ellipse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6557760" y="3643200"/>
            <a:ext cx="447840" cy="755640"/>
            <a:chOff x="6557760" y="3643200"/>
            <a:chExt cx="447840" cy="755640"/>
          </a:xfrm>
        </p:grpSpPr>
        <p:grpSp>
          <p:nvGrpSpPr>
            <p:cNvPr id="987" name=""/>
            <p:cNvGrpSpPr/>
            <p:nvPr/>
          </p:nvGrpSpPr>
          <p:grpSpPr>
            <a:xfrm>
              <a:off x="6557760" y="3995640"/>
              <a:ext cx="387720" cy="403200"/>
              <a:chOff x="6557760" y="3995640"/>
              <a:chExt cx="387720" cy="403200"/>
            </a:xfrm>
          </p:grpSpPr>
          <p:sp>
            <p:nvSpPr>
              <p:cNvPr id="988" name=""/>
              <p:cNvSpPr/>
              <p:nvPr/>
            </p:nvSpPr>
            <p:spPr>
              <a:xfrm>
                <a:off x="6880320" y="3995640"/>
                <a:ext cx="6516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rot="5400000">
                <a:off x="6555960" y="4132080"/>
                <a:ext cx="133560" cy="12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0" name=""/>
            <p:cNvSpPr/>
            <p:nvPr/>
          </p:nvSpPr>
          <p:spPr>
            <a:xfrm>
              <a:off x="6932520" y="3643200"/>
              <a:ext cx="73080" cy="72720"/>
            </a:xfrm>
            <a:prstGeom prst="ellipse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7380000" y="3643200"/>
            <a:ext cx="447840" cy="755640"/>
            <a:chOff x="7380000" y="3643200"/>
            <a:chExt cx="447840" cy="755640"/>
          </a:xfrm>
        </p:grpSpPr>
        <p:grpSp>
          <p:nvGrpSpPr>
            <p:cNvPr id="992" name=""/>
            <p:cNvGrpSpPr/>
            <p:nvPr/>
          </p:nvGrpSpPr>
          <p:grpSpPr>
            <a:xfrm>
              <a:off x="7380000" y="3995640"/>
              <a:ext cx="387720" cy="403200"/>
              <a:chOff x="7380000" y="3995640"/>
              <a:chExt cx="387720" cy="403200"/>
            </a:xfrm>
          </p:grpSpPr>
          <p:sp>
            <p:nvSpPr>
              <p:cNvPr id="993" name=""/>
              <p:cNvSpPr/>
              <p:nvPr/>
            </p:nvSpPr>
            <p:spPr>
              <a:xfrm>
                <a:off x="7702560" y="3995640"/>
                <a:ext cx="6516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rot="5400000">
                <a:off x="7378200" y="4132080"/>
                <a:ext cx="133560" cy="12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5" name=""/>
            <p:cNvSpPr/>
            <p:nvPr/>
          </p:nvSpPr>
          <p:spPr>
            <a:xfrm>
              <a:off x="7754760" y="3643200"/>
              <a:ext cx="73080" cy="72720"/>
            </a:xfrm>
            <a:prstGeom prst="ellipse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6" name=""/>
          <p:cNvSpPr/>
          <p:nvPr/>
        </p:nvSpPr>
        <p:spPr>
          <a:xfrm>
            <a:off x="2411280" y="3716280"/>
            <a:ext cx="574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2556000" y="4363920"/>
            <a:ext cx="5111640" cy="216000"/>
          </a:xfrm>
          <a:custGeom>
            <a:avLst/>
            <a:gdLst/>
            <a:ahLst/>
            <a:rect l="l" t="t" r="r" b="b"/>
            <a:pathLst>
              <a:path w="3220" h="136">
                <a:moveTo>
                  <a:pt x="3220" y="0"/>
                </a:moveTo>
                <a:lnTo>
                  <a:pt x="3220" y="136"/>
                </a:lnTo>
                <a:lnTo>
                  <a:pt x="2722" y="136"/>
                </a:lnTo>
                <a:lnTo>
                  <a:pt x="2722" y="0"/>
                </a:lnTo>
                <a:lnTo>
                  <a:pt x="2722" y="136"/>
                </a:lnTo>
                <a:lnTo>
                  <a:pt x="2132" y="136"/>
                </a:lnTo>
                <a:lnTo>
                  <a:pt x="2132" y="0"/>
                </a:lnTo>
                <a:lnTo>
                  <a:pt x="2132" y="136"/>
                </a:lnTo>
                <a:lnTo>
                  <a:pt x="1497" y="136"/>
                </a:lnTo>
                <a:lnTo>
                  <a:pt x="1497" y="0"/>
                </a:lnTo>
                <a:lnTo>
                  <a:pt x="1497" y="136"/>
                </a:lnTo>
                <a:lnTo>
                  <a:pt x="0" y="136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627280" y="3139920"/>
            <a:ext cx="5040360" cy="936720"/>
          </a:xfrm>
          <a:custGeom>
            <a:avLst/>
            <a:gdLst/>
            <a:ahLst/>
            <a:rect l="l" t="t" r="r" b="b"/>
            <a:pathLst>
              <a:path w="3175" h="590">
                <a:moveTo>
                  <a:pt x="0" y="0"/>
                </a:moveTo>
                <a:lnTo>
                  <a:pt x="862" y="0"/>
                </a:lnTo>
                <a:lnTo>
                  <a:pt x="862" y="363"/>
                </a:lnTo>
                <a:lnTo>
                  <a:pt x="681" y="363"/>
                </a:lnTo>
                <a:lnTo>
                  <a:pt x="1452" y="363"/>
                </a:lnTo>
                <a:lnTo>
                  <a:pt x="1452" y="544"/>
                </a:lnTo>
                <a:lnTo>
                  <a:pt x="1452" y="363"/>
                </a:lnTo>
                <a:lnTo>
                  <a:pt x="2087" y="363"/>
                </a:lnTo>
                <a:lnTo>
                  <a:pt x="2087" y="544"/>
                </a:lnTo>
                <a:lnTo>
                  <a:pt x="2087" y="363"/>
                </a:lnTo>
                <a:lnTo>
                  <a:pt x="2677" y="363"/>
                </a:lnTo>
                <a:lnTo>
                  <a:pt x="2677" y="544"/>
                </a:lnTo>
                <a:lnTo>
                  <a:pt x="2677" y="363"/>
                </a:lnTo>
                <a:lnTo>
                  <a:pt x="3175" y="363"/>
                </a:lnTo>
                <a:lnTo>
                  <a:pt x="3175" y="59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3141720"/>
            <a:ext cx="5040360" cy="936720"/>
          </a:xfrm>
          <a:custGeom>
            <a:avLst/>
            <a:gdLst/>
            <a:ahLst/>
            <a:rect l="l" t="t" r="r" b="b"/>
            <a:pathLst>
              <a:path w="3175" h="590">
                <a:moveTo>
                  <a:pt x="0" y="0"/>
                </a:moveTo>
                <a:lnTo>
                  <a:pt x="862" y="0"/>
                </a:lnTo>
                <a:lnTo>
                  <a:pt x="862" y="363"/>
                </a:lnTo>
                <a:lnTo>
                  <a:pt x="681" y="363"/>
                </a:lnTo>
                <a:lnTo>
                  <a:pt x="1452" y="363"/>
                </a:lnTo>
                <a:lnTo>
                  <a:pt x="1452" y="544"/>
                </a:lnTo>
                <a:lnTo>
                  <a:pt x="1452" y="363"/>
                </a:lnTo>
                <a:lnTo>
                  <a:pt x="2087" y="363"/>
                </a:lnTo>
                <a:lnTo>
                  <a:pt x="2087" y="544"/>
                </a:lnTo>
                <a:lnTo>
                  <a:pt x="2087" y="363"/>
                </a:lnTo>
                <a:lnTo>
                  <a:pt x="2677" y="363"/>
                </a:lnTo>
                <a:lnTo>
                  <a:pt x="2677" y="544"/>
                </a:lnTo>
                <a:lnTo>
                  <a:pt x="2677" y="363"/>
                </a:lnTo>
                <a:lnTo>
                  <a:pt x="3175" y="363"/>
                </a:lnTo>
                <a:lnTo>
                  <a:pt x="3175" y="59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684360" y="3213000"/>
            <a:ext cx="1944720" cy="1295640"/>
            <a:chOff x="684360" y="3213000"/>
            <a:chExt cx="1944720" cy="1295640"/>
          </a:xfrm>
        </p:grpSpPr>
        <p:sp>
          <p:nvSpPr>
            <p:cNvPr id="1001" name=""/>
            <p:cNvSpPr/>
            <p:nvPr/>
          </p:nvSpPr>
          <p:spPr>
            <a:xfrm>
              <a:off x="1621080" y="4005360"/>
              <a:ext cx="1008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1621080" y="3213000"/>
              <a:ext cx="936720" cy="43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84360" y="3429000"/>
              <a:ext cx="100836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2843280" y="3716280"/>
            <a:ext cx="1152360" cy="1224000"/>
            <a:chOff x="2843280" y="3716280"/>
            <a:chExt cx="1152360" cy="1224000"/>
          </a:xfrm>
        </p:grpSpPr>
        <p:sp>
          <p:nvSpPr>
            <p:cNvPr id="1005" name=""/>
            <p:cNvSpPr/>
            <p:nvPr/>
          </p:nvSpPr>
          <p:spPr>
            <a:xfrm flipV="1">
              <a:off x="3780000" y="3716280"/>
              <a:ext cx="21564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 flipV="1">
              <a:off x="2843280" y="3787560"/>
              <a:ext cx="216000" cy="36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916360" y="4003560"/>
              <a:ext cx="100800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8" name=""/>
          <p:cNvSpPr/>
          <p:nvPr/>
        </p:nvSpPr>
        <p:spPr>
          <a:xfrm>
            <a:off x="324000" y="126828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calculateur mesure 0 volts et interdit le fonctionnement du moteur du toit sou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84360" y="5084640"/>
            <a:ext cx="799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A . B . C . D sont actionnés ( à 1), « Mesure » passe à 1 et le calculateur autorise le fonctionnement du to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0" name=""/>
          <p:cNvGrpSpPr/>
          <p:nvPr/>
        </p:nvGrpSpPr>
        <p:grpSpPr>
          <a:xfrm>
            <a:off x="324000" y="260280"/>
            <a:ext cx="8353440" cy="947160"/>
            <a:chOff x="324000" y="260280"/>
            <a:chExt cx="8353440" cy="947160"/>
          </a:xfrm>
        </p:grpSpPr>
        <p:sp>
          <p:nvSpPr>
            <p:cNvPr id="1011" name=""/>
            <p:cNvSpPr/>
            <p:nvPr/>
          </p:nvSpPr>
          <p:spPr>
            <a:xfrm>
              <a:off x="324000" y="260280"/>
              <a:ext cx="8353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ant qu’il y a un capteur au repos ( A + B + C + D) le courant circule dans la résistance et RI = 12 vol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012000" y="33336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659640" y="33336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308720" y="333360"/>
              <a:ext cx="28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956720" y="33336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684360" y="3213000"/>
            <a:ext cx="1944720" cy="1295640"/>
            <a:chOff x="684360" y="3213000"/>
            <a:chExt cx="1944720" cy="1295640"/>
          </a:xfrm>
        </p:grpSpPr>
        <p:sp>
          <p:nvSpPr>
            <p:cNvPr id="1017" name=""/>
            <p:cNvSpPr/>
            <p:nvPr/>
          </p:nvSpPr>
          <p:spPr>
            <a:xfrm>
              <a:off x="1621080" y="4005360"/>
              <a:ext cx="1008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1621080" y="3213000"/>
              <a:ext cx="936720" cy="43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84360" y="3429000"/>
              <a:ext cx="100836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2627280" y="3573360"/>
            <a:ext cx="136836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5218200" y="3499920"/>
            <a:ext cx="433440" cy="360360"/>
            <a:chOff x="5218200" y="3499920"/>
            <a:chExt cx="433440" cy="360360"/>
          </a:xfrm>
        </p:grpSpPr>
        <p:sp>
          <p:nvSpPr>
            <p:cNvPr id="1022" name=""/>
            <p:cNvSpPr/>
            <p:nvPr/>
          </p:nvSpPr>
          <p:spPr>
            <a:xfrm>
              <a:off x="5218200" y="3500280"/>
              <a:ext cx="433440" cy="358920"/>
            </a:xfrm>
            <a:prstGeom prst="parallelogram">
              <a:avLst>
                <a:gd name="adj" fmla="val 925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5362560" y="3499920"/>
              <a:ext cx="289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5218200" y="3499920"/>
              <a:ext cx="289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395280" y="40464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cas de coupure le calculateur peut autoriser le fonctionnement du moteur et le mécanisme peut être endommagé. Pour cette raison c’est la solution des contacteurs « normalement ouverts » en série qui a été ret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508720" y="3716280"/>
            <a:ext cx="2158920" cy="360360"/>
          </a:xfrm>
          <a:custGeom>
            <a:avLst/>
            <a:gdLst/>
            <a:ahLst/>
            <a:rect l="l" t="t" r="r" b="b"/>
            <a:pathLst>
              <a:path w="1360" h="227">
                <a:moveTo>
                  <a:pt x="1360" y="227"/>
                </a:moveTo>
                <a:lnTo>
                  <a:pt x="1360" y="0"/>
                </a:lnTo>
                <a:lnTo>
                  <a:pt x="862" y="0"/>
                </a:lnTo>
                <a:lnTo>
                  <a:pt x="862" y="227"/>
                </a:lnTo>
                <a:lnTo>
                  <a:pt x="862" y="0"/>
                </a:lnTo>
                <a:lnTo>
                  <a:pt x="272" y="0"/>
                </a:lnTo>
                <a:lnTo>
                  <a:pt x="272" y="227"/>
                </a:lnTo>
                <a:lnTo>
                  <a:pt x="272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50920" y="2924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ure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24000" y="2565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ure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3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1167" dur="2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9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1176" dur="2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1185" dur="2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7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1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5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1210" dur="3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2" dur="2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5" dur="3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3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5" dur="3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7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3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6" dur="3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4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7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500000">
                                      <p:cBhvr>
                                        <p:cTn id="1260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" name=""/>
          <p:cNvGrpSpPr/>
          <p:nvPr/>
        </p:nvGrpSpPr>
        <p:grpSpPr>
          <a:xfrm>
            <a:off x="2916360" y="3213000"/>
            <a:ext cx="1163520" cy="2448000"/>
            <a:chOff x="2916360" y="3213000"/>
            <a:chExt cx="1163520" cy="2448000"/>
          </a:xfrm>
        </p:grpSpPr>
        <p:sp>
          <p:nvSpPr>
            <p:cNvPr id="1030" name=""/>
            <p:cNvSpPr/>
            <p:nvPr/>
          </p:nvSpPr>
          <p:spPr>
            <a:xfrm>
              <a:off x="2916360" y="321300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rtie 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16360" y="3701880"/>
              <a:ext cx="116352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16360" y="4192560"/>
              <a:ext cx="1163520" cy="488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16360" y="4681440"/>
              <a:ext cx="1163520" cy="4906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16360" y="5172120"/>
              <a:ext cx="1163520" cy="488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479520" y="3213000"/>
            <a:ext cx="2325600" cy="2448000"/>
            <a:chOff x="479520" y="3213000"/>
            <a:chExt cx="2325600" cy="2448000"/>
          </a:xfrm>
        </p:grpSpPr>
        <p:sp>
          <p:nvSpPr>
            <p:cNvPr id="1036" name=""/>
            <p:cNvSpPr/>
            <p:nvPr/>
          </p:nvSpPr>
          <p:spPr>
            <a:xfrm>
              <a:off x="479520" y="321300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rée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643040" y="3213000"/>
              <a:ext cx="116208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rée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79520" y="3701880"/>
              <a:ext cx="116352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79520" y="419256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643040" y="3701880"/>
              <a:ext cx="116208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643040" y="4192560"/>
              <a:ext cx="1162080" cy="488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79520" y="4681440"/>
              <a:ext cx="1163520" cy="4906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79520" y="5172120"/>
              <a:ext cx="1163520" cy="488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643040" y="4681440"/>
              <a:ext cx="116208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643040" y="5172120"/>
              <a:ext cx="1162080" cy="488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324000" y="2602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ble de vérité d’un complément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1763640" y="981000"/>
            <a:ext cx="5545080" cy="703440"/>
            <a:chOff x="1763640" y="981000"/>
            <a:chExt cx="5545080" cy="703440"/>
          </a:xfrm>
        </p:grpSpPr>
        <p:sp>
          <p:nvSpPr>
            <p:cNvPr id="1048" name=""/>
            <p:cNvSpPr/>
            <p:nvPr/>
          </p:nvSpPr>
          <p:spPr>
            <a:xfrm>
              <a:off x="1763640" y="981000"/>
              <a:ext cx="554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Exemple : A + 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284360" y="981000"/>
              <a:ext cx="122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1547640" y="1989000"/>
            <a:ext cx="1729080" cy="703440"/>
            <a:chOff x="1547640" y="1989000"/>
            <a:chExt cx="1729080" cy="703440"/>
          </a:xfrm>
        </p:grpSpPr>
        <p:sp>
          <p:nvSpPr>
            <p:cNvPr id="1051" name=""/>
            <p:cNvSpPr/>
            <p:nvPr/>
          </p:nvSpPr>
          <p:spPr>
            <a:xfrm>
              <a:off x="1547640" y="1989000"/>
              <a:ext cx="172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A + 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333520" y="1989000"/>
              <a:ext cx="381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1476360" y="1989000"/>
            <a:ext cx="180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3564000" y="3213000"/>
            <a:ext cx="1163520" cy="2448000"/>
            <a:chOff x="3564000" y="3213000"/>
            <a:chExt cx="1163520" cy="2448000"/>
          </a:xfrm>
        </p:grpSpPr>
        <p:sp>
          <p:nvSpPr>
            <p:cNvPr id="1055" name=""/>
            <p:cNvSpPr/>
            <p:nvPr/>
          </p:nvSpPr>
          <p:spPr>
            <a:xfrm>
              <a:off x="3564000" y="321300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rtie 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564000" y="3701880"/>
              <a:ext cx="1163520" cy="4906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564000" y="419256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564000" y="4681440"/>
              <a:ext cx="116352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564000" y="517212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3924360" y="1844640"/>
            <a:ext cx="4968720" cy="1584360"/>
            <a:chOff x="3924360" y="1844640"/>
            <a:chExt cx="4968720" cy="1584360"/>
          </a:xfrm>
        </p:grpSpPr>
        <p:sp>
          <p:nvSpPr>
            <p:cNvPr id="1061" name=""/>
            <p:cNvSpPr/>
            <p:nvPr/>
          </p:nvSpPr>
          <p:spPr>
            <a:xfrm>
              <a:off x="4150080" y="2332080"/>
              <a:ext cx="790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4940640" y="1844640"/>
              <a:ext cx="0" cy="974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940640" y="1844640"/>
              <a:ext cx="790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730840" y="1844640"/>
              <a:ext cx="564480" cy="243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8780040" y="2088360"/>
              <a:ext cx="0" cy="487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295680" y="1844640"/>
              <a:ext cx="790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086240" y="1844640"/>
              <a:ext cx="0" cy="974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940640" y="2819520"/>
              <a:ext cx="790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730840" y="2819520"/>
              <a:ext cx="564480" cy="243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295680" y="2819520"/>
              <a:ext cx="790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086240" y="2332080"/>
              <a:ext cx="6775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763760" y="2088360"/>
              <a:ext cx="451440" cy="48744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8215560" y="2332080"/>
              <a:ext cx="564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8780040" y="2088360"/>
              <a:ext cx="113040" cy="121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8780040" y="2210040"/>
              <a:ext cx="113040" cy="121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8780040" y="2331720"/>
              <a:ext cx="113040" cy="122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7" name=""/>
            <p:cNvGrpSpPr/>
            <p:nvPr/>
          </p:nvGrpSpPr>
          <p:grpSpPr>
            <a:xfrm>
              <a:off x="3924360" y="2088360"/>
              <a:ext cx="225720" cy="243360"/>
              <a:chOff x="3924360" y="2088360"/>
              <a:chExt cx="225720" cy="243360"/>
            </a:xfrm>
          </p:grpSpPr>
          <p:sp>
            <p:nvSpPr>
              <p:cNvPr id="1078" name=""/>
              <p:cNvSpPr/>
              <p:nvPr/>
            </p:nvSpPr>
            <p:spPr>
              <a:xfrm>
                <a:off x="3924360" y="2209680"/>
                <a:ext cx="22572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V="1">
                <a:off x="4037400" y="2088360"/>
                <a:ext cx="0" cy="243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0" name=""/>
            <p:cNvSpPr/>
            <p:nvPr/>
          </p:nvSpPr>
          <p:spPr>
            <a:xfrm>
              <a:off x="5618160" y="1966680"/>
              <a:ext cx="67752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618160" y="2941560"/>
              <a:ext cx="67752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4859280" y="3933720"/>
            <a:ext cx="4032360" cy="1152720"/>
            <a:chOff x="4859280" y="3933720"/>
            <a:chExt cx="4032360" cy="1152720"/>
          </a:xfrm>
        </p:grpSpPr>
        <p:sp>
          <p:nvSpPr>
            <p:cNvPr id="1083" name=""/>
            <p:cNvSpPr/>
            <p:nvPr/>
          </p:nvSpPr>
          <p:spPr>
            <a:xfrm>
              <a:off x="7337520" y="4029120"/>
              <a:ext cx="694800" cy="720360"/>
            </a:xfrm>
            <a:prstGeom prst="flowChartSummingJunction">
              <a:avLst/>
            </a:prstGeom>
            <a:solidFill>
              <a:srgbClr val="0000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>
              <a:off x="8752680" y="4077360"/>
              <a:ext cx="0" cy="576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8057520" y="4366080"/>
              <a:ext cx="6948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8752680" y="4077720"/>
              <a:ext cx="138960" cy="14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8752680" y="4221720"/>
              <a:ext cx="138960" cy="14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8752680" y="4366080"/>
              <a:ext cx="138960" cy="14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527520" y="4366080"/>
              <a:ext cx="8341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6527520" y="4077720"/>
              <a:ext cx="0" cy="288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5693040" y="4221720"/>
              <a:ext cx="973080" cy="14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>
              <a:off x="4997880" y="4366080"/>
              <a:ext cx="6951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971320" y="4510080"/>
              <a:ext cx="973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4" name=""/>
            <p:cNvGrpSpPr/>
            <p:nvPr/>
          </p:nvGrpSpPr>
          <p:grpSpPr>
            <a:xfrm>
              <a:off x="4859280" y="3933720"/>
              <a:ext cx="277920" cy="288000"/>
              <a:chOff x="4859280" y="3933720"/>
              <a:chExt cx="277920" cy="288000"/>
            </a:xfrm>
          </p:grpSpPr>
          <p:sp>
            <p:nvSpPr>
              <p:cNvPr id="1095" name=""/>
              <p:cNvSpPr/>
              <p:nvPr/>
            </p:nvSpPr>
            <p:spPr>
              <a:xfrm>
                <a:off x="4859280" y="4077360"/>
                <a:ext cx="27792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V="1">
                <a:off x="4998240" y="3933720"/>
                <a:ext cx="0" cy="2880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7" name=""/>
          <p:cNvGrpSpPr/>
          <p:nvPr/>
        </p:nvGrpSpPr>
        <p:grpSpPr>
          <a:xfrm>
            <a:off x="4859280" y="4005360"/>
            <a:ext cx="4032360" cy="1152000"/>
            <a:chOff x="4859280" y="4005360"/>
            <a:chExt cx="4032360" cy="1152000"/>
          </a:xfrm>
        </p:grpSpPr>
        <p:sp>
          <p:nvSpPr>
            <p:cNvPr id="1098" name=""/>
            <p:cNvSpPr/>
            <p:nvPr/>
          </p:nvSpPr>
          <p:spPr>
            <a:xfrm>
              <a:off x="7337520" y="4100400"/>
              <a:ext cx="695160" cy="720360"/>
            </a:xfrm>
            <a:prstGeom prst="flowChartSummingJunction">
              <a:avLst/>
            </a:prstGeom>
            <a:solidFill>
              <a:srgbClr val="0000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8751960" y="4149360"/>
              <a:ext cx="0" cy="57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8056440" y="4437000"/>
              <a:ext cx="6955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V="1">
              <a:off x="8751960" y="4149000"/>
              <a:ext cx="139680" cy="144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8751960" y="4294080"/>
              <a:ext cx="139680" cy="142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8751960" y="4437000"/>
              <a:ext cx="139680" cy="14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527880" y="4437000"/>
              <a:ext cx="8348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 flipV="1">
              <a:off x="5694480" y="4436640"/>
              <a:ext cx="820800" cy="286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>
              <a:off x="4998960" y="4437000"/>
              <a:ext cx="6955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972400" y="4581360"/>
              <a:ext cx="9730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8" name=""/>
            <p:cNvGrpSpPr/>
            <p:nvPr/>
          </p:nvGrpSpPr>
          <p:grpSpPr>
            <a:xfrm>
              <a:off x="4859280" y="4005360"/>
              <a:ext cx="277920" cy="288720"/>
              <a:chOff x="4859280" y="4005360"/>
              <a:chExt cx="277920" cy="288720"/>
            </a:xfrm>
          </p:grpSpPr>
          <p:sp>
            <p:nvSpPr>
              <p:cNvPr id="1109" name=""/>
              <p:cNvSpPr/>
              <p:nvPr/>
            </p:nvSpPr>
            <p:spPr>
              <a:xfrm>
                <a:off x="4859280" y="4149360"/>
                <a:ext cx="27792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V="1">
                <a:off x="4998240" y="4005360"/>
                <a:ext cx="0" cy="288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1" name=""/>
          <p:cNvSpPr/>
          <p:nvPr/>
        </p:nvSpPr>
        <p:spPr>
          <a:xfrm>
            <a:off x="7337520" y="4024440"/>
            <a:ext cx="695160" cy="720720"/>
          </a:xfrm>
          <a:prstGeom prst="flowChartSummingJunction">
            <a:avLst/>
          </a:prstGeom>
          <a:solidFill>
            <a:srgbClr val="f6ec2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7335720" y="4027320"/>
            <a:ext cx="695520" cy="720720"/>
          </a:xfrm>
          <a:prstGeom prst="flowChartSummingJunction">
            <a:avLst/>
          </a:prstGeom>
          <a:solidFill>
            <a:srgbClr val="f6ec2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4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9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8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2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3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500"/>
                            </p:stCondLst>
                            <p:childTnLst>
                              <p:par>
                                <p:cTn id="1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500"/>
                            </p:stCondLst>
                            <p:childTnLst>
                              <p:par>
                                <p:cTn id="1329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30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31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32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333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946840" y="1531800"/>
            <a:ext cx="40140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48440" y="192888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351480" y="1531800"/>
            <a:ext cx="338400" cy="530280"/>
            <a:chOff x="6351480" y="1531800"/>
            <a:chExt cx="338400" cy="530280"/>
          </a:xfrm>
        </p:grpSpPr>
        <p:sp>
          <p:nvSpPr>
            <p:cNvPr id="53" name=""/>
            <p:cNvSpPr/>
            <p:nvPr/>
          </p:nvSpPr>
          <p:spPr>
            <a:xfrm>
              <a:off x="6351480" y="179676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554520" y="153180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554520" y="153180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554520" y="16642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6554520" y="179676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6554520" y="192960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419880" y="245916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57920" y="2193840"/>
            <a:ext cx="541440" cy="53028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299360" y="2193840"/>
            <a:ext cx="337680" cy="530280"/>
            <a:chOff x="7299360" y="2193840"/>
            <a:chExt cx="337680" cy="530280"/>
          </a:xfrm>
        </p:grpSpPr>
        <p:sp>
          <p:nvSpPr>
            <p:cNvPr id="62" name=""/>
            <p:cNvSpPr/>
            <p:nvPr/>
          </p:nvSpPr>
          <p:spPr>
            <a:xfrm>
              <a:off x="7299360" y="245880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502040" y="219384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7502040" y="219384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7502040" y="232632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7502040" y="245880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7502040" y="259164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554880" y="2459160"/>
            <a:ext cx="1752480" cy="927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453440" y="279720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402160" y="179712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402160" y="245916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24520" y="2724120"/>
            <a:ext cx="74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073480" y="2341440"/>
            <a:ext cx="271800" cy="265320"/>
            <a:chOff x="5073480" y="2341440"/>
            <a:chExt cx="271800" cy="265320"/>
          </a:xfrm>
        </p:grpSpPr>
        <p:sp>
          <p:nvSpPr>
            <p:cNvPr id="74" name=""/>
            <p:cNvSpPr/>
            <p:nvPr/>
          </p:nvSpPr>
          <p:spPr>
            <a:xfrm>
              <a:off x="5209200" y="2341440"/>
              <a:ext cx="0" cy="26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73480" y="2473920"/>
              <a:ext cx="2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5483160" y="1109520"/>
            <a:ext cx="2824200" cy="66060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453440" y="47628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59200" y="1798560"/>
            <a:ext cx="80352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74680" y="24829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44760" y="2933640"/>
            <a:ext cx="649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2720" y="2303640"/>
            <a:ext cx="0" cy="29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245124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11320" y="2482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94200" y="248292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54160" y="18018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37040" y="180180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550960" y="16012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797120"/>
            <a:ext cx="1496880" cy="677880"/>
          </a:xfrm>
          <a:custGeom>
            <a:avLst/>
            <a:gdLst/>
            <a:ahLst/>
            <a:rect l="l" t="t" r="r" b="b"/>
            <a:pathLst>
              <a:path w="1182" h="522">
                <a:moveTo>
                  <a:pt x="0" y="0"/>
                </a:moveTo>
                <a:lnTo>
                  <a:pt x="0" y="270"/>
                </a:lnTo>
                <a:lnTo>
                  <a:pt x="1182" y="270"/>
                </a:lnTo>
                <a:lnTo>
                  <a:pt x="1182" y="5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2727360" y="161928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32160" y="17953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4680" y="17953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27520" y="2038320"/>
            <a:ext cx="649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36880" y="1557360"/>
            <a:ext cx="1239840" cy="384120"/>
            <a:chOff x="3836880" y="1557360"/>
            <a:chExt cx="1239840" cy="384120"/>
          </a:xfrm>
        </p:grpSpPr>
        <p:sp>
          <p:nvSpPr>
            <p:cNvPr id="94" name=""/>
            <p:cNvSpPr/>
            <p:nvPr/>
          </p:nvSpPr>
          <p:spPr>
            <a:xfrm flipV="1">
              <a:off x="3836880" y="1795320"/>
              <a:ext cx="577800" cy="14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03640" y="155736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516040" y="2276640"/>
            <a:ext cx="1192320" cy="352440"/>
            <a:chOff x="2516040" y="2276640"/>
            <a:chExt cx="1192320" cy="352440"/>
          </a:xfrm>
        </p:grpSpPr>
        <p:sp>
          <p:nvSpPr>
            <p:cNvPr id="97" name=""/>
            <p:cNvSpPr/>
            <p:nvPr/>
          </p:nvSpPr>
          <p:spPr>
            <a:xfrm flipV="1">
              <a:off x="2516040" y="2482920"/>
              <a:ext cx="578160" cy="14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35280" y="227664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459160" y="1695600"/>
            <a:ext cx="1320840" cy="293400"/>
            <a:chOff x="2459160" y="1695600"/>
            <a:chExt cx="1320840" cy="293400"/>
          </a:xfrm>
        </p:grpSpPr>
        <p:sp>
          <p:nvSpPr>
            <p:cNvPr id="100" name=""/>
            <p:cNvSpPr/>
            <p:nvPr/>
          </p:nvSpPr>
          <p:spPr>
            <a:xfrm>
              <a:off x="2459160" y="1695600"/>
              <a:ext cx="677880" cy="10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08360" y="191628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956200" y="2060640"/>
            <a:ext cx="992160" cy="736200"/>
            <a:chOff x="5956200" y="2060640"/>
            <a:chExt cx="992160" cy="736200"/>
          </a:xfrm>
        </p:grpSpPr>
        <p:sp>
          <p:nvSpPr>
            <p:cNvPr id="103" name=""/>
            <p:cNvSpPr/>
            <p:nvPr/>
          </p:nvSpPr>
          <p:spPr>
            <a:xfrm flipV="1">
              <a:off x="5956200" y="2458800"/>
              <a:ext cx="463680" cy="33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77080" y="206064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187280" y="249228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18360" y="182556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91440" y="245412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33336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1773000"/>
            <a:ext cx="3816360" cy="64764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40464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33"/>
                </a:solidFill>
                <a:latin typeface="Arial"/>
              </a:rPr>
              <a:t>I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219640" y="0"/>
            <a:ext cx="1800360" cy="1700280"/>
            <a:chOff x="5219640" y="0"/>
            <a:chExt cx="1800360" cy="1700280"/>
          </a:xfrm>
        </p:grpSpPr>
        <p:sp>
          <p:nvSpPr>
            <p:cNvPr id="112" name=""/>
            <p:cNvSpPr/>
            <p:nvPr/>
          </p:nvSpPr>
          <p:spPr>
            <a:xfrm>
              <a:off x="5219640" y="0"/>
              <a:ext cx="1800360" cy="9810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6370200" y="836640"/>
              <a:ext cx="28908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78560" y="836640"/>
              <a:ext cx="28872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708360" y="47628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3640" y="342900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33"/>
                </a:solidFill>
                <a:latin typeface="Arial"/>
              </a:rPr>
              <a:t>I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3500280"/>
            <a:ext cx="172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156360" y="2491920"/>
            <a:ext cx="1800360" cy="1797480"/>
            <a:chOff x="6156360" y="2491920"/>
            <a:chExt cx="1800360" cy="1797480"/>
          </a:xfrm>
        </p:grpSpPr>
        <p:sp>
          <p:nvSpPr>
            <p:cNvPr id="119" name=""/>
            <p:cNvSpPr/>
            <p:nvPr/>
          </p:nvSpPr>
          <p:spPr>
            <a:xfrm flipH="1" flipV="1">
              <a:off x="7380360" y="2492280"/>
              <a:ext cx="71280" cy="1224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6588000" y="2491920"/>
              <a:ext cx="71640" cy="1368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56360" y="3500280"/>
              <a:ext cx="1800360" cy="78912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5796000" y="2349360"/>
            <a:ext cx="20160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247500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27640" y="1125360"/>
            <a:ext cx="3816360" cy="64800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72360" y="242100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88360" y="765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44000" y="2997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48000" y="472428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os : BCc5=0, BCc6=0,Lampe étei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978440"/>
            <a:ext cx="32767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iliser av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coloriage mag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ficher les commentaires du présent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946840" y="1531800"/>
            <a:ext cx="40140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48440" y="192888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351480" y="1531800"/>
            <a:ext cx="338400" cy="530280"/>
            <a:chOff x="6351480" y="1531800"/>
            <a:chExt cx="338400" cy="530280"/>
          </a:xfrm>
        </p:grpSpPr>
        <p:sp>
          <p:nvSpPr>
            <p:cNvPr id="134" name=""/>
            <p:cNvSpPr/>
            <p:nvPr/>
          </p:nvSpPr>
          <p:spPr>
            <a:xfrm>
              <a:off x="6351480" y="179676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4520" y="153180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554520" y="153180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6554520" y="16642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6554520" y="179676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6554520" y="192960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419880" y="245916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57920" y="2193840"/>
            <a:ext cx="541440" cy="53028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299360" y="2193840"/>
            <a:ext cx="337680" cy="530280"/>
            <a:chOff x="7299360" y="2193840"/>
            <a:chExt cx="337680" cy="530280"/>
          </a:xfrm>
        </p:grpSpPr>
        <p:sp>
          <p:nvSpPr>
            <p:cNvPr id="143" name=""/>
            <p:cNvSpPr/>
            <p:nvPr/>
          </p:nvSpPr>
          <p:spPr>
            <a:xfrm>
              <a:off x="7299360" y="245880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02040" y="219384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7502040" y="219384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502040" y="232632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7502040" y="245880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502040" y="259164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554880" y="2459160"/>
            <a:ext cx="1752480" cy="927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53440" y="279720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402160" y="179712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402160" y="245916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24520" y="2724120"/>
            <a:ext cx="74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073480" y="2341440"/>
            <a:ext cx="271800" cy="265320"/>
            <a:chOff x="5073480" y="2341440"/>
            <a:chExt cx="271800" cy="265320"/>
          </a:xfrm>
        </p:grpSpPr>
        <p:sp>
          <p:nvSpPr>
            <p:cNvPr id="155" name=""/>
            <p:cNvSpPr/>
            <p:nvPr/>
          </p:nvSpPr>
          <p:spPr>
            <a:xfrm>
              <a:off x="5209200" y="2341440"/>
              <a:ext cx="0" cy="26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73480" y="2473920"/>
              <a:ext cx="2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483160" y="1109520"/>
            <a:ext cx="2824200" cy="66060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53440" y="47628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59200" y="1798560"/>
            <a:ext cx="80352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74680" y="24829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303640"/>
            <a:ext cx="0" cy="29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245124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11320" y="2482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94200" y="248292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4160" y="18018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37040" y="180180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550960" y="16012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41560" y="1797120"/>
            <a:ext cx="1496880" cy="677880"/>
          </a:xfrm>
          <a:custGeom>
            <a:avLst/>
            <a:gdLst/>
            <a:ahLst/>
            <a:rect l="l" t="t" r="r" b="b"/>
            <a:pathLst>
              <a:path w="1182" h="522">
                <a:moveTo>
                  <a:pt x="0" y="0"/>
                </a:moveTo>
                <a:lnTo>
                  <a:pt x="0" y="270"/>
                </a:lnTo>
                <a:lnTo>
                  <a:pt x="1182" y="270"/>
                </a:lnTo>
                <a:lnTo>
                  <a:pt x="1182" y="5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2727360" y="161928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32160" y="17953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14680" y="17953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27520" y="2038320"/>
            <a:ext cx="649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911760" y="1397160"/>
            <a:ext cx="1109520" cy="704520"/>
            <a:chOff x="3911760" y="1397160"/>
            <a:chExt cx="1109520" cy="704520"/>
          </a:xfrm>
        </p:grpSpPr>
        <p:sp>
          <p:nvSpPr>
            <p:cNvPr id="174" name=""/>
            <p:cNvSpPr/>
            <p:nvPr/>
          </p:nvSpPr>
          <p:spPr>
            <a:xfrm flipV="1">
              <a:off x="3911760" y="1805040"/>
              <a:ext cx="516960" cy="296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20661000">
              <a:off x="4939560" y="140544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588040" y="2118960"/>
            <a:ext cx="1068120" cy="667800"/>
            <a:chOff x="2588040" y="2118960"/>
            <a:chExt cx="1068120" cy="667800"/>
          </a:xfrm>
        </p:grpSpPr>
        <p:sp>
          <p:nvSpPr>
            <p:cNvPr id="177" name=""/>
            <p:cNvSpPr/>
            <p:nvPr/>
          </p:nvSpPr>
          <p:spPr>
            <a:xfrm flipV="1">
              <a:off x="2588040" y="2486880"/>
              <a:ext cx="515160" cy="299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20637600">
              <a:off x="3574440" y="212760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459160" y="1695600"/>
            <a:ext cx="1320840" cy="293400"/>
            <a:chOff x="2459160" y="1695600"/>
            <a:chExt cx="1320840" cy="293400"/>
          </a:xfrm>
        </p:grpSpPr>
        <p:sp>
          <p:nvSpPr>
            <p:cNvPr id="180" name=""/>
            <p:cNvSpPr/>
            <p:nvPr/>
          </p:nvSpPr>
          <p:spPr>
            <a:xfrm>
              <a:off x="2459160" y="1695600"/>
              <a:ext cx="677880" cy="10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708360" y="191628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956200" y="2060640"/>
            <a:ext cx="992160" cy="736200"/>
            <a:chOff x="5956200" y="2060640"/>
            <a:chExt cx="992160" cy="736200"/>
          </a:xfrm>
        </p:grpSpPr>
        <p:sp>
          <p:nvSpPr>
            <p:cNvPr id="183" name=""/>
            <p:cNvSpPr/>
            <p:nvPr/>
          </p:nvSpPr>
          <p:spPr>
            <a:xfrm flipV="1">
              <a:off x="5956200" y="2458800"/>
              <a:ext cx="463680" cy="33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77080" y="206064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187280" y="249228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318360" y="182556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291440" y="245412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43280" y="1700280"/>
            <a:ext cx="3889440" cy="144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219640" y="115920"/>
            <a:ext cx="1800360" cy="1700280"/>
            <a:chOff x="5219640" y="115920"/>
            <a:chExt cx="1800360" cy="1700280"/>
          </a:xfrm>
        </p:grpSpPr>
        <p:sp>
          <p:nvSpPr>
            <p:cNvPr id="190" name=""/>
            <p:cNvSpPr/>
            <p:nvPr/>
          </p:nvSpPr>
          <p:spPr>
            <a:xfrm>
              <a:off x="5219640" y="115920"/>
              <a:ext cx="1800360" cy="9810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6370200" y="952560"/>
              <a:ext cx="28908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578560" y="952560"/>
              <a:ext cx="28872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419640" y="90792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33"/>
                </a:solidFill>
                <a:latin typeface="Arial"/>
              </a:rPr>
              <a:t>I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48360" y="26028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92720" y="247500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27640" y="1125360"/>
            <a:ext cx="3816360" cy="64800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72360" y="242100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17080" y="765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317080" y="2997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39760" y="1790640"/>
            <a:ext cx="1513080" cy="720720"/>
          </a:xfrm>
          <a:custGeom>
            <a:avLst/>
            <a:gdLst/>
            <a:ahLst/>
            <a:rect l="l" t="t" r="r" b="b"/>
            <a:pathLst>
              <a:path w="953" h="454">
                <a:moveTo>
                  <a:pt x="681" y="454"/>
                </a:moveTo>
                <a:lnTo>
                  <a:pt x="953" y="454"/>
                </a:lnTo>
                <a:lnTo>
                  <a:pt x="953" y="227"/>
                </a:lnTo>
                <a:lnTo>
                  <a:pt x="0" y="227"/>
                </a:lnTo>
                <a:lnTo>
                  <a:pt x="0" y="0"/>
                </a:lnTo>
                <a:lnTo>
                  <a:pt x="318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000" y="1773360"/>
            <a:ext cx="719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258920" y="2933640"/>
            <a:ext cx="4537080" cy="2041200"/>
            <a:chOff x="1258920" y="2933640"/>
            <a:chExt cx="4537080" cy="2041200"/>
          </a:xfrm>
        </p:grpSpPr>
        <p:sp>
          <p:nvSpPr>
            <p:cNvPr id="203" name=""/>
            <p:cNvSpPr/>
            <p:nvPr/>
          </p:nvSpPr>
          <p:spPr>
            <a:xfrm>
              <a:off x="2444760" y="2933640"/>
              <a:ext cx="6494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03280" y="3357720"/>
              <a:ext cx="439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58920" y="4149720"/>
              <a:ext cx="345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A &amp; A = 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11280" y="4149720"/>
              <a:ext cx="648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2771640" y="3068640"/>
              <a:ext cx="0" cy="79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11280" y="2205000"/>
            <a:ext cx="649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9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0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5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946840" y="1982880"/>
            <a:ext cx="40140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48440" y="237960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351480" y="1982880"/>
            <a:ext cx="338400" cy="530280"/>
            <a:chOff x="6351480" y="1982880"/>
            <a:chExt cx="338400" cy="530280"/>
          </a:xfrm>
        </p:grpSpPr>
        <p:sp>
          <p:nvSpPr>
            <p:cNvPr id="213" name=""/>
            <p:cNvSpPr/>
            <p:nvPr/>
          </p:nvSpPr>
          <p:spPr>
            <a:xfrm>
              <a:off x="6351480" y="224784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554520" y="198288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554520" y="19828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6554520" y="211536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6554520" y="224784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6554520" y="23806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419880" y="290988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757920" y="2644920"/>
            <a:ext cx="541440" cy="52992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299360" y="2644560"/>
            <a:ext cx="337680" cy="530280"/>
            <a:chOff x="7299360" y="2644560"/>
            <a:chExt cx="337680" cy="530280"/>
          </a:xfrm>
        </p:grpSpPr>
        <p:sp>
          <p:nvSpPr>
            <p:cNvPr id="222" name=""/>
            <p:cNvSpPr/>
            <p:nvPr/>
          </p:nvSpPr>
          <p:spPr>
            <a:xfrm>
              <a:off x="7299360" y="290952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02040" y="264492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7502040" y="264456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7502040" y="277668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7502040" y="290952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7502040" y="304200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554880" y="2909880"/>
            <a:ext cx="1752480" cy="927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453440" y="324792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402160" y="224784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402160" y="290988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24520" y="3174840"/>
            <a:ext cx="74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073480" y="2792520"/>
            <a:ext cx="271800" cy="264960"/>
            <a:chOff x="5073480" y="2792520"/>
            <a:chExt cx="271800" cy="264960"/>
          </a:xfrm>
        </p:grpSpPr>
        <p:sp>
          <p:nvSpPr>
            <p:cNvPr id="234" name=""/>
            <p:cNvSpPr/>
            <p:nvPr/>
          </p:nvSpPr>
          <p:spPr>
            <a:xfrm>
              <a:off x="5209200" y="2792520"/>
              <a:ext cx="0" cy="26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73480" y="2924640"/>
              <a:ext cx="2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483160" y="1560600"/>
            <a:ext cx="2824200" cy="66024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53440" y="92700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59200" y="2249640"/>
            <a:ext cx="80352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74680" y="293364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2720" y="275436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290196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11320" y="2933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94200" y="293364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54160" y="22525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7040" y="225252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550960" y="205272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041560" y="2247840"/>
            <a:ext cx="1496880" cy="677880"/>
          </a:xfrm>
          <a:custGeom>
            <a:avLst/>
            <a:gdLst/>
            <a:ahLst/>
            <a:rect l="l" t="t" r="r" b="b"/>
            <a:pathLst>
              <a:path w="1182" h="522">
                <a:moveTo>
                  <a:pt x="0" y="0"/>
                </a:moveTo>
                <a:lnTo>
                  <a:pt x="0" y="270"/>
                </a:lnTo>
                <a:lnTo>
                  <a:pt x="1182" y="270"/>
                </a:lnTo>
                <a:lnTo>
                  <a:pt x="1182" y="5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2727360" y="207000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332160" y="22464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14680" y="22464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27520" y="2489040"/>
            <a:ext cx="649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836880" y="2008080"/>
            <a:ext cx="1239840" cy="384120"/>
            <a:chOff x="3836880" y="2008080"/>
            <a:chExt cx="1239840" cy="384120"/>
          </a:xfrm>
        </p:grpSpPr>
        <p:sp>
          <p:nvSpPr>
            <p:cNvPr id="253" name=""/>
            <p:cNvSpPr/>
            <p:nvPr/>
          </p:nvSpPr>
          <p:spPr>
            <a:xfrm flipV="1">
              <a:off x="3836880" y="2246040"/>
              <a:ext cx="577800" cy="14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03640" y="200808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2516040" y="2727360"/>
            <a:ext cx="1192320" cy="352440"/>
            <a:chOff x="2516040" y="2727360"/>
            <a:chExt cx="1192320" cy="352440"/>
          </a:xfrm>
        </p:grpSpPr>
        <p:sp>
          <p:nvSpPr>
            <p:cNvPr id="256" name=""/>
            <p:cNvSpPr/>
            <p:nvPr/>
          </p:nvSpPr>
          <p:spPr>
            <a:xfrm flipV="1">
              <a:off x="2516040" y="2933640"/>
              <a:ext cx="578160" cy="14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35280" y="272736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59160" y="2146320"/>
            <a:ext cx="1320840" cy="293400"/>
            <a:chOff x="2459160" y="2146320"/>
            <a:chExt cx="1320840" cy="293400"/>
          </a:xfrm>
        </p:grpSpPr>
        <p:sp>
          <p:nvSpPr>
            <p:cNvPr id="259" name=""/>
            <p:cNvSpPr/>
            <p:nvPr/>
          </p:nvSpPr>
          <p:spPr>
            <a:xfrm>
              <a:off x="2459160" y="2146320"/>
              <a:ext cx="677880" cy="10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08360" y="236700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956200" y="2511360"/>
            <a:ext cx="992160" cy="736200"/>
            <a:chOff x="5956200" y="2511360"/>
            <a:chExt cx="992160" cy="736200"/>
          </a:xfrm>
        </p:grpSpPr>
        <p:sp>
          <p:nvSpPr>
            <p:cNvPr id="262" name=""/>
            <p:cNvSpPr/>
            <p:nvPr/>
          </p:nvSpPr>
          <p:spPr>
            <a:xfrm flipV="1">
              <a:off x="5956200" y="2909520"/>
              <a:ext cx="463680" cy="33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77080" y="251136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187280" y="294336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318360" y="227664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291440" y="290520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836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0, Lampe allumée, BCc5 =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292720" y="292572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427640" y="1576440"/>
            <a:ext cx="3816360" cy="64764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372360" y="287172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42328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244000" y="3448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59640" y="2492280"/>
            <a:ext cx="936720" cy="936720"/>
          </a:xfrm>
          <a:prstGeom prst="irregularSeal1">
            <a:avLst/>
          </a:pr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17236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172360" y="3429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27640" y="1557360"/>
            <a:ext cx="3816360" cy="64764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372360" y="285264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56360" y="2276640"/>
            <a:ext cx="0" cy="72072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195640" y="2276640"/>
            <a:ext cx="2508120" cy="1668240"/>
          </a:xfrm>
          <a:custGeom>
            <a:avLst/>
            <a:gdLst/>
            <a:ahLst/>
            <a:rect l="l" t="t" r="r" b="b"/>
            <a:pathLst>
              <a:path w="1580" h="1051">
                <a:moveTo>
                  <a:pt x="0" y="408"/>
                </a:moveTo>
                <a:cubicBezTo>
                  <a:pt x="132" y="676"/>
                  <a:pt x="264" y="945"/>
                  <a:pt x="498" y="998"/>
                </a:cubicBezTo>
                <a:cubicBezTo>
                  <a:pt x="732" y="1051"/>
                  <a:pt x="1232" y="891"/>
                  <a:pt x="1406" y="725"/>
                </a:cubicBezTo>
                <a:cubicBezTo>
                  <a:pt x="1580" y="559"/>
                  <a:pt x="1519" y="121"/>
                  <a:pt x="1542" y="0"/>
                </a:cubicBezTo>
              </a:path>
            </a:pathLst>
          </a:custGeom>
          <a:noFill/>
          <a:ln w="76320">
            <a:solidFill>
              <a:srgbClr val="ff99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11640" y="422100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rt circuit en commande (A ou 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85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5946840" y="1982880"/>
            <a:ext cx="40140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48440" y="237960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351480" y="1982880"/>
            <a:ext cx="338400" cy="530280"/>
            <a:chOff x="6351480" y="1982880"/>
            <a:chExt cx="338400" cy="530280"/>
          </a:xfrm>
        </p:grpSpPr>
        <p:sp>
          <p:nvSpPr>
            <p:cNvPr id="285" name=""/>
            <p:cNvSpPr/>
            <p:nvPr/>
          </p:nvSpPr>
          <p:spPr>
            <a:xfrm>
              <a:off x="6351480" y="224784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54520" y="198288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6554520" y="19828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6554520" y="211536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6554520" y="224784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554520" y="23806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6419880" y="290988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57920" y="2644920"/>
            <a:ext cx="541440" cy="52992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7299360" y="2644560"/>
            <a:ext cx="337680" cy="530280"/>
            <a:chOff x="7299360" y="2644560"/>
            <a:chExt cx="337680" cy="530280"/>
          </a:xfrm>
        </p:grpSpPr>
        <p:sp>
          <p:nvSpPr>
            <p:cNvPr id="294" name=""/>
            <p:cNvSpPr/>
            <p:nvPr/>
          </p:nvSpPr>
          <p:spPr>
            <a:xfrm>
              <a:off x="7299360" y="290952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502040" y="264492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7502040" y="264456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7502040" y="277668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7502040" y="290952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02040" y="304200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6554880" y="2909880"/>
            <a:ext cx="1752480" cy="927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451640" y="342900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5402160" y="224784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402160" y="290988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824520" y="3174840"/>
            <a:ext cx="74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073480" y="2792520"/>
            <a:ext cx="271800" cy="264960"/>
            <a:chOff x="5073480" y="2792520"/>
            <a:chExt cx="271800" cy="264960"/>
          </a:xfrm>
        </p:grpSpPr>
        <p:sp>
          <p:nvSpPr>
            <p:cNvPr id="306" name=""/>
            <p:cNvSpPr/>
            <p:nvPr/>
          </p:nvSpPr>
          <p:spPr>
            <a:xfrm>
              <a:off x="5209200" y="2792520"/>
              <a:ext cx="0" cy="26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073480" y="2924640"/>
              <a:ext cx="2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483160" y="1560600"/>
            <a:ext cx="2824200" cy="66024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524720" y="1052640"/>
            <a:ext cx="11509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59200" y="2249640"/>
            <a:ext cx="80352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174680" y="293364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2720" y="275436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8360" y="290196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011320" y="2933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94200" y="293364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054160" y="22525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137040" y="225252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550960" y="205272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041560" y="2247840"/>
            <a:ext cx="1496880" cy="677880"/>
          </a:xfrm>
          <a:custGeom>
            <a:avLst/>
            <a:gdLst/>
            <a:ahLst/>
            <a:rect l="l" t="t" r="r" b="b"/>
            <a:pathLst>
              <a:path w="1182" h="522">
                <a:moveTo>
                  <a:pt x="0" y="0"/>
                </a:moveTo>
                <a:lnTo>
                  <a:pt x="0" y="270"/>
                </a:lnTo>
                <a:lnTo>
                  <a:pt x="1182" y="270"/>
                </a:lnTo>
                <a:lnTo>
                  <a:pt x="1182" y="5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2727360" y="207000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332160" y="22464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14680" y="22464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923640" y="1830240"/>
            <a:ext cx="1087920" cy="739800"/>
            <a:chOff x="3923640" y="1830240"/>
            <a:chExt cx="1087920" cy="739800"/>
          </a:xfrm>
        </p:grpSpPr>
        <p:sp>
          <p:nvSpPr>
            <p:cNvPr id="324" name=""/>
            <p:cNvSpPr/>
            <p:nvPr/>
          </p:nvSpPr>
          <p:spPr>
            <a:xfrm flipV="1">
              <a:off x="3923640" y="2256480"/>
              <a:ext cx="506880" cy="313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20548200">
              <a:off x="4929480" y="183924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2600280" y="2550960"/>
            <a:ext cx="1046160" cy="704880"/>
            <a:chOff x="2600280" y="2550960"/>
            <a:chExt cx="1046160" cy="704880"/>
          </a:xfrm>
        </p:grpSpPr>
        <p:sp>
          <p:nvSpPr>
            <p:cNvPr id="327" name=""/>
            <p:cNvSpPr/>
            <p:nvPr/>
          </p:nvSpPr>
          <p:spPr>
            <a:xfrm flipV="1">
              <a:off x="2600280" y="2937600"/>
              <a:ext cx="504360" cy="318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20515800">
              <a:off x="3564000" y="256032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459160" y="2146320"/>
            <a:ext cx="1320840" cy="293400"/>
            <a:chOff x="2459160" y="2146320"/>
            <a:chExt cx="1320840" cy="293400"/>
          </a:xfrm>
        </p:grpSpPr>
        <p:sp>
          <p:nvSpPr>
            <p:cNvPr id="330" name=""/>
            <p:cNvSpPr/>
            <p:nvPr/>
          </p:nvSpPr>
          <p:spPr>
            <a:xfrm>
              <a:off x="2459160" y="2146320"/>
              <a:ext cx="677880" cy="10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08360" y="236700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956200" y="2511360"/>
            <a:ext cx="992160" cy="736200"/>
            <a:chOff x="5956200" y="2511360"/>
            <a:chExt cx="992160" cy="736200"/>
          </a:xfrm>
        </p:grpSpPr>
        <p:sp>
          <p:nvSpPr>
            <p:cNvPr id="333" name=""/>
            <p:cNvSpPr/>
            <p:nvPr/>
          </p:nvSpPr>
          <p:spPr>
            <a:xfrm flipV="1">
              <a:off x="5956200" y="2909520"/>
              <a:ext cx="463680" cy="33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877080" y="251136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187280" y="294336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318360" y="227664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291440" y="290520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6836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1, B=1, Lampe allumée, BCc5 =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292720" y="292572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27640" y="1576440"/>
            <a:ext cx="3816360" cy="64764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372360" y="287172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42328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244000" y="3448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659640" y="2492280"/>
            <a:ext cx="936720" cy="936720"/>
          </a:xfrm>
          <a:prstGeom prst="irregularSeal1">
            <a:avLst/>
          </a:pr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24400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244000" y="3500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427640" y="1557360"/>
            <a:ext cx="3816360" cy="64764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372360" y="285264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56360" y="2276640"/>
            <a:ext cx="0" cy="72072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349360" y="1227240"/>
            <a:ext cx="936720" cy="995400"/>
          </a:xfrm>
          <a:custGeom>
            <a:avLst/>
            <a:gdLst/>
            <a:ahLst/>
            <a:rect l="l" t="t" r="r" b="b"/>
            <a:pathLst>
              <a:path w="590" h="627">
                <a:moveTo>
                  <a:pt x="0" y="627"/>
                </a:moveTo>
                <a:cubicBezTo>
                  <a:pt x="24" y="540"/>
                  <a:pt x="59" y="198"/>
                  <a:pt x="146" y="108"/>
                </a:cubicBezTo>
                <a:cubicBezTo>
                  <a:pt x="233" y="18"/>
                  <a:pt x="448" y="0"/>
                  <a:pt x="519" y="85"/>
                </a:cubicBezTo>
                <a:cubicBezTo>
                  <a:pt x="590" y="170"/>
                  <a:pt x="561" y="528"/>
                  <a:pt x="570" y="617"/>
                </a:cubicBezTo>
              </a:path>
            </a:pathLst>
          </a:custGeom>
          <a:noFill/>
          <a:ln w="76320">
            <a:solidFill>
              <a:srgbClr val="ff99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932360" y="4653000"/>
            <a:ext cx="388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rt circuit en commande (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556000" y="3357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2565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25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27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31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53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" dur="1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5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946840" y="1982880"/>
            <a:ext cx="40140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148440" y="237960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351480" y="1982880"/>
            <a:ext cx="338400" cy="530280"/>
            <a:chOff x="6351480" y="1982880"/>
            <a:chExt cx="338400" cy="530280"/>
          </a:xfrm>
        </p:grpSpPr>
        <p:sp>
          <p:nvSpPr>
            <p:cNvPr id="358" name=""/>
            <p:cNvSpPr/>
            <p:nvPr/>
          </p:nvSpPr>
          <p:spPr>
            <a:xfrm>
              <a:off x="6351480" y="224784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554520" y="198288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554520" y="19828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554520" y="211536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6554520" y="224784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554520" y="23806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6419880" y="290988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757920" y="2644920"/>
            <a:ext cx="541440" cy="52992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7299360" y="2644560"/>
            <a:ext cx="337680" cy="530280"/>
            <a:chOff x="7299360" y="2644560"/>
            <a:chExt cx="337680" cy="530280"/>
          </a:xfrm>
        </p:grpSpPr>
        <p:sp>
          <p:nvSpPr>
            <p:cNvPr id="367" name=""/>
            <p:cNvSpPr/>
            <p:nvPr/>
          </p:nvSpPr>
          <p:spPr>
            <a:xfrm>
              <a:off x="7299360" y="290952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502040" y="264492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502040" y="264456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7502040" y="277668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502040" y="290952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7502040" y="304200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6554880" y="2909880"/>
            <a:ext cx="1752480" cy="927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451640" y="342900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5402160" y="224784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5402160" y="290988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824520" y="3174840"/>
            <a:ext cx="74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5073480" y="2792520"/>
            <a:ext cx="271800" cy="264960"/>
            <a:chOff x="5073480" y="2792520"/>
            <a:chExt cx="271800" cy="264960"/>
          </a:xfrm>
        </p:grpSpPr>
        <p:sp>
          <p:nvSpPr>
            <p:cNvPr id="379" name=""/>
            <p:cNvSpPr/>
            <p:nvPr/>
          </p:nvSpPr>
          <p:spPr>
            <a:xfrm>
              <a:off x="5209200" y="2792520"/>
              <a:ext cx="0" cy="26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073480" y="2924640"/>
              <a:ext cx="2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7524720" y="1052640"/>
            <a:ext cx="11509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174680" y="293364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2720" y="275436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68360" y="290196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011320" y="2933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094200" y="2933640"/>
            <a:ext cx="43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054160" y="225252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137040" y="2252520"/>
            <a:ext cx="43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2550960" y="205272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041560" y="2247840"/>
            <a:ext cx="1496880" cy="677880"/>
          </a:xfrm>
          <a:custGeom>
            <a:avLst/>
            <a:gdLst/>
            <a:ahLst/>
            <a:rect l="l" t="t" r="r" b="b"/>
            <a:pathLst>
              <a:path w="1182" h="522">
                <a:moveTo>
                  <a:pt x="0" y="0"/>
                </a:moveTo>
                <a:lnTo>
                  <a:pt x="0" y="270"/>
                </a:lnTo>
                <a:lnTo>
                  <a:pt x="1182" y="270"/>
                </a:lnTo>
                <a:lnTo>
                  <a:pt x="1182" y="52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2727360" y="207000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332160" y="224640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414680" y="22464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808440" y="2154240"/>
            <a:ext cx="1296720" cy="87480"/>
            <a:chOff x="3808440" y="2154240"/>
            <a:chExt cx="1296720" cy="87480"/>
          </a:xfrm>
        </p:grpSpPr>
        <p:sp>
          <p:nvSpPr>
            <p:cNvPr id="395" name=""/>
            <p:cNvSpPr/>
            <p:nvPr/>
          </p:nvSpPr>
          <p:spPr>
            <a:xfrm>
              <a:off x="3808440" y="2227320"/>
              <a:ext cx="595800" cy="6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888000">
              <a:off x="5024160" y="216216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2600280" y="2550960"/>
            <a:ext cx="1046160" cy="704880"/>
            <a:chOff x="2600280" y="2550960"/>
            <a:chExt cx="1046160" cy="704880"/>
          </a:xfrm>
        </p:grpSpPr>
        <p:sp>
          <p:nvSpPr>
            <p:cNvPr id="398" name=""/>
            <p:cNvSpPr/>
            <p:nvPr/>
          </p:nvSpPr>
          <p:spPr>
            <a:xfrm flipV="1">
              <a:off x="2600280" y="2937600"/>
              <a:ext cx="504360" cy="318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20515800">
              <a:off x="3564000" y="256032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459160" y="2146320"/>
            <a:ext cx="1320840" cy="293400"/>
            <a:chOff x="2459160" y="2146320"/>
            <a:chExt cx="1320840" cy="293400"/>
          </a:xfrm>
        </p:grpSpPr>
        <p:sp>
          <p:nvSpPr>
            <p:cNvPr id="401" name=""/>
            <p:cNvSpPr/>
            <p:nvPr/>
          </p:nvSpPr>
          <p:spPr>
            <a:xfrm>
              <a:off x="2459160" y="2146320"/>
              <a:ext cx="677880" cy="10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08360" y="236700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5956200" y="2511360"/>
            <a:ext cx="992160" cy="736200"/>
            <a:chOff x="5956200" y="2511360"/>
            <a:chExt cx="992160" cy="736200"/>
          </a:xfrm>
        </p:grpSpPr>
        <p:sp>
          <p:nvSpPr>
            <p:cNvPr id="404" name=""/>
            <p:cNvSpPr/>
            <p:nvPr/>
          </p:nvSpPr>
          <p:spPr>
            <a:xfrm flipV="1">
              <a:off x="5956200" y="2909520"/>
              <a:ext cx="463680" cy="33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877080" y="251136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1187280" y="294336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318360" y="227664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291440" y="290520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7928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1, Lampe allumée, BCc5 = 0,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292720" y="292572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424400" y="1595520"/>
            <a:ext cx="3816360" cy="64764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42328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2492280"/>
            <a:ext cx="936720" cy="936720"/>
          </a:xfrm>
          <a:prstGeom prst="irregularSeal1">
            <a:avLst/>
          </a:pr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388360" y="3573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405480" y="2892600"/>
            <a:ext cx="1871640" cy="93636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580000" y="3067920"/>
            <a:ext cx="936720" cy="431640"/>
          </a:xfrm>
          <a:custGeom>
            <a:avLst/>
            <a:gdLst/>
            <a:ahLst/>
            <a:rect l="l" t="t" r="r" b="b"/>
            <a:pathLst>
              <a:path w="590" h="627">
                <a:moveTo>
                  <a:pt x="0" y="627"/>
                </a:moveTo>
                <a:cubicBezTo>
                  <a:pt x="24" y="540"/>
                  <a:pt x="59" y="198"/>
                  <a:pt x="146" y="108"/>
                </a:cubicBezTo>
                <a:cubicBezTo>
                  <a:pt x="233" y="18"/>
                  <a:pt x="448" y="0"/>
                  <a:pt x="519" y="85"/>
                </a:cubicBezTo>
                <a:cubicBezTo>
                  <a:pt x="590" y="170"/>
                  <a:pt x="561" y="528"/>
                  <a:pt x="570" y="617"/>
                </a:cubicBezTo>
              </a:path>
            </a:pathLst>
          </a:custGeom>
          <a:noFill/>
          <a:ln w="76320">
            <a:solidFill>
              <a:srgbClr val="ff99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643280" y="4653000"/>
            <a:ext cx="381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rt circuit en puiss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556000" y="3357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995640" y="2565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826320" y="2878200"/>
            <a:ext cx="43164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042320" y="3309840"/>
            <a:ext cx="0" cy="862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21560" y="3772080"/>
            <a:ext cx="611280" cy="112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7261200" y="2878200"/>
            <a:ext cx="363240" cy="574560"/>
            <a:chOff x="7261200" y="2878200"/>
            <a:chExt cx="363240" cy="574560"/>
          </a:xfrm>
        </p:grpSpPr>
        <p:sp>
          <p:nvSpPr>
            <p:cNvPr id="425" name=""/>
            <p:cNvSpPr/>
            <p:nvPr/>
          </p:nvSpPr>
          <p:spPr>
            <a:xfrm>
              <a:off x="7261200" y="3165120"/>
              <a:ext cx="21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479000" y="2878200"/>
              <a:ext cx="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7479000" y="287820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7479000" y="302148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7479000" y="316476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7479000" y="330912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5514840" y="3884760"/>
            <a:ext cx="36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878440" y="3597120"/>
            <a:ext cx="582840" cy="57492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7332840" y="3596760"/>
            <a:ext cx="435960" cy="575280"/>
            <a:chOff x="7332840" y="3596760"/>
            <a:chExt cx="435960" cy="575280"/>
          </a:xfrm>
        </p:grpSpPr>
        <p:sp>
          <p:nvSpPr>
            <p:cNvPr id="434" name=""/>
            <p:cNvSpPr/>
            <p:nvPr/>
          </p:nvSpPr>
          <p:spPr>
            <a:xfrm>
              <a:off x="7332840" y="388476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623360" y="3597120"/>
              <a:ext cx="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7623360" y="359676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7623360" y="374040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7623360" y="388440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7623360" y="402804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6605640" y="3884760"/>
            <a:ext cx="727200" cy="1008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804000" y="4797360"/>
            <a:ext cx="123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6242040" y="3165480"/>
            <a:ext cx="58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460920" y="3884760"/>
            <a:ext cx="36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878440" y="4172040"/>
            <a:ext cx="800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6824520" y="3740040"/>
            <a:ext cx="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4944960" y="3759120"/>
            <a:ext cx="290520" cy="287280"/>
            <a:chOff x="4944960" y="3759120"/>
            <a:chExt cx="290520" cy="287280"/>
          </a:xfrm>
        </p:grpSpPr>
        <p:sp>
          <p:nvSpPr>
            <p:cNvPr id="447" name=""/>
            <p:cNvSpPr/>
            <p:nvPr/>
          </p:nvSpPr>
          <p:spPr>
            <a:xfrm>
              <a:off x="5090040" y="3759120"/>
              <a:ext cx="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944960" y="3902400"/>
              <a:ext cx="29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"/>
          <p:cNvSpPr/>
          <p:nvPr/>
        </p:nvSpPr>
        <p:spPr>
          <a:xfrm flipV="1">
            <a:off x="4398840" y="3165120"/>
            <a:ext cx="1916280" cy="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245200" y="2536920"/>
            <a:ext cx="2844720" cy="64764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667640" y="2492280"/>
            <a:ext cx="1158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341360" y="3171960"/>
            <a:ext cx="654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1267920" y="3029040"/>
            <a:ext cx="628920" cy="8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904680" y="3029040"/>
            <a:ext cx="36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849320" y="3171960"/>
            <a:ext cx="5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849320" y="2884320"/>
            <a:ext cx="5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1849320" y="3028680"/>
            <a:ext cx="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940120" y="3171960"/>
            <a:ext cx="50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3449520" y="3171600"/>
            <a:ext cx="58104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030560" y="3171960"/>
            <a:ext cx="43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286000" y="3171960"/>
            <a:ext cx="87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449520" y="3171960"/>
            <a:ext cx="654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359080" y="2884320"/>
            <a:ext cx="2035080" cy="287640"/>
          </a:xfrm>
          <a:custGeom>
            <a:avLst/>
            <a:gdLst/>
            <a:ahLst/>
            <a:rect l="l" t="t" r="r" b="b"/>
            <a:pathLst>
              <a:path w="1596" h="226">
                <a:moveTo>
                  <a:pt x="0" y="0"/>
                </a:moveTo>
                <a:lnTo>
                  <a:pt x="1596" y="0"/>
                </a:lnTo>
                <a:lnTo>
                  <a:pt x="1596" y="22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468360" y="2884320"/>
            <a:ext cx="290520" cy="287640"/>
            <a:chOff x="468360" y="2884320"/>
            <a:chExt cx="290520" cy="287640"/>
          </a:xfrm>
        </p:grpSpPr>
        <p:sp>
          <p:nvSpPr>
            <p:cNvPr id="465" name=""/>
            <p:cNvSpPr/>
            <p:nvPr/>
          </p:nvSpPr>
          <p:spPr>
            <a:xfrm>
              <a:off x="613440" y="2884320"/>
              <a:ext cx="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68360" y="3027960"/>
              <a:ext cx="29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7928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0, Lampe allumée, BCc5 = 0, BCc6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900000" y="2997360"/>
            <a:ext cx="358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6000" y="314172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835280" y="3141720"/>
            <a:ext cx="165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771640" y="2997360"/>
            <a:ext cx="187164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627280" y="2276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???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627280" y="213372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372360" y="119700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948360" y="1773360"/>
            <a:ext cx="0" cy="10080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995640" y="2492280"/>
            <a:ext cx="4032360" cy="649440"/>
          </a:xfrm>
          <a:custGeom>
            <a:avLst/>
            <a:gdLst/>
            <a:ahLst/>
            <a:rect l="l" t="t" r="r" b="b"/>
            <a:pathLst>
              <a:path w="2540" h="409">
                <a:moveTo>
                  <a:pt x="0" y="409"/>
                </a:moveTo>
                <a:lnTo>
                  <a:pt x="1769" y="409"/>
                </a:lnTo>
                <a:lnTo>
                  <a:pt x="771" y="409"/>
                </a:lnTo>
                <a:lnTo>
                  <a:pt x="771" y="0"/>
                </a:lnTo>
                <a:lnTo>
                  <a:pt x="254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172360" y="2205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7308360" y="3860640"/>
            <a:ext cx="358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H="1" flipV="1">
            <a:off x="6732720" y="3789360"/>
            <a:ext cx="576000" cy="71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443640" y="3860640"/>
            <a:ext cx="865080" cy="1008360"/>
          </a:xfrm>
          <a:custGeom>
            <a:avLst/>
            <a:gdLst/>
            <a:ahLst/>
            <a:rect l="l" t="t" r="r" b="b"/>
            <a:pathLst>
              <a:path w="545" h="635">
                <a:moveTo>
                  <a:pt x="545" y="635"/>
                </a:moveTo>
                <a:lnTo>
                  <a:pt x="91" y="635"/>
                </a:lnTo>
                <a:lnTo>
                  <a:pt x="91" y="46"/>
                </a:lnTo>
                <a:lnTo>
                  <a:pt x="227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435640" y="3860640"/>
            <a:ext cx="431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219640" y="515772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12vo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6012000" y="4292280"/>
            <a:ext cx="72720" cy="86508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524720" y="4581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578560" y="3176640"/>
            <a:ext cx="1152360" cy="1297080"/>
          </a:xfrm>
          <a:custGeom>
            <a:avLst/>
            <a:gdLst>
              <a:gd name="textAreaLeft" fmla="*/ 474840 w 1152360"/>
              <a:gd name="textAreaRight" fmla="*/ 677520 w 1152360"/>
              <a:gd name="textAreaTop" fmla="*/ 534240 h 1297080"/>
              <a:gd name="textAreaBottom" fmla="*/ 7628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55640" y="400536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6826320" y="2878200"/>
            <a:ext cx="43164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042320" y="3309840"/>
            <a:ext cx="0" cy="862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7261200" y="2878200"/>
            <a:ext cx="363240" cy="574560"/>
            <a:chOff x="7261200" y="2878200"/>
            <a:chExt cx="363240" cy="574560"/>
          </a:xfrm>
        </p:grpSpPr>
        <p:sp>
          <p:nvSpPr>
            <p:cNvPr id="491" name=""/>
            <p:cNvSpPr/>
            <p:nvPr/>
          </p:nvSpPr>
          <p:spPr>
            <a:xfrm>
              <a:off x="7261200" y="3165120"/>
              <a:ext cx="21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479000" y="2878200"/>
              <a:ext cx="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7479000" y="287820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7479000" y="302148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7479000" y="316476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7479000" y="330912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5514840" y="3884760"/>
            <a:ext cx="36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878440" y="3597120"/>
            <a:ext cx="582840" cy="57492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7332840" y="3596760"/>
            <a:ext cx="435960" cy="575280"/>
            <a:chOff x="7332840" y="3596760"/>
            <a:chExt cx="435960" cy="575280"/>
          </a:xfrm>
        </p:grpSpPr>
        <p:sp>
          <p:nvSpPr>
            <p:cNvPr id="500" name=""/>
            <p:cNvSpPr/>
            <p:nvPr/>
          </p:nvSpPr>
          <p:spPr>
            <a:xfrm>
              <a:off x="7332840" y="388476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623360" y="3597120"/>
              <a:ext cx="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7623360" y="359676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7623360" y="374040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7623360" y="388440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7623360" y="402804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6605640" y="3884760"/>
            <a:ext cx="727200" cy="1008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804000" y="4797360"/>
            <a:ext cx="123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6242040" y="3165480"/>
            <a:ext cx="58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6460920" y="3884760"/>
            <a:ext cx="36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878440" y="4172040"/>
            <a:ext cx="800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6824520" y="3740040"/>
            <a:ext cx="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4944960" y="3759120"/>
            <a:ext cx="290520" cy="287280"/>
            <a:chOff x="4944960" y="3759120"/>
            <a:chExt cx="290520" cy="287280"/>
          </a:xfrm>
        </p:grpSpPr>
        <p:sp>
          <p:nvSpPr>
            <p:cNvPr id="513" name=""/>
            <p:cNvSpPr/>
            <p:nvPr/>
          </p:nvSpPr>
          <p:spPr>
            <a:xfrm>
              <a:off x="5090040" y="3759120"/>
              <a:ext cx="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944960" y="3902400"/>
              <a:ext cx="29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"/>
          <p:cNvSpPr/>
          <p:nvPr/>
        </p:nvSpPr>
        <p:spPr>
          <a:xfrm flipV="1">
            <a:off x="4398840" y="3165120"/>
            <a:ext cx="1916280" cy="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245200" y="2536920"/>
            <a:ext cx="2844720" cy="64764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667640" y="2492280"/>
            <a:ext cx="1158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341360" y="3171960"/>
            <a:ext cx="654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904680" y="3029040"/>
            <a:ext cx="36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849320" y="3171960"/>
            <a:ext cx="5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849320" y="2884320"/>
            <a:ext cx="5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1849320" y="3028680"/>
            <a:ext cx="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940120" y="3171960"/>
            <a:ext cx="50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3449520" y="3171600"/>
            <a:ext cx="58104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030560" y="3171960"/>
            <a:ext cx="43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286000" y="3171960"/>
            <a:ext cx="87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449520" y="3171960"/>
            <a:ext cx="654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359080" y="2884320"/>
            <a:ext cx="2035080" cy="287640"/>
          </a:xfrm>
          <a:custGeom>
            <a:avLst/>
            <a:gdLst/>
            <a:ahLst/>
            <a:rect l="l" t="t" r="r" b="b"/>
            <a:pathLst>
              <a:path w="1596" h="226">
                <a:moveTo>
                  <a:pt x="0" y="0"/>
                </a:moveTo>
                <a:lnTo>
                  <a:pt x="1596" y="0"/>
                </a:lnTo>
                <a:lnTo>
                  <a:pt x="1596" y="22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68360" y="2884320"/>
            <a:ext cx="290520" cy="287640"/>
            <a:chOff x="468360" y="2884320"/>
            <a:chExt cx="290520" cy="287640"/>
          </a:xfrm>
        </p:grpSpPr>
        <p:sp>
          <p:nvSpPr>
            <p:cNvPr id="530" name=""/>
            <p:cNvSpPr/>
            <p:nvPr/>
          </p:nvSpPr>
          <p:spPr>
            <a:xfrm>
              <a:off x="613440" y="2884320"/>
              <a:ext cx="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68360" y="3027960"/>
              <a:ext cx="29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17928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1, B=0, Lampe allumée, BCc5 = 1, BCc6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900000" y="2997360"/>
            <a:ext cx="358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236000" y="314172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835280" y="3141720"/>
            <a:ext cx="165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372360" y="119700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948360" y="1773360"/>
            <a:ext cx="0" cy="10080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172360" y="2205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7308360" y="3933720"/>
            <a:ext cx="358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443640" y="3860640"/>
            <a:ext cx="865080" cy="1008360"/>
          </a:xfrm>
          <a:custGeom>
            <a:avLst/>
            <a:gdLst/>
            <a:ahLst/>
            <a:rect l="l" t="t" r="r" b="b"/>
            <a:pathLst>
              <a:path w="545" h="635">
                <a:moveTo>
                  <a:pt x="545" y="635"/>
                </a:moveTo>
                <a:lnTo>
                  <a:pt x="91" y="635"/>
                </a:lnTo>
                <a:lnTo>
                  <a:pt x="91" y="46"/>
                </a:lnTo>
                <a:lnTo>
                  <a:pt x="227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435640" y="3860640"/>
            <a:ext cx="431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788000" y="508464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 = 0 vo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6012000" y="4292280"/>
            <a:ext cx="72720" cy="86508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524720" y="4581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55640" y="400536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539640" y="2852640"/>
            <a:ext cx="1357200" cy="262080"/>
            <a:chOff x="539640" y="2852640"/>
            <a:chExt cx="1357200" cy="262080"/>
          </a:xfrm>
        </p:grpSpPr>
        <p:sp>
          <p:nvSpPr>
            <p:cNvPr id="547" name=""/>
            <p:cNvSpPr/>
            <p:nvPr/>
          </p:nvSpPr>
          <p:spPr>
            <a:xfrm flipH="1" flipV="1">
              <a:off x="1267920" y="3029040"/>
              <a:ext cx="628920" cy="8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9640" y="2852640"/>
              <a:ext cx="71640" cy="7164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1835280" y="2529000"/>
            <a:ext cx="6192720" cy="612720"/>
          </a:xfrm>
          <a:custGeom>
            <a:avLst/>
            <a:gdLst/>
            <a:ahLst/>
            <a:rect l="l" t="t" r="r" b="b"/>
            <a:pathLst>
              <a:path w="3901" h="363">
                <a:moveTo>
                  <a:pt x="0" y="181"/>
                </a:moveTo>
                <a:lnTo>
                  <a:pt x="1588" y="181"/>
                </a:lnTo>
                <a:lnTo>
                  <a:pt x="1588" y="363"/>
                </a:lnTo>
                <a:lnTo>
                  <a:pt x="1361" y="363"/>
                </a:lnTo>
                <a:lnTo>
                  <a:pt x="3130" y="363"/>
                </a:lnTo>
                <a:lnTo>
                  <a:pt x="2132" y="363"/>
                </a:lnTo>
                <a:lnTo>
                  <a:pt x="2132" y="0"/>
                </a:lnTo>
                <a:lnTo>
                  <a:pt x="3901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020000" y="3429000"/>
            <a:ext cx="0" cy="3603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6721560" y="3772080"/>
            <a:ext cx="1235160" cy="304560"/>
            <a:chOff x="6721560" y="3772080"/>
            <a:chExt cx="1235160" cy="304560"/>
          </a:xfrm>
        </p:grpSpPr>
        <p:sp>
          <p:nvSpPr>
            <p:cNvPr id="552" name=""/>
            <p:cNvSpPr/>
            <p:nvPr/>
          </p:nvSpPr>
          <p:spPr>
            <a:xfrm>
              <a:off x="6721560" y="3772080"/>
              <a:ext cx="611280" cy="112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885080" y="4005360"/>
              <a:ext cx="7164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6659640" y="4005360"/>
            <a:ext cx="7207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443640" y="4076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732720" y="4221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578560" y="3176640"/>
            <a:ext cx="1152360" cy="1297080"/>
          </a:xfrm>
          <a:custGeom>
            <a:avLst/>
            <a:gdLst>
              <a:gd name="textAreaLeft" fmla="*/ 474840 w 1152360"/>
              <a:gd name="textAreaRight" fmla="*/ 677520 w 1152360"/>
              <a:gd name="textAreaTop" fmla="*/ 534240 h 1297080"/>
              <a:gd name="textAreaBottom" fmla="*/ 7628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443640" y="3860640"/>
            <a:ext cx="865080" cy="1008360"/>
          </a:xfrm>
          <a:custGeom>
            <a:avLst/>
            <a:gdLst/>
            <a:ahLst/>
            <a:rect l="l" t="t" r="r" b="b"/>
            <a:pathLst>
              <a:path w="545" h="635">
                <a:moveTo>
                  <a:pt x="545" y="635"/>
                </a:moveTo>
                <a:lnTo>
                  <a:pt x="91" y="635"/>
                </a:lnTo>
                <a:lnTo>
                  <a:pt x="91" y="46"/>
                </a:lnTo>
                <a:lnTo>
                  <a:pt x="227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667640" y="465300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92360" y="5057640"/>
            <a:ext cx="597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relais est alimenté mais n’a pas fonctionné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pure à la commande 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t circuit à la puiss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6588000" y="3933720"/>
            <a:ext cx="936720" cy="432000"/>
          </a:xfrm>
          <a:custGeom>
            <a:avLst/>
            <a:gdLst/>
            <a:ahLst/>
            <a:rect l="l" t="t" r="r" b="b"/>
            <a:pathLst>
              <a:path w="590" h="627">
                <a:moveTo>
                  <a:pt x="0" y="627"/>
                </a:moveTo>
                <a:cubicBezTo>
                  <a:pt x="24" y="540"/>
                  <a:pt x="59" y="198"/>
                  <a:pt x="146" y="108"/>
                </a:cubicBezTo>
                <a:cubicBezTo>
                  <a:pt x="233" y="18"/>
                  <a:pt x="448" y="0"/>
                  <a:pt x="519" y="85"/>
                </a:cubicBezTo>
                <a:cubicBezTo>
                  <a:pt x="590" y="170"/>
                  <a:pt x="561" y="528"/>
                  <a:pt x="570" y="617"/>
                </a:cubicBezTo>
              </a:path>
            </a:pathLst>
          </a:custGeom>
          <a:noFill/>
          <a:ln w="76320">
            <a:solidFill>
              <a:srgbClr val="ff99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6732360" y="2781360"/>
            <a:ext cx="504720" cy="647640"/>
            <a:chOff x="6732360" y="2781360"/>
            <a:chExt cx="504720" cy="647640"/>
          </a:xfrm>
        </p:grpSpPr>
        <p:sp>
          <p:nvSpPr>
            <p:cNvPr id="563" name=""/>
            <p:cNvSpPr/>
            <p:nvPr/>
          </p:nvSpPr>
          <p:spPr>
            <a:xfrm flipH="1">
              <a:off x="6732360" y="2781360"/>
              <a:ext cx="36036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6876720" y="2781360"/>
              <a:ext cx="36036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2124000" y="260280"/>
            <a:ext cx="3024360" cy="792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948360" y="260280"/>
            <a:ext cx="2195640" cy="792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440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2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468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5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8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2800000">
                                      <p:cBhvr>
                                        <p:cTn id="555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583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6515280" y="4317840"/>
            <a:ext cx="66960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683240" y="33336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énergie au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707000" y="5950080"/>
            <a:ext cx="2878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975200" y="5116680"/>
            <a:ext cx="5079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24340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108920" y="3941640"/>
            <a:ext cx="0" cy="392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7108560" y="4262400"/>
            <a:ext cx="651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10892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867360" y="5067360"/>
            <a:ext cx="481320" cy="44136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10892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330960" y="5048280"/>
            <a:ext cx="8539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019840" y="4251240"/>
            <a:ext cx="223560" cy="5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22288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410000" y="4251240"/>
            <a:ext cx="6415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921200" y="43830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921200" y="4529160"/>
            <a:ext cx="48096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843600" y="3468600"/>
            <a:ext cx="74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243400" y="1639800"/>
            <a:ext cx="0" cy="3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5222520" y="1965240"/>
            <a:ext cx="135000" cy="52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222880" y="2489040"/>
            <a:ext cx="0" cy="176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410000" y="1982880"/>
            <a:ext cx="6415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921200" y="208116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921200" y="2227320"/>
            <a:ext cx="11797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794200" y="765000"/>
            <a:ext cx="743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830920" y="1965240"/>
            <a:ext cx="27000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226120" y="2489040"/>
            <a:ext cx="877680" cy="2481480"/>
          </a:xfrm>
          <a:custGeom>
            <a:avLst/>
            <a:gdLst/>
            <a:ahLst/>
            <a:rect l="l" t="t" r="r" b="b"/>
            <a:pathLst>
              <a:path w="741" h="2166">
                <a:moveTo>
                  <a:pt x="741" y="0"/>
                </a:moveTo>
                <a:lnTo>
                  <a:pt x="741" y="2166"/>
                </a:lnTo>
                <a:lnTo>
                  <a:pt x="0" y="21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222880" y="2031840"/>
            <a:ext cx="203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100920" y="2031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6100920" y="1247760"/>
            <a:ext cx="0" cy="78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222880" y="1639800"/>
            <a:ext cx="878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7077240" y="43275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115040" y="4923000"/>
            <a:ext cx="8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823160" y="4870440"/>
            <a:ext cx="10666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210200" y="4653000"/>
            <a:ext cx="10666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4136760" y="496584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0, Lampe allumée, BCc5 = 0,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5074920" y="1700280"/>
            <a:ext cx="1368360" cy="360036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443640" y="21337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??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778200" y="5157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5219640" y="544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216320" y="2349360"/>
            <a:ext cx="1866960" cy="3167280"/>
          </a:xfrm>
          <a:custGeom>
            <a:avLst/>
            <a:gdLst/>
            <a:ahLst/>
            <a:rect l="l" t="t" r="r" b="b"/>
            <a:pathLst>
              <a:path w="1176" h="1995">
                <a:moveTo>
                  <a:pt x="632" y="1995"/>
                </a:moveTo>
                <a:lnTo>
                  <a:pt x="633" y="1660"/>
                </a:lnTo>
                <a:lnTo>
                  <a:pt x="0" y="1660"/>
                </a:lnTo>
                <a:lnTo>
                  <a:pt x="644" y="1671"/>
                </a:lnTo>
                <a:lnTo>
                  <a:pt x="632" y="1542"/>
                </a:lnTo>
                <a:lnTo>
                  <a:pt x="632" y="1678"/>
                </a:lnTo>
                <a:lnTo>
                  <a:pt x="1176" y="1678"/>
                </a:lnTo>
                <a:lnTo>
                  <a:pt x="1176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7090920" y="4292640"/>
            <a:ext cx="73080" cy="576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091280" y="4869000"/>
            <a:ext cx="865440" cy="215640"/>
          </a:xfrm>
          <a:custGeom>
            <a:avLst/>
            <a:gdLst/>
            <a:ahLst/>
            <a:rect l="l" t="t" r="r" b="b"/>
            <a:pathLst>
              <a:path w="545" h="136">
                <a:moveTo>
                  <a:pt x="545" y="46"/>
                </a:moveTo>
                <a:lnTo>
                  <a:pt x="0" y="46"/>
                </a:lnTo>
                <a:lnTo>
                  <a:pt x="0" y="1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7091280" y="551664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299280" y="4581360"/>
            <a:ext cx="1512720" cy="1297080"/>
          </a:xfrm>
          <a:custGeom>
            <a:avLst/>
            <a:gdLst>
              <a:gd name="textAreaLeft" fmla="*/ 623160 w 1512720"/>
              <a:gd name="textAreaRight" fmla="*/ 889560 w 1512720"/>
              <a:gd name="textAreaTop" fmla="*/ 534240 h 1297080"/>
              <a:gd name="textAreaBottom" fmla="*/ 7628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956720" y="4581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706920" y="4437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162920" y="537372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=12 vo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>
            <a:hlinkClick r:id="" action="ppaction://hlinkshowjump?jump=previousslide"/>
          </p:cNvPr>
          <p:cNvSpPr/>
          <p:nvPr/>
        </p:nvSpPr>
        <p:spPr>
          <a:xfrm>
            <a:off x="8459640" y="6237360"/>
            <a:ext cx="287640" cy="216000"/>
          </a:xfrm>
          <a:custGeom>
            <a:avLst/>
            <a:gdLst>
              <a:gd name="textAreaLeft" fmla="*/ 13680 w 287640"/>
              <a:gd name="textAreaRight" fmla="*/ 273960 w 28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52" h="21600">
                <a:moveTo>
                  <a:pt x="0" y="0"/>
                </a:moveTo>
                <a:lnTo>
                  <a:pt x="28752" y="0"/>
                </a:lnTo>
                <a:lnTo>
                  <a:pt x="28752" y="21600"/>
                </a:lnTo>
                <a:lnTo>
                  <a:pt x="0" y="21600"/>
                </a:lnTo>
                <a:close/>
              </a:path>
              <a:path fill="lightenLess" w="28752" h="21600">
                <a:moveTo>
                  <a:pt x="0" y="0"/>
                </a:moveTo>
                <a:lnTo>
                  <a:pt x="28752" y="0"/>
                </a:lnTo>
                <a:lnTo>
                  <a:pt x="27352" y="1400"/>
                </a:lnTo>
                <a:lnTo>
                  <a:pt x="1400" y="1400"/>
                </a:lnTo>
                <a:close/>
              </a:path>
              <a:path fill="darken" w="28752" h="21600">
                <a:moveTo>
                  <a:pt x="28752" y="0"/>
                </a:moveTo>
                <a:lnTo>
                  <a:pt x="28752" y="21600"/>
                </a:lnTo>
                <a:lnTo>
                  <a:pt x="27352" y="20200"/>
                </a:lnTo>
                <a:lnTo>
                  <a:pt x="27352" y="1400"/>
                </a:lnTo>
                <a:close/>
              </a:path>
              <a:path fill="darkenLess" w="28752" h="21600">
                <a:moveTo>
                  <a:pt x="28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52" y="20200"/>
                </a:lnTo>
                <a:close/>
              </a:path>
              <a:path fill="lighten" w="28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52" h="21600">
                <a:moveTo>
                  <a:pt x="7370" y="10800"/>
                </a:moveTo>
                <a:lnTo>
                  <a:pt x="21383" y="3794"/>
                </a:lnTo>
                <a:lnTo>
                  <a:pt x="2138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2:35:29Z</dcterms:created>
  <dc:creator>paul2</dc:creator>
  <dc:description/>
  <dc:language>en-US</dc:language>
  <cp:lastModifiedBy>paul2</cp:lastModifiedBy>
  <dcterms:modified xsi:type="dcterms:W3CDTF">2007-05-26T08:38:11Z</dcterms:modified>
  <cp:revision>34</cp:revision>
  <dc:subject/>
  <dc:title>Diapositive 1</dc:title>
</cp:coreProperties>
</file>