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1E36-4E9B-4A46-A8BB-4C56DA4586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onjour, déplacez moi dans le coin à gau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coloriage magique est un soutient du cours et pemet aux élèves de travailler à la maison (avec l'aide des parents qui se cultivent aussi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A ou B le relais est commandé et la lampe doit s'éteind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devrait être allumée or elle est éte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à 1 permet de vérifier que le relais fonctionne correct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provient d'une coupure soit dans la lampe soit à la masse soit aux contacts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6 est le complémentaire de la l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e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ande normale par la m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mpe doit s'allumer si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r le casprésenté elle est éteinte et sa masse est au p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la masse ne se fait pas, 2 raisons possib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La commande du relais n'a pas fonctionnée alors qu'elle est comman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languette du relais ne fait pas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ans les 2 cas on accuse le re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I = 0 alors RI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s ce montage K ne peut pas être commandé : A &amp; /A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&amp; /A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le de pa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BCc6 = 1 donc le fonctionnement du relais est cohé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nne est en comma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précédemment mais le court circuit peut n'être que sur l'interrupteur A (si c'est le seul cas de pan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c5 = 0implique que le relais n'est pas commandé, la lampe étant allumée il y a donc un court circuit sur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a masse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ourant ne passe pas en commande donc le relais reste au repos; comme la lampe est commandée par un "normalement fermé" elle s'al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fonctionnement est 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bobine du relais est sous 12 voltse et tire le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ormalement le circuit de puissance aurait du s'ouvrir et la lampe s'étein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le reste allumée, BCc5 à 1 permet de voir que le défaut ne provient pas de la commande, BCc6 à 0 permet de confirmer que la lampe est allum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ssibilités de panne : coupure à la commande ou court circuit à la puiss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e par le plus sur un normalement ferm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 repos la lampe est allum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A ou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/ (A ou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45D-88C7-4E2D-8184-088E1610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7569-EF83-4382-9D43-103CF5AE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10B-6642-44E8-9326-9902CB31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726-2545-48D9-B7F6-F162F570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5ACB-99A4-4BBD-8409-286048D9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9EC-BFB0-4E08-94C5-4CFA3116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E9E-AD51-4071-B7AE-ABF811E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650C-5CEF-4B67-A447-ADBA2AD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EAD3-C579-4C23-BC16-50E733A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C8F-8FC7-4466-ACD2-2ED0394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2460-1E98-4D46-83E8-9C0A5C82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089-4505-4DC9-9F09-B60728C9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AE4-1F06-4641-AAAD-F93BC32FE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es par le plus et par la mass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t d’une commande, d’un relais, d’un actionneur, d’un point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ser avec le cours pour corriger le coloriage magique, afficher les commentaires du présent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58980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605040" y="333360"/>
            <a:ext cx="3278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8152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04972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182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18344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1834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4224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18344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40548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29740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452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99572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99572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91848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1828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9740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8452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99572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99572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90544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0064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9740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7544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17544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9740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715176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8992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89768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0360" y="4581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21128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 ou B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219280" y="1700280"/>
            <a:ext cx="100980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524720" y="501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164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84720" y="2276640"/>
            <a:ext cx="1866960" cy="2796840"/>
          </a:xfrm>
          <a:custGeom>
            <a:avLst/>
            <a:gdLst/>
            <a:ahLst/>
            <a:rect l="l" t="t" r="r" b="b"/>
            <a:pathLst>
              <a:path w="1176" h="1762">
                <a:moveTo>
                  <a:pt x="636" y="1762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29272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245440" y="4508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81440" y="508464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076720" y="1965240"/>
            <a:ext cx="355320" cy="1032120"/>
            <a:chOff x="5076720" y="1965240"/>
            <a:chExt cx="355320" cy="1032120"/>
          </a:xfrm>
        </p:grpSpPr>
        <p:sp>
          <p:nvSpPr>
            <p:cNvPr id="657" name=""/>
            <p:cNvSpPr/>
            <p:nvPr/>
          </p:nvSpPr>
          <p:spPr>
            <a:xfrm flipH="1">
              <a:off x="5297040" y="1965240"/>
              <a:ext cx="1350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76720" y="292428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905440" y="1965240"/>
            <a:ext cx="610920" cy="1103400"/>
            <a:chOff x="5905440" y="1965240"/>
            <a:chExt cx="610920" cy="1103400"/>
          </a:xfrm>
        </p:grpSpPr>
        <p:sp>
          <p:nvSpPr>
            <p:cNvPr id="660" name=""/>
            <p:cNvSpPr/>
            <p:nvPr/>
          </p:nvSpPr>
          <p:spPr>
            <a:xfrm>
              <a:off x="5905440" y="1965240"/>
              <a:ext cx="26964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445080" y="2997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094360" y="4251240"/>
            <a:ext cx="557280" cy="1049400"/>
            <a:chOff x="5094360" y="4251240"/>
            <a:chExt cx="557280" cy="1049400"/>
          </a:xfrm>
        </p:grpSpPr>
        <p:sp>
          <p:nvSpPr>
            <p:cNvPr id="663" name=""/>
            <p:cNvSpPr/>
            <p:nvPr/>
          </p:nvSpPr>
          <p:spPr>
            <a:xfrm>
              <a:off x="5094360" y="4251240"/>
              <a:ext cx="223920" cy="5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360" y="5229360"/>
              <a:ext cx="712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7020000" y="4262400"/>
            <a:ext cx="228600" cy="1109880"/>
            <a:chOff x="7020000" y="4262400"/>
            <a:chExt cx="228600" cy="1109880"/>
          </a:xfrm>
        </p:grpSpPr>
        <p:sp>
          <p:nvSpPr>
            <p:cNvPr id="666" name=""/>
            <p:cNvSpPr/>
            <p:nvPr/>
          </p:nvSpPr>
          <p:spPr>
            <a:xfrm flipH="1">
              <a:off x="7183800" y="4262400"/>
              <a:ext cx="6480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20000" y="5300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"/>
          <p:cNvSpPr/>
          <p:nvPr/>
        </p:nvSpPr>
        <p:spPr>
          <a:xfrm flipH="1">
            <a:off x="5219280" y="1557360"/>
            <a:ext cx="144360" cy="35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92720" y="2492280"/>
            <a:ext cx="0" cy="1800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7237080" y="3933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178760" y="4292640"/>
            <a:ext cx="920520" cy="793800"/>
          </a:xfrm>
          <a:custGeom>
            <a:avLst/>
            <a:gdLst/>
            <a:ahLst/>
            <a:rect l="l" t="t" r="r" b="b"/>
            <a:pathLst>
              <a:path w="580" h="500">
                <a:moveTo>
                  <a:pt x="580" y="384"/>
                </a:moveTo>
                <a:lnTo>
                  <a:pt x="4" y="380"/>
                </a:lnTo>
                <a:lnTo>
                  <a:pt x="0" y="500"/>
                </a:lnTo>
                <a:lnTo>
                  <a:pt x="0" y="292"/>
                </a:lnTo>
                <a:lnTo>
                  <a:pt x="17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627280" y="260280"/>
            <a:ext cx="698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c5=1, BCc6=0, Lampe étei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780000" y="450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5653080" y="4508280"/>
            <a:ext cx="151128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24720" y="40766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68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670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7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679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6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20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6229440" y="4317840"/>
            <a:ext cx="669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97376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42116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68936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7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2308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82272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230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581880" y="5067360"/>
            <a:ext cx="48096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82308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45120" y="5048280"/>
            <a:ext cx="854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34000" y="4251240"/>
            <a:ext cx="22392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93704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2416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3536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635360" y="4529160"/>
            <a:ext cx="4813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558120" y="3468600"/>
            <a:ext cx="741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95792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93668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93704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12416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3536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3536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45080" y="79056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4508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40280" y="2489040"/>
            <a:ext cx="87804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937040" y="2031840"/>
            <a:ext cx="2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508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581508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93704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79140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2956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37320" y="487044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51280" y="501336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85092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19640" y="522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93236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92904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680364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804000" y="4869000"/>
            <a:ext cx="86508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80400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84720" y="4653000"/>
            <a:ext cx="1513080" cy="129708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669080" y="45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1964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846920" y="515772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164360" y="907920"/>
            <a:ext cx="144360" cy="38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1280" y="191628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mpe grill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609444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178680" y="5091120"/>
            <a:ext cx="63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6248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8600" y="5992920"/>
            <a:ext cx="2729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9276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465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91524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91524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67548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91524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5600" y="4238640"/>
            <a:ext cx="21096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12748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238640"/>
            <a:ext cx="609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4020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84020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6288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14656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2712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12748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356000" y="1893960"/>
            <a:ext cx="60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4020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84020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0384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70384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13072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2748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95944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595944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2748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84920" y="5091120"/>
            <a:ext cx="14148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91992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310520" y="4941720"/>
            <a:ext cx="1011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068720" y="465300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409896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éteint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5076360" y="1628640"/>
            <a:ext cx="100980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70836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514368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40360" y="2349360"/>
            <a:ext cx="186660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6876720" y="4365720"/>
            <a:ext cx="142920" cy="172728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7440" y="40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6948360" y="3933720"/>
            <a:ext cx="863640" cy="1224000"/>
          </a:xfrm>
          <a:custGeom>
            <a:avLst/>
            <a:gdLst/>
            <a:ahLst/>
            <a:rect l="l" t="t" r="r" b="b"/>
            <a:pathLst>
              <a:path w="544" h="771">
                <a:moveTo>
                  <a:pt x="0" y="0"/>
                </a:moveTo>
                <a:lnTo>
                  <a:pt x="0" y="771"/>
                </a:lnTo>
                <a:lnTo>
                  <a:pt x="0" y="635"/>
                </a:lnTo>
                <a:lnTo>
                  <a:pt x="544" y="635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029440" y="4653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237360" y="4346640"/>
            <a:ext cx="8096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321600" y="5091120"/>
            <a:ext cx="634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757760" y="189000"/>
            <a:ext cx="3108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781520" y="5992920"/>
            <a:ext cx="2728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35680" y="5132520"/>
            <a:ext cx="4809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28948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058160" y="39178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5816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818400" y="4317840"/>
            <a:ext cx="45720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058160" y="55371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270400" y="4778280"/>
            <a:ext cx="0" cy="35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498920" y="4238640"/>
            <a:ext cx="609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83120" y="43736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983120" y="452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805440" y="3429000"/>
            <a:ext cx="704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289480" y="1538280"/>
            <a:ext cx="0" cy="40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270040" y="1876320"/>
            <a:ext cx="12708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270400" y="2416320"/>
            <a:ext cx="0" cy="182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98920" y="1893960"/>
            <a:ext cx="609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83120" y="1994040"/>
            <a:ext cx="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983120" y="21463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846760" y="662040"/>
            <a:ext cx="703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1876320"/>
            <a:ext cx="25560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273640" y="2416320"/>
            <a:ext cx="831960" cy="256356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270400" y="194328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02360" y="1943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102360" y="1133280"/>
            <a:ext cx="0" cy="809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70400" y="1538280"/>
            <a:ext cx="83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7062840" y="4932360"/>
            <a:ext cx="80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736040" y="487692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995640" y="5013360"/>
            <a:ext cx="10112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241880" y="4975200"/>
            <a:ext cx="1009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éteinte, BCc5 = 1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219640" y="1628640"/>
            <a:ext cx="0" cy="360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19640" y="5300640"/>
            <a:ext cx="201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52862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7019640" y="4005360"/>
            <a:ext cx="142920" cy="208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596360" y="357336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95640" y="4437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078520" y="4238640"/>
            <a:ext cx="501120" cy="1135080"/>
            <a:chOff x="5078520" y="4238640"/>
            <a:chExt cx="501120" cy="1135080"/>
          </a:xfrm>
        </p:grpSpPr>
        <p:sp>
          <p:nvSpPr>
            <p:cNvPr id="810" name=""/>
            <p:cNvSpPr/>
            <p:nvPr/>
          </p:nvSpPr>
          <p:spPr>
            <a:xfrm>
              <a:off x="5078520" y="4238640"/>
              <a:ext cx="21096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06920" y="5300640"/>
              <a:ext cx="7272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4300560" y="1557360"/>
            <a:ext cx="992160" cy="3600360"/>
          </a:xfrm>
          <a:custGeom>
            <a:avLst/>
            <a:gdLst/>
            <a:ahLst/>
            <a:rect l="l" t="t" r="r" b="b"/>
            <a:pathLst>
              <a:path w="625" h="2268">
                <a:moveTo>
                  <a:pt x="624" y="0"/>
                </a:moveTo>
                <a:lnTo>
                  <a:pt x="612" y="2155"/>
                </a:lnTo>
                <a:lnTo>
                  <a:pt x="0" y="2164"/>
                </a:lnTo>
                <a:lnTo>
                  <a:pt x="612" y="2155"/>
                </a:lnTo>
                <a:lnTo>
                  <a:pt x="625" y="226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5506920" y="5300280"/>
            <a:ext cx="1440000" cy="73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875640" y="5084640"/>
            <a:ext cx="360000" cy="936360"/>
            <a:chOff x="6875640" y="5084640"/>
            <a:chExt cx="360000" cy="936360"/>
          </a:xfrm>
        </p:grpSpPr>
        <p:sp>
          <p:nvSpPr>
            <p:cNvPr id="815" name=""/>
            <p:cNvSpPr/>
            <p:nvPr/>
          </p:nvSpPr>
          <p:spPr>
            <a:xfrm>
              <a:off x="6875640" y="5084640"/>
              <a:ext cx="164880" cy="49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50320" y="5949360"/>
              <a:ext cx="8532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>
            <a:off x="7020000" y="4724280"/>
            <a:ext cx="863640" cy="1297080"/>
          </a:xfrm>
          <a:custGeom>
            <a:avLst/>
            <a:gdLst/>
            <a:ahLst/>
            <a:rect l="l" t="t" r="r" b="b"/>
            <a:pathLst>
              <a:path w="544" h="817">
                <a:moveTo>
                  <a:pt x="0" y="0"/>
                </a:moveTo>
                <a:lnTo>
                  <a:pt x="0" y="137"/>
                </a:lnTo>
                <a:lnTo>
                  <a:pt x="544" y="137"/>
                </a:lnTo>
                <a:lnTo>
                  <a:pt x="0" y="137"/>
                </a:lnTo>
                <a:lnTo>
                  <a:pt x="0" y="817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388360" y="4797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8736200">
            <a:off x="6298920" y="3933360"/>
            <a:ext cx="1513080" cy="1296720"/>
          </a:xfrm>
          <a:custGeom>
            <a:avLst/>
            <a:gdLst>
              <a:gd name="textAreaLeft" fmla="*/ 623520 w 1513080"/>
              <a:gd name="textAreaRight" fmla="*/ 889560 w 1513080"/>
              <a:gd name="textAreaTop" fmla="*/ 534240 h 1296720"/>
              <a:gd name="textAreaBottom" fmla="*/ 76248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20000" y="3860640"/>
            <a:ext cx="0" cy="50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908000" y="0"/>
            <a:ext cx="2737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9640" y="0"/>
            <a:ext cx="1873080" cy="1197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7020000" y="558936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307280" y="1989000"/>
            <a:ext cx="151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59640" y="5084640"/>
            <a:ext cx="647640" cy="289080"/>
            <a:chOff x="6659640" y="5084640"/>
            <a:chExt cx="647640" cy="289080"/>
          </a:xfrm>
        </p:grpSpPr>
        <p:sp>
          <p:nvSpPr>
            <p:cNvPr id="826" name=""/>
            <p:cNvSpPr/>
            <p:nvPr/>
          </p:nvSpPr>
          <p:spPr>
            <a:xfrm>
              <a:off x="6659640" y="5084640"/>
              <a:ext cx="647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659640" y="5229000"/>
              <a:ext cx="647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7020000" y="4724280"/>
            <a:ext cx="934920" cy="433440"/>
          </a:xfrm>
          <a:custGeom>
            <a:avLst/>
            <a:gdLst/>
            <a:ahLst/>
            <a:rect l="l" t="t" r="r" b="b"/>
            <a:pathLst>
              <a:path w="589" h="273">
                <a:moveTo>
                  <a:pt x="0" y="0"/>
                </a:moveTo>
                <a:lnTo>
                  <a:pt x="0" y="273"/>
                </a:lnTo>
                <a:lnTo>
                  <a:pt x="0" y="137"/>
                </a:lnTo>
                <a:lnTo>
                  <a:pt x="589" y="137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74" dur="2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05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95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68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179280" y="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un seul des contacts est ouvert le courant est interrompu, la chute de tension dans la résistance redevient nulle (RI) et la tension de « Mesure » à la masse remonte à 12 vo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340000" y="1341360"/>
            <a:ext cx="1847880" cy="2228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84660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6740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52916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62464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8784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8332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44508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540560" y="2595600"/>
            <a:ext cx="61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404120" y="26654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819160" y="3157560"/>
            <a:ext cx="136440" cy="415800"/>
            <a:chOff x="2819160" y="3157560"/>
            <a:chExt cx="136440" cy="415800"/>
          </a:xfrm>
        </p:grpSpPr>
        <p:sp>
          <p:nvSpPr>
            <p:cNvPr id="842" name=""/>
            <p:cNvSpPr/>
            <p:nvPr/>
          </p:nvSpPr>
          <p:spPr>
            <a:xfrm>
              <a:off x="2955600" y="3157560"/>
              <a:ext cx="0" cy="41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2819160" y="31575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2819160" y="32961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2819160" y="33652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2819160" y="343476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2819160" y="3226680"/>
              <a:ext cx="13644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"/>
          <p:cNvSpPr/>
          <p:nvPr/>
        </p:nvSpPr>
        <p:spPr>
          <a:xfrm flipH="1">
            <a:off x="2819160" y="2595600"/>
            <a:ext cx="47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19520" y="2316240"/>
            <a:ext cx="136440" cy="139680"/>
            <a:chOff x="2819520" y="2316240"/>
            <a:chExt cx="136440" cy="139680"/>
          </a:xfrm>
        </p:grpSpPr>
        <p:sp>
          <p:nvSpPr>
            <p:cNvPr id="850" name=""/>
            <p:cNvSpPr/>
            <p:nvPr/>
          </p:nvSpPr>
          <p:spPr>
            <a:xfrm flipV="1">
              <a:off x="2887560" y="231624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819520" y="2386080"/>
              <a:ext cx="13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55960" y="2595600"/>
            <a:ext cx="5200560" cy="760320"/>
          </a:xfrm>
          <a:custGeom>
            <a:avLst/>
            <a:gdLst/>
            <a:ahLst/>
            <a:rect l="l" t="t" r="r" b="b"/>
            <a:pathLst>
              <a:path w="8362" h="1017">
                <a:moveTo>
                  <a:pt x="8362" y="0"/>
                </a:moveTo>
                <a:lnTo>
                  <a:pt x="8362" y="1017"/>
                </a:lnTo>
                <a:lnTo>
                  <a:pt x="0" y="10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87560" y="2038320"/>
            <a:ext cx="1163880" cy="5572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35200" y="1763640"/>
            <a:ext cx="1231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364000" y="2997360"/>
            <a:ext cx="341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318360" y="2997360"/>
            <a:ext cx="34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236000" y="2997360"/>
            <a:ext cx="342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30480" y="2401920"/>
            <a:ext cx="8161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284720" y="1844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284720" y="1484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21964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21964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15636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5636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93080" y="182880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93080" y="14684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4032720" y="2301120"/>
            <a:ext cx="628200" cy="678600"/>
            <a:chOff x="4032720" y="2301120"/>
            <a:chExt cx="628200" cy="678600"/>
          </a:xfrm>
        </p:grpSpPr>
        <p:grpSp>
          <p:nvGrpSpPr>
            <p:cNvPr id="869" name=""/>
            <p:cNvGrpSpPr/>
            <p:nvPr/>
          </p:nvGrpSpPr>
          <p:grpSpPr>
            <a:xfrm>
              <a:off x="4331880" y="2594880"/>
              <a:ext cx="329040" cy="384840"/>
              <a:chOff x="4331880" y="2594880"/>
              <a:chExt cx="329040" cy="384840"/>
            </a:xfrm>
          </p:grpSpPr>
          <p:sp>
            <p:nvSpPr>
              <p:cNvPr id="870" name=""/>
              <p:cNvSpPr/>
              <p:nvPr/>
            </p:nvSpPr>
            <p:spPr>
              <a:xfrm>
                <a:off x="4331880" y="2594880"/>
                <a:ext cx="329040" cy="119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513600">
                <a:off x="4424400" y="283032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 rot="513600">
              <a:off x="4037400" y="23058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952520" y="2320560"/>
            <a:ext cx="648000" cy="644040"/>
            <a:chOff x="4952520" y="2320560"/>
            <a:chExt cx="648000" cy="644040"/>
          </a:xfrm>
        </p:grpSpPr>
        <p:grpSp>
          <p:nvGrpSpPr>
            <p:cNvPr id="874" name=""/>
            <p:cNvGrpSpPr/>
            <p:nvPr/>
          </p:nvGrpSpPr>
          <p:grpSpPr>
            <a:xfrm>
              <a:off x="5265000" y="2594880"/>
              <a:ext cx="335520" cy="369720"/>
              <a:chOff x="5265000" y="2594880"/>
              <a:chExt cx="335520" cy="369720"/>
            </a:xfrm>
          </p:grpSpPr>
          <p:sp>
            <p:nvSpPr>
              <p:cNvPr id="875" name=""/>
              <p:cNvSpPr/>
              <p:nvPr/>
            </p:nvSpPr>
            <p:spPr>
              <a:xfrm>
                <a:off x="5265000" y="2594880"/>
                <a:ext cx="335520" cy="9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291600">
                <a:off x="5376600" y="281916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 rot="291600">
              <a:off x="4955400" y="232344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02920" y="2302920"/>
            <a:ext cx="630000" cy="675360"/>
            <a:chOff x="5902920" y="2302920"/>
            <a:chExt cx="630000" cy="675360"/>
          </a:xfrm>
        </p:grpSpPr>
        <p:grpSp>
          <p:nvGrpSpPr>
            <p:cNvPr id="879" name=""/>
            <p:cNvGrpSpPr/>
            <p:nvPr/>
          </p:nvGrpSpPr>
          <p:grpSpPr>
            <a:xfrm>
              <a:off x="6203160" y="2594880"/>
              <a:ext cx="329760" cy="383400"/>
              <a:chOff x="6203160" y="2594880"/>
              <a:chExt cx="329760" cy="383400"/>
            </a:xfrm>
          </p:grpSpPr>
          <p:sp>
            <p:nvSpPr>
              <p:cNvPr id="880" name=""/>
              <p:cNvSpPr/>
              <p:nvPr/>
            </p:nvSpPr>
            <p:spPr>
              <a:xfrm>
                <a:off x="6203160" y="2594880"/>
                <a:ext cx="329760" cy="118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493200">
                <a:off x="6297840" y="2829240"/>
                <a:ext cx="13824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2" name=""/>
            <p:cNvSpPr/>
            <p:nvPr/>
          </p:nvSpPr>
          <p:spPr>
            <a:xfrm rot="493200">
              <a:off x="5907600" y="23076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922440" y="2310840"/>
            <a:ext cx="644760" cy="649800"/>
            <a:chOff x="6922440" y="2310840"/>
            <a:chExt cx="644760" cy="649800"/>
          </a:xfrm>
        </p:grpSpPr>
        <p:grpSp>
          <p:nvGrpSpPr>
            <p:cNvPr id="884" name=""/>
            <p:cNvGrpSpPr/>
            <p:nvPr/>
          </p:nvGrpSpPr>
          <p:grpSpPr>
            <a:xfrm>
              <a:off x="7232400" y="2588400"/>
              <a:ext cx="334800" cy="372240"/>
              <a:chOff x="7232400" y="2588400"/>
              <a:chExt cx="334800" cy="372240"/>
            </a:xfrm>
          </p:grpSpPr>
          <p:sp>
            <p:nvSpPr>
              <p:cNvPr id="885" name=""/>
              <p:cNvSpPr/>
              <p:nvPr/>
            </p:nvSpPr>
            <p:spPr>
              <a:xfrm>
                <a:off x="7232400" y="2588400"/>
                <a:ext cx="334800" cy="102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328200">
                <a:off x="7341120" y="2814480"/>
                <a:ext cx="137880" cy="139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 rot="328200">
              <a:off x="6925320" y="2313720"/>
              <a:ext cx="7128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484360" y="256536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2565360"/>
            <a:ext cx="5616360" cy="790560"/>
          </a:xfrm>
          <a:custGeom>
            <a:avLst/>
            <a:gdLst/>
            <a:ahLst/>
            <a:rect l="l" t="t" r="r" b="b"/>
            <a:pathLst>
              <a:path w="3538" h="498">
                <a:moveTo>
                  <a:pt x="0" y="498"/>
                </a:moveTo>
                <a:lnTo>
                  <a:pt x="3538" y="498"/>
                </a:lnTo>
                <a:lnTo>
                  <a:pt x="3538" y="0"/>
                </a:lnTo>
                <a:lnTo>
                  <a:pt x="3153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771640" y="1989000"/>
            <a:ext cx="1584360" cy="576360"/>
          </a:xfrm>
          <a:custGeom>
            <a:avLst/>
            <a:gdLst/>
            <a:ahLst/>
            <a:rect l="l" t="t" r="r" b="b"/>
            <a:pathLst>
              <a:path w="998" h="363">
                <a:moveTo>
                  <a:pt x="680" y="363"/>
                </a:moveTo>
                <a:lnTo>
                  <a:pt x="998" y="363"/>
                </a:lnTo>
                <a:lnTo>
                  <a:pt x="816" y="363"/>
                </a:lnTo>
                <a:lnTo>
                  <a:pt x="81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643280" y="256536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80000" y="256536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516720" y="2565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896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755640" y="2060280"/>
            <a:ext cx="1944720" cy="1295280"/>
            <a:chOff x="755640" y="2060280"/>
            <a:chExt cx="1944720" cy="1295280"/>
          </a:xfrm>
        </p:grpSpPr>
        <p:sp>
          <p:nvSpPr>
            <p:cNvPr id="900" name=""/>
            <p:cNvSpPr/>
            <p:nvPr/>
          </p:nvSpPr>
          <p:spPr>
            <a:xfrm>
              <a:off x="1692360" y="2852640"/>
              <a:ext cx="1008000" cy="50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1692360" y="2060280"/>
              <a:ext cx="93672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5640" y="2276280"/>
              <a:ext cx="100836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395280" y="18900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autoriser le fonctionnement du toit souple il faut être sur que les 4 contacts soient enfon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419640" y="285264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95280" y="333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urant se met à circuler dans la résistance mais la tension mesurée par l’ordinateur est nulle : « Mesure »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1280" y="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ouverts le courant ne peut pas circuler donc la chute de tension est nulle dans la ré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843280" y="2565360"/>
            <a:ext cx="1152360" cy="1224000"/>
            <a:chOff x="2843280" y="2565360"/>
            <a:chExt cx="1152360" cy="1224000"/>
          </a:xfrm>
        </p:grpSpPr>
        <p:sp>
          <p:nvSpPr>
            <p:cNvPr id="908" name=""/>
            <p:cNvSpPr/>
            <p:nvPr/>
          </p:nvSpPr>
          <p:spPr>
            <a:xfrm flipV="1">
              <a:off x="3780000" y="256536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2843280" y="263664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16360" y="285264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755640" y="2276640"/>
            <a:ext cx="1944720" cy="1079280"/>
            <a:chOff x="755640" y="2276640"/>
            <a:chExt cx="1944720" cy="1079280"/>
          </a:xfrm>
        </p:grpSpPr>
        <p:sp>
          <p:nvSpPr>
            <p:cNvPr id="912" name=""/>
            <p:cNvSpPr/>
            <p:nvPr/>
          </p:nvSpPr>
          <p:spPr>
            <a:xfrm>
              <a:off x="1692360" y="285264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92360" y="2492280"/>
              <a:ext cx="7189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55640" y="2276640"/>
              <a:ext cx="1008000" cy="9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395280" y="407664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es 4 capteurs sont actionnés « Mesure » est à 0 : (Si A . B . C .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395280" y="5013360"/>
            <a:ext cx="8820000" cy="947160"/>
            <a:chOff x="395280" y="5013360"/>
            <a:chExt cx="8820000" cy="947160"/>
          </a:xfrm>
        </p:grpSpPr>
        <p:sp>
          <p:nvSpPr>
            <p:cNvPr id="917" name=""/>
            <p:cNvSpPr/>
            <p:nvPr/>
          </p:nvSpPr>
          <p:spPr>
            <a:xfrm>
              <a:off x="395280" y="5013360"/>
              <a:ext cx="8820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i un seul des capteurs n’est pas actionné « Mesure » est à 1 (Si A + B + C + 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528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42920" y="5518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13856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0920" y="55180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95280" y="591192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« Mesure » est toujours à 1 et le moteur n’est pas autorisé à fonctio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642920" y="2565360"/>
            <a:ext cx="360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4788000" y="2420640"/>
            <a:ext cx="433440" cy="360360"/>
            <a:chOff x="4788000" y="2420640"/>
            <a:chExt cx="433440" cy="360360"/>
          </a:xfrm>
        </p:grpSpPr>
        <p:sp>
          <p:nvSpPr>
            <p:cNvPr id="925" name=""/>
            <p:cNvSpPr/>
            <p:nvPr/>
          </p:nvSpPr>
          <p:spPr>
            <a:xfrm>
              <a:off x="4788000" y="242100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493236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788000" y="242064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95280" y="170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68360" y="126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5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16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25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34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043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1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3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103" dur="3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3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3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7" dur="3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3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2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1138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0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2340000" y="2563920"/>
            <a:ext cx="1819080" cy="252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76480" y="3533760"/>
            <a:ext cx="728640" cy="2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05120" y="3727440"/>
            <a:ext cx="63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703600" y="4308120"/>
            <a:ext cx="182160" cy="582840"/>
            <a:chOff x="2703600" y="4308120"/>
            <a:chExt cx="182160" cy="582840"/>
          </a:xfrm>
        </p:grpSpPr>
        <p:sp>
          <p:nvSpPr>
            <p:cNvPr id="934" name=""/>
            <p:cNvSpPr/>
            <p:nvPr/>
          </p:nvSpPr>
          <p:spPr>
            <a:xfrm>
              <a:off x="2885760" y="4308480"/>
              <a:ext cx="0" cy="5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2703600" y="430812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2703600" y="45021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2703600" y="4599360"/>
              <a:ext cx="18216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2703600" y="469656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2703600" y="4405320"/>
              <a:ext cx="18216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 flipH="1">
            <a:off x="2703600" y="372744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703600" y="3436920"/>
            <a:ext cx="182520" cy="193680"/>
            <a:chOff x="2703600" y="3436920"/>
            <a:chExt cx="182520" cy="193680"/>
          </a:xfrm>
        </p:grpSpPr>
        <p:sp>
          <p:nvSpPr>
            <p:cNvPr id="942" name=""/>
            <p:cNvSpPr/>
            <p:nvPr/>
          </p:nvSpPr>
          <p:spPr>
            <a:xfrm flipV="1">
              <a:off x="2794680" y="3436920"/>
              <a:ext cx="0" cy="19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03600" y="3533760"/>
              <a:ext cx="182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 flipV="1">
            <a:off x="2886120" y="4502880"/>
            <a:ext cx="4822920" cy="96840"/>
          </a:xfrm>
          <a:custGeom>
            <a:avLst/>
            <a:gdLst/>
            <a:ahLst/>
            <a:rect l="l" t="t" r="r" b="b"/>
            <a:pathLst>
              <a:path w="8588" h="1">
                <a:moveTo>
                  <a:pt x="8588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703600" y="3144960"/>
            <a:ext cx="1274760" cy="582480"/>
          </a:xfrm>
          <a:custGeom>
            <a:avLst/>
            <a:gdLst/>
            <a:ahLst/>
            <a:rect l="l" t="t" r="r" b="b"/>
            <a:pathLst>
              <a:path w="2034" h="904">
                <a:moveTo>
                  <a:pt x="2034" y="904"/>
                </a:moveTo>
                <a:lnTo>
                  <a:pt x="203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30360" y="2854440"/>
            <a:ext cx="163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32320" y="3851280"/>
            <a:ext cx="530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69440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332240"/>
            <a:ext cx="13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43384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95620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569736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95476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95620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343560" y="3851280"/>
            <a:ext cx="52884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865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60708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864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65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162920" y="3851280"/>
            <a:ext cx="5284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684920" y="43322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7426440" y="419724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683480" y="4332240"/>
            <a:ext cx="1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684920" y="37274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341960" y="3727440"/>
            <a:ext cx="33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-10800" bIns="-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71636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71636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65308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65308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589800" y="306864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9800" y="27082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381800" y="3068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381800" y="2708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4628880" y="3643200"/>
            <a:ext cx="447840" cy="755640"/>
            <a:chOff x="4628880" y="3643200"/>
            <a:chExt cx="447840" cy="755640"/>
          </a:xfrm>
        </p:grpSpPr>
        <p:grpSp>
          <p:nvGrpSpPr>
            <p:cNvPr id="977" name=""/>
            <p:cNvGrpSpPr/>
            <p:nvPr/>
          </p:nvGrpSpPr>
          <p:grpSpPr>
            <a:xfrm>
              <a:off x="4628880" y="3995640"/>
              <a:ext cx="387720" cy="403200"/>
              <a:chOff x="4628880" y="3995640"/>
              <a:chExt cx="387720" cy="403200"/>
            </a:xfrm>
          </p:grpSpPr>
          <p:sp>
            <p:nvSpPr>
              <p:cNvPr id="978" name=""/>
              <p:cNvSpPr/>
              <p:nvPr/>
            </p:nvSpPr>
            <p:spPr>
              <a:xfrm>
                <a:off x="49514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rot="5400000">
                <a:off x="46270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0036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5651280" y="3643200"/>
            <a:ext cx="447840" cy="755640"/>
            <a:chOff x="5651280" y="3643200"/>
            <a:chExt cx="447840" cy="755640"/>
          </a:xfrm>
        </p:grpSpPr>
        <p:grpSp>
          <p:nvGrpSpPr>
            <p:cNvPr id="982" name=""/>
            <p:cNvGrpSpPr/>
            <p:nvPr/>
          </p:nvGrpSpPr>
          <p:grpSpPr>
            <a:xfrm>
              <a:off x="5651280" y="3995640"/>
              <a:ext cx="387720" cy="403200"/>
              <a:chOff x="5651280" y="3995640"/>
              <a:chExt cx="387720" cy="403200"/>
            </a:xfrm>
          </p:grpSpPr>
          <p:sp>
            <p:nvSpPr>
              <p:cNvPr id="983" name=""/>
              <p:cNvSpPr/>
              <p:nvPr/>
            </p:nvSpPr>
            <p:spPr>
              <a:xfrm>
                <a:off x="597384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5400000">
                <a:off x="564948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602604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6557760" y="3643200"/>
            <a:ext cx="447840" cy="755640"/>
            <a:chOff x="6557760" y="3643200"/>
            <a:chExt cx="447840" cy="755640"/>
          </a:xfrm>
        </p:grpSpPr>
        <p:grpSp>
          <p:nvGrpSpPr>
            <p:cNvPr id="987" name=""/>
            <p:cNvGrpSpPr/>
            <p:nvPr/>
          </p:nvGrpSpPr>
          <p:grpSpPr>
            <a:xfrm>
              <a:off x="6557760" y="3995640"/>
              <a:ext cx="387720" cy="403200"/>
              <a:chOff x="6557760" y="3995640"/>
              <a:chExt cx="387720" cy="403200"/>
            </a:xfrm>
          </p:grpSpPr>
          <p:sp>
            <p:nvSpPr>
              <p:cNvPr id="988" name=""/>
              <p:cNvSpPr/>
              <p:nvPr/>
            </p:nvSpPr>
            <p:spPr>
              <a:xfrm>
                <a:off x="688032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5400000">
                <a:off x="655596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693252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7380000" y="3643200"/>
            <a:ext cx="447840" cy="755640"/>
            <a:chOff x="7380000" y="3643200"/>
            <a:chExt cx="447840" cy="755640"/>
          </a:xfrm>
        </p:grpSpPr>
        <p:grpSp>
          <p:nvGrpSpPr>
            <p:cNvPr id="992" name=""/>
            <p:cNvGrpSpPr/>
            <p:nvPr/>
          </p:nvGrpSpPr>
          <p:grpSpPr>
            <a:xfrm>
              <a:off x="7380000" y="3995640"/>
              <a:ext cx="387720" cy="403200"/>
              <a:chOff x="7380000" y="3995640"/>
              <a:chExt cx="387720" cy="403200"/>
            </a:xfrm>
          </p:grpSpPr>
          <p:sp>
            <p:nvSpPr>
              <p:cNvPr id="993" name=""/>
              <p:cNvSpPr/>
              <p:nvPr/>
            </p:nvSpPr>
            <p:spPr>
              <a:xfrm>
                <a:off x="7702560" y="3995640"/>
                <a:ext cx="65160" cy="40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rot="5400000">
                <a:off x="7378200" y="4132080"/>
                <a:ext cx="133560" cy="12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754760" y="3643200"/>
              <a:ext cx="73080" cy="72720"/>
            </a:xfrm>
            <a:prstGeom prst="ellipse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11280" y="3716280"/>
            <a:ext cx="57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556000" y="4363920"/>
            <a:ext cx="5111640" cy="216000"/>
          </a:xfrm>
          <a:custGeom>
            <a:avLst/>
            <a:gdLst/>
            <a:ahLst/>
            <a:rect l="l" t="t" r="r" b="b"/>
            <a:pathLst>
              <a:path w="3220" h="136">
                <a:moveTo>
                  <a:pt x="3220" y="0"/>
                </a:moveTo>
                <a:lnTo>
                  <a:pt x="3220" y="136"/>
                </a:lnTo>
                <a:lnTo>
                  <a:pt x="2722" y="136"/>
                </a:lnTo>
                <a:lnTo>
                  <a:pt x="2722" y="0"/>
                </a:lnTo>
                <a:lnTo>
                  <a:pt x="2722" y="136"/>
                </a:lnTo>
                <a:lnTo>
                  <a:pt x="2132" y="136"/>
                </a:lnTo>
                <a:lnTo>
                  <a:pt x="2132" y="0"/>
                </a:lnTo>
                <a:lnTo>
                  <a:pt x="2132" y="136"/>
                </a:lnTo>
                <a:lnTo>
                  <a:pt x="1497" y="136"/>
                </a:lnTo>
                <a:lnTo>
                  <a:pt x="1497" y="0"/>
                </a:lnTo>
                <a:lnTo>
                  <a:pt x="1497" y="136"/>
                </a:lnTo>
                <a:lnTo>
                  <a:pt x="0" y="136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627280" y="31399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3141720"/>
            <a:ext cx="5040360" cy="936720"/>
          </a:xfrm>
          <a:custGeom>
            <a:avLst/>
            <a:gdLst/>
            <a:ahLst/>
            <a:rect l="l" t="t" r="r" b="b"/>
            <a:pathLst>
              <a:path w="3175" h="590">
                <a:moveTo>
                  <a:pt x="0" y="0"/>
                </a:moveTo>
                <a:lnTo>
                  <a:pt x="862" y="0"/>
                </a:lnTo>
                <a:lnTo>
                  <a:pt x="862" y="363"/>
                </a:lnTo>
                <a:lnTo>
                  <a:pt x="681" y="363"/>
                </a:lnTo>
                <a:lnTo>
                  <a:pt x="1452" y="363"/>
                </a:lnTo>
                <a:lnTo>
                  <a:pt x="1452" y="544"/>
                </a:lnTo>
                <a:lnTo>
                  <a:pt x="1452" y="363"/>
                </a:lnTo>
                <a:lnTo>
                  <a:pt x="2087" y="363"/>
                </a:lnTo>
                <a:lnTo>
                  <a:pt x="2087" y="544"/>
                </a:lnTo>
                <a:lnTo>
                  <a:pt x="2087" y="363"/>
                </a:lnTo>
                <a:lnTo>
                  <a:pt x="2677" y="363"/>
                </a:lnTo>
                <a:lnTo>
                  <a:pt x="2677" y="544"/>
                </a:lnTo>
                <a:lnTo>
                  <a:pt x="2677" y="363"/>
                </a:lnTo>
                <a:lnTo>
                  <a:pt x="3175" y="363"/>
                </a:lnTo>
                <a:lnTo>
                  <a:pt x="3175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01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2843280" y="3716280"/>
            <a:ext cx="1152360" cy="1224000"/>
            <a:chOff x="2843280" y="3716280"/>
            <a:chExt cx="1152360" cy="1224000"/>
          </a:xfrm>
        </p:grpSpPr>
        <p:sp>
          <p:nvSpPr>
            <p:cNvPr id="1005" name=""/>
            <p:cNvSpPr/>
            <p:nvPr/>
          </p:nvSpPr>
          <p:spPr>
            <a:xfrm flipV="1">
              <a:off x="3780000" y="3716280"/>
              <a:ext cx="21564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2843280" y="3787560"/>
              <a:ext cx="216000" cy="36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916360" y="4003560"/>
              <a:ext cx="100800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"/>
          <p:cNvSpPr/>
          <p:nvPr/>
        </p:nvSpPr>
        <p:spPr>
          <a:xfrm>
            <a:off x="324000" y="126828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alculateur mesure 0 volts et interdit le fonctionnement du moteur du toit s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84360" y="508464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A . B . C . D sont actionnés ( à 1), « Mesure » passe à 1 et le calculateur autorise le fonctionnement du to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24000" y="260280"/>
            <a:ext cx="8353440" cy="947160"/>
            <a:chOff x="324000" y="260280"/>
            <a:chExt cx="8353440" cy="947160"/>
          </a:xfrm>
        </p:grpSpPr>
        <p:sp>
          <p:nvSpPr>
            <p:cNvPr id="1011" name=""/>
            <p:cNvSpPr/>
            <p:nvPr/>
          </p:nvSpPr>
          <p:spPr>
            <a:xfrm>
              <a:off x="324000" y="260280"/>
              <a:ext cx="8353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ant qu’il y a un capteur au repos ( A + B + C + D) le courant circule dans la résistance et RI = 12 vol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01200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5964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08720" y="333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56720" y="333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684360" y="3213000"/>
            <a:ext cx="1944720" cy="1295640"/>
            <a:chOff x="684360" y="3213000"/>
            <a:chExt cx="1944720" cy="1295640"/>
          </a:xfrm>
        </p:grpSpPr>
        <p:sp>
          <p:nvSpPr>
            <p:cNvPr id="1017" name=""/>
            <p:cNvSpPr/>
            <p:nvPr/>
          </p:nvSpPr>
          <p:spPr>
            <a:xfrm>
              <a:off x="1621080" y="4005360"/>
              <a:ext cx="100800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1621080" y="3213000"/>
              <a:ext cx="93672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4360" y="3429000"/>
              <a:ext cx="1008360" cy="9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Vo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627280" y="3573360"/>
            <a:ext cx="13683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218200" y="3499920"/>
            <a:ext cx="433440" cy="360360"/>
            <a:chOff x="5218200" y="3499920"/>
            <a:chExt cx="433440" cy="360360"/>
          </a:xfrm>
        </p:grpSpPr>
        <p:sp>
          <p:nvSpPr>
            <p:cNvPr id="1022" name=""/>
            <p:cNvSpPr/>
            <p:nvPr/>
          </p:nvSpPr>
          <p:spPr>
            <a:xfrm>
              <a:off x="5218200" y="3500280"/>
              <a:ext cx="433440" cy="358920"/>
            </a:xfrm>
            <a:prstGeom prst="parallelogram">
              <a:avLst>
                <a:gd name="adj" fmla="val 925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36256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218200" y="3499920"/>
              <a:ext cx="2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"/>
          <p:cNvSpPr/>
          <p:nvPr/>
        </p:nvSpPr>
        <p:spPr>
          <a:xfrm>
            <a:off x="395280" y="404640"/>
            <a:ext cx="83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cas de coupure le calculateur peut autoriser le fonctionnement du moteur et le mécanisme peut être endommagé. Pour cette raison c’est la solution des contacteurs « normalement ouverts » en série qui a été re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508720" y="3716280"/>
            <a:ext cx="2158920" cy="360360"/>
          </a:xfrm>
          <a:custGeom>
            <a:avLst/>
            <a:gdLst/>
            <a:ahLst/>
            <a:rect l="l" t="t" r="r" b="b"/>
            <a:pathLst>
              <a:path w="1360" h="227">
                <a:moveTo>
                  <a:pt x="1360" y="227"/>
                </a:moveTo>
                <a:lnTo>
                  <a:pt x="1360" y="0"/>
                </a:lnTo>
                <a:lnTo>
                  <a:pt x="862" y="0"/>
                </a:lnTo>
                <a:lnTo>
                  <a:pt x="862" y="227"/>
                </a:lnTo>
                <a:lnTo>
                  <a:pt x="862" y="0"/>
                </a:lnTo>
                <a:lnTo>
                  <a:pt x="272" y="0"/>
                </a:lnTo>
                <a:lnTo>
                  <a:pt x="272" y="227"/>
                </a:ln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250920" y="2924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24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ure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3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67" dur="2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76" dur="2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185" dur="2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7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10" dur="3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2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5" dur="3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3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3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3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6" dur="3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500000">
                                      <p:cBhvr>
                                        <p:cTn id="126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9" name=""/>
          <p:cNvGrpSpPr/>
          <p:nvPr/>
        </p:nvGrpSpPr>
        <p:grpSpPr>
          <a:xfrm>
            <a:off x="2916360" y="3213000"/>
            <a:ext cx="1163520" cy="2448000"/>
            <a:chOff x="2916360" y="3213000"/>
            <a:chExt cx="1163520" cy="2448000"/>
          </a:xfrm>
        </p:grpSpPr>
        <p:sp>
          <p:nvSpPr>
            <p:cNvPr id="1030" name=""/>
            <p:cNvSpPr/>
            <p:nvPr/>
          </p:nvSpPr>
          <p:spPr>
            <a:xfrm>
              <a:off x="291636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1636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16360" y="419256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1636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1636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479520" y="3213000"/>
            <a:ext cx="2325600" cy="2448000"/>
            <a:chOff x="479520" y="3213000"/>
            <a:chExt cx="2325600" cy="2448000"/>
          </a:xfrm>
        </p:grpSpPr>
        <p:sp>
          <p:nvSpPr>
            <p:cNvPr id="1036" name=""/>
            <p:cNvSpPr/>
            <p:nvPr/>
          </p:nvSpPr>
          <p:spPr>
            <a:xfrm>
              <a:off x="47952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43040" y="3213000"/>
              <a:ext cx="116208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tré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79520" y="370188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952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43040" y="370188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3040" y="419256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79520" y="468144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79520" y="5172120"/>
              <a:ext cx="116352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43040" y="4681440"/>
              <a:ext cx="116208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43040" y="5172120"/>
              <a:ext cx="1162080" cy="4888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ble de vérité d’un complémen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1763640" y="981000"/>
            <a:ext cx="5545080" cy="703440"/>
            <a:chOff x="1763640" y="981000"/>
            <a:chExt cx="5545080" cy="703440"/>
          </a:xfrm>
        </p:grpSpPr>
        <p:sp>
          <p:nvSpPr>
            <p:cNvPr id="1048" name=""/>
            <p:cNvSpPr/>
            <p:nvPr/>
          </p:nvSpPr>
          <p:spPr>
            <a:xfrm>
              <a:off x="1763640" y="981000"/>
              <a:ext cx="554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Exemple : 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84360" y="981000"/>
              <a:ext cx="12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1547640" y="1989000"/>
            <a:ext cx="1729080" cy="703440"/>
            <a:chOff x="1547640" y="1989000"/>
            <a:chExt cx="1729080" cy="703440"/>
          </a:xfrm>
        </p:grpSpPr>
        <p:sp>
          <p:nvSpPr>
            <p:cNvPr id="1051" name=""/>
            <p:cNvSpPr/>
            <p:nvPr/>
          </p:nvSpPr>
          <p:spPr>
            <a:xfrm>
              <a:off x="1547640" y="1989000"/>
              <a:ext cx="172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33520" y="1989000"/>
              <a:ext cx="381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564000" y="3213000"/>
            <a:ext cx="1163520" cy="2448000"/>
            <a:chOff x="3564000" y="3213000"/>
            <a:chExt cx="1163520" cy="2448000"/>
          </a:xfrm>
        </p:grpSpPr>
        <p:sp>
          <p:nvSpPr>
            <p:cNvPr id="1055" name=""/>
            <p:cNvSpPr/>
            <p:nvPr/>
          </p:nvSpPr>
          <p:spPr>
            <a:xfrm>
              <a:off x="3564000" y="321300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rtie 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64000" y="3701880"/>
              <a:ext cx="1163520" cy="49068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64000" y="419256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64000" y="4681440"/>
              <a:ext cx="1163520" cy="49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64000" y="5172120"/>
              <a:ext cx="1163520" cy="488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924360" y="1844640"/>
            <a:ext cx="4968720" cy="1584360"/>
            <a:chOff x="3924360" y="1844640"/>
            <a:chExt cx="4968720" cy="1584360"/>
          </a:xfrm>
        </p:grpSpPr>
        <p:sp>
          <p:nvSpPr>
            <p:cNvPr id="1061" name=""/>
            <p:cNvSpPr/>
            <p:nvPr/>
          </p:nvSpPr>
          <p:spPr>
            <a:xfrm>
              <a:off x="4150080" y="233208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49406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94064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730840" y="1844640"/>
              <a:ext cx="564480" cy="243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8780040" y="2088360"/>
              <a:ext cx="0" cy="48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95680" y="184464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086240" y="1844640"/>
              <a:ext cx="0" cy="974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4064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30840" y="2819520"/>
              <a:ext cx="564480" cy="243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95680" y="2819520"/>
              <a:ext cx="7902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086240" y="2332080"/>
              <a:ext cx="677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63760" y="2088360"/>
              <a:ext cx="451440" cy="48744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215560" y="2332080"/>
              <a:ext cx="564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8780040" y="208836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8780040" y="2210040"/>
              <a:ext cx="113040" cy="121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8780040" y="2331720"/>
              <a:ext cx="113040" cy="12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3924360" y="2088360"/>
              <a:ext cx="225720" cy="243360"/>
              <a:chOff x="3924360" y="2088360"/>
              <a:chExt cx="225720" cy="243360"/>
            </a:xfrm>
          </p:grpSpPr>
          <p:sp>
            <p:nvSpPr>
              <p:cNvPr id="1078" name=""/>
              <p:cNvSpPr/>
              <p:nvPr/>
            </p:nvSpPr>
            <p:spPr>
              <a:xfrm>
                <a:off x="3924360" y="2209680"/>
                <a:ext cx="2257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4037400" y="2088360"/>
                <a:ext cx="0" cy="243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618160" y="196668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18160" y="2941560"/>
              <a:ext cx="677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4859280" y="3933720"/>
            <a:ext cx="4032360" cy="1152720"/>
            <a:chOff x="4859280" y="3933720"/>
            <a:chExt cx="4032360" cy="1152720"/>
          </a:xfrm>
        </p:grpSpPr>
        <p:sp>
          <p:nvSpPr>
            <p:cNvPr id="1083" name=""/>
            <p:cNvSpPr/>
            <p:nvPr/>
          </p:nvSpPr>
          <p:spPr>
            <a:xfrm>
              <a:off x="7337520" y="4029120"/>
              <a:ext cx="69480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8752680" y="407736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057520" y="4366080"/>
              <a:ext cx="6948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8752680" y="4077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8752680" y="422172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8752680" y="4366080"/>
              <a:ext cx="13896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527520" y="4366080"/>
              <a:ext cx="8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27520" y="4077720"/>
              <a:ext cx="0" cy="288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693040" y="4221720"/>
              <a:ext cx="9730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4997880" y="4366080"/>
              <a:ext cx="6951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971320" y="4510080"/>
              <a:ext cx="973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4" name=""/>
            <p:cNvGrpSpPr/>
            <p:nvPr/>
          </p:nvGrpSpPr>
          <p:grpSpPr>
            <a:xfrm>
              <a:off x="4859280" y="3933720"/>
              <a:ext cx="277920" cy="288000"/>
              <a:chOff x="4859280" y="3933720"/>
              <a:chExt cx="277920" cy="288000"/>
            </a:xfrm>
          </p:grpSpPr>
          <p:sp>
            <p:nvSpPr>
              <p:cNvPr id="1095" name=""/>
              <p:cNvSpPr/>
              <p:nvPr/>
            </p:nvSpPr>
            <p:spPr>
              <a:xfrm>
                <a:off x="4859280" y="4077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998240" y="3933720"/>
                <a:ext cx="0" cy="288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7" name=""/>
          <p:cNvGrpSpPr/>
          <p:nvPr/>
        </p:nvGrpSpPr>
        <p:grpSpPr>
          <a:xfrm>
            <a:off x="4859280" y="4005360"/>
            <a:ext cx="4032360" cy="1152000"/>
            <a:chOff x="4859280" y="4005360"/>
            <a:chExt cx="4032360" cy="1152000"/>
          </a:xfrm>
        </p:grpSpPr>
        <p:sp>
          <p:nvSpPr>
            <p:cNvPr id="1098" name=""/>
            <p:cNvSpPr/>
            <p:nvPr/>
          </p:nvSpPr>
          <p:spPr>
            <a:xfrm>
              <a:off x="7337520" y="4100400"/>
              <a:ext cx="695160" cy="720360"/>
            </a:xfrm>
            <a:prstGeom prst="flowChartSummingJunction">
              <a:avLst/>
            </a:prstGeom>
            <a:solidFill>
              <a:srgbClr val="0000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8751960" y="4149360"/>
              <a:ext cx="0" cy="57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05644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8751960" y="4149000"/>
              <a:ext cx="139680" cy="14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8751960" y="4294080"/>
              <a:ext cx="139680" cy="142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8751960" y="4437000"/>
              <a:ext cx="139680" cy="144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27880" y="4437000"/>
              <a:ext cx="834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5694480" y="4436640"/>
              <a:ext cx="820800" cy="286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4998960" y="4437000"/>
              <a:ext cx="69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2400" y="4581360"/>
              <a:ext cx="9730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4859280" y="4005360"/>
              <a:ext cx="277920" cy="288720"/>
              <a:chOff x="4859280" y="4005360"/>
              <a:chExt cx="277920" cy="288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4859280" y="4149360"/>
                <a:ext cx="27792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V="1">
                <a:off x="4998240" y="4005360"/>
                <a:ext cx="0" cy="28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18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1" name=""/>
          <p:cNvSpPr/>
          <p:nvPr/>
        </p:nvSpPr>
        <p:spPr>
          <a:xfrm>
            <a:off x="7337520" y="4024440"/>
            <a:ext cx="69516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335720" y="4027320"/>
            <a:ext cx="695520" cy="720720"/>
          </a:xfrm>
          <a:prstGeom prst="flowChartSummingJunction">
            <a:avLst/>
          </a:prstGeom>
          <a:solidFill>
            <a:srgbClr val="f6ec2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0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3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53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62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74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4760" y="293364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36880" y="1557360"/>
            <a:ext cx="1239840" cy="384120"/>
            <a:chOff x="3836880" y="1557360"/>
            <a:chExt cx="1239840" cy="384120"/>
          </a:xfrm>
        </p:grpSpPr>
        <p:sp>
          <p:nvSpPr>
            <p:cNvPr id="94" name=""/>
            <p:cNvSpPr/>
            <p:nvPr/>
          </p:nvSpPr>
          <p:spPr>
            <a:xfrm flipV="1">
              <a:off x="3836880" y="179532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03640" y="155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516040" y="2276640"/>
            <a:ext cx="1192320" cy="352440"/>
            <a:chOff x="2516040" y="2276640"/>
            <a:chExt cx="1192320" cy="352440"/>
          </a:xfrm>
        </p:grpSpPr>
        <p:sp>
          <p:nvSpPr>
            <p:cNvPr id="97" name=""/>
            <p:cNvSpPr/>
            <p:nvPr/>
          </p:nvSpPr>
          <p:spPr>
            <a:xfrm flipV="1">
              <a:off x="2516040" y="248292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5280" y="22766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0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0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33336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1773000"/>
            <a:ext cx="3816360" cy="6476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404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219640" y="0"/>
            <a:ext cx="1800360" cy="1700280"/>
            <a:chOff x="5219640" y="0"/>
            <a:chExt cx="1800360" cy="1700280"/>
          </a:xfrm>
        </p:grpSpPr>
        <p:sp>
          <p:nvSpPr>
            <p:cNvPr id="112" name=""/>
            <p:cNvSpPr/>
            <p:nvPr/>
          </p:nvSpPr>
          <p:spPr>
            <a:xfrm>
              <a:off x="5219640" y="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370200" y="83664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8560" y="83664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08360" y="476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34290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3500280"/>
            <a:ext cx="17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156360" y="2491920"/>
            <a:ext cx="1800360" cy="1797480"/>
            <a:chOff x="6156360" y="2491920"/>
            <a:chExt cx="1800360" cy="1797480"/>
          </a:xfrm>
        </p:grpSpPr>
        <p:sp>
          <p:nvSpPr>
            <p:cNvPr id="119" name=""/>
            <p:cNvSpPr/>
            <p:nvPr/>
          </p:nvSpPr>
          <p:spPr>
            <a:xfrm flipH="1" flipV="1">
              <a:off x="7380360" y="2492280"/>
              <a:ext cx="71280" cy="1224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588000" y="2491920"/>
              <a:ext cx="71640" cy="1368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360" y="3500280"/>
              <a:ext cx="1800360" cy="7891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796000" y="2349360"/>
            <a:ext cx="201600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8836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72428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os : BCc5=0, BCc6=0,Lampe étei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978440"/>
            <a:ext cx="32767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ser av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loriage ma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icher les commentaires du présent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946840" y="153180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8440" y="192888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351480" y="1531800"/>
            <a:ext cx="338400" cy="530280"/>
            <a:chOff x="6351480" y="1531800"/>
            <a:chExt cx="338400" cy="530280"/>
          </a:xfrm>
        </p:grpSpPr>
        <p:sp>
          <p:nvSpPr>
            <p:cNvPr id="134" name=""/>
            <p:cNvSpPr/>
            <p:nvPr/>
          </p:nvSpPr>
          <p:spPr>
            <a:xfrm>
              <a:off x="6351480" y="179676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4520" y="153180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4520" y="15318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554520" y="16642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554520" y="17967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554520" y="192960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19880" y="245916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57920" y="2193840"/>
            <a:ext cx="541440" cy="53028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299360" y="2193840"/>
            <a:ext cx="337680" cy="530280"/>
            <a:chOff x="7299360" y="2193840"/>
            <a:chExt cx="337680" cy="530280"/>
          </a:xfrm>
        </p:grpSpPr>
        <p:sp>
          <p:nvSpPr>
            <p:cNvPr id="143" name=""/>
            <p:cNvSpPr/>
            <p:nvPr/>
          </p:nvSpPr>
          <p:spPr>
            <a:xfrm>
              <a:off x="7299360" y="245880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02040" y="219384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502040" y="21938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502040" y="23263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502040" y="245880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502040" y="259164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554880" y="245916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3440" y="27972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402160" y="1797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402160" y="2459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24520" y="272412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073480" y="2341440"/>
            <a:ext cx="271800" cy="265320"/>
            <a:chOff x="5073480" y="2341440"/>
            <a:chExt cx="271800" cy="265320"/>
          </a:xfrm>
        </p:grpSpPr>
        <p:sp>
          <p:nvSpPr>
            <p:cNvPr id="155" name=""/>
            <p:cNvSpPr/>
            <p:nvPr/>
          </p:nvSpPr>
          <p:spPr>
            <a:xfrm>
              <a:off x="5209200" y="2341440"/>
              <a:ext cx="0" cy="26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3480" y="247392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3160" y="1109520"/>
            <a:ext cx="2824200" cy="66060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3440" y="47628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59200" y="179856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74680" y="24829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30364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45124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11320" y="2482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94200" y="24829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4160" y="1801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7040" y="180180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50960" y="1601280"/>
            <a:ext cx="0" cy="1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179712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727360" y="161928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32160" y="17953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14680" y="17953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7520" y="203832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11760" y="1397160"/>
            <a:ext cx="1109520" cy="704520"/>
            <a:chOff x="3911760" y="1397160"/>
            <a:chExt cx="1109520" cy="704520"/>
          </a:xfrm>
        </p:grpSpPr>
        <p:sp>
          <p:nvSpPr>
            <p:cNvPr id="174" name=""/>
            <p:cNvSpPr/>
            <p:nvPr/>
          </p:nvSpPr>
          <p:spPr>
            <a:xfrm flipV="1">
              <a:off x="3911760" y="1805040"/>
              <a:ext cx="516960" cy="296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661000">
              <a:off x="4939560" y="14054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588040" y="2118960"/>
            <a:ext cx="1068120" cy="667800"/>
            <a:chOff x="2588040" y="2118960"/>
            <a:chExt cx="1068120" cy="667800"/>
          </a:xfrm>
        </p:grpSpPr>
        <p:sp>
          <p:nvSpPr>
            <p:cNvPr id="177" name=""/>
            <p:cNvSpPr/>
            <p:nvPr/>
          </p:nvSpPr>
          <p:spPr>
            <a:xfrm flipV="1">
              <a:off x="2588040" y="2486880"/>
              <a:ext cx="515160" cy="29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0637600">
              <a:off x="3574440" y="212760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459160" y="1695600"/>
            <a:ext cx="1320840" cy="293400"/>
            <a:chOff x="2459160" y="1695600"/>
            <a:chExt cx="1320840" cy="293400"/>
          </a:xfrm>
        </p:grpSpPr>
        <p:sp>
          <p:nvSpPr>
            <p:cNvPr id="180" name=""/>
            <p:cNvSpPr/>
            <p:nvPr/>
          </p:nvSpPr>
          <p:spPr>
            <a:xfrm>
              <a:off x="2459160" y="169560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360" y="191628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956200" y="2060640"/>
            <a:ext cx="992160" cy="736200"/>
            <a:chOff x="5956200" y="2060640"/>
            <a:chExt cx="992160" cy="736200"/>
          </a:xfrm>
        </p:grpSpPr>
        <p:sp>
          <p:nvSpPr>
            <p:cNvPr id="183" name=""/>
            <p:cNvSpPr/>
            <p:nvPr/>
          </p:nvSpPr>
          <p:spPr>
            <a:xfrm flipV="1">
              <a:off x="5956200" y="245880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77080" y="206064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87280" y="249228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18360" y="182556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91440" y="245412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1700280"/>
            <a:ext cx="3889440" cy="144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219640" y="115920"/>
            <a:ext cx="1800360" cy="1700280"/>
            <a:chOff x="5219640" y="115920"/>
            <a:chExt cx="1800360" cy="1700280"/>
          </a:xfrm>
        </p:grpSpPr>
        <p:sp>
          <p:nvSpPr>
            <p:cNvPr id="190" name=""/>
            <p:cNvSpPr/>
            <p:nvPr/>
          </p:nvSpPr>
          <p:spPr>
            <a:xfrm>
              <a:off x="5219640" y="115920"/>
              <a:ext cx="1800360" cy="981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0 vol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370200" y="952560"/>
              <a:ext cx="28908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8560" y="952560"/>
              <a:ext cx="288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419640" y="90792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Arial"/>
              </a:rPr>
              <a:t>I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8360" y="26028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92720" y="247500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7640" y="1125360"/>
            <a:ext cx="3816360" cy="64800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2360" y="242100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17080" y="76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2997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9760" y="1790640"/>
            <a:ext cx="1513080" cy="720720"/>
          </a:xfrm>
          <a:custGeom>
            <a:avLst/>
            <a:gdLst/>
            <a:ahLst/>
            <a:rect l="l" t="t" r="r" b="b"/>
            <a:pathLst>
              <a:path w="953" h="454">
                <a:moveTo>
                  <a:pt x="681" y="454"/>
                </a:moveTo>
                <a:lnTo>
                  <a:pt x="953" y="454"/>
                </a:lnTo>
                <a:lnTo>
                  <a:pt x="953" y="227"/>
                </a:lnTo>
                <a:lnTo>
                  <a:pt x="0" y="227"/>
                </a:lnTo>
                <a:lnTo>
                  <a:pt x="0" y="0"/>
                </a:lnTo>
                <a:lnTo>
                  <a:pt x="31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17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58920" y="2933640"/>
            <a:ext cx="4537080" cy="2041200"/>
            <a:chOff x="1258920" y="2933640"/>
            <a:chExt cx="4537080" cy="2041200"/>
          </a:xfrm>
        </p:grpSpPr>
        <p:sp>
          <p:nvSpPr>
            <p:cNvPr id="203" name=""/>
            <p:cNvSpPr/>
            <p:nvPr/>
          </p:nvSpPr>
          <p:spPr>
            <a:xfrm>
              <a:off x="2444760" y="2933640"/>
              <a:ext cx="6494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3357720"/>
              <a:ext cx="4392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8920" y="4149720"/>
              <a:ext cx="34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A &amp; A = 0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1280" y="4149720"/>
              <a:ext cx="64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2771640" y="3068640"/>
              <a:ext cx="0" cy="79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205000"/>
            <a:ext cx="649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9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0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13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22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53440" y="324792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234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53440" y="927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27520" y="2489040"/>
            <a:ext cx="649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36880" y="2008080"/>
            <a:ext cx="1239840" cy="384120"/>
            <a:chOff x="3836880" y="2008080"/>
            <a:chExt cx="1239840" cy="384120"/>
          </a:xfrm>
        </p:grpSpPr>
        <p:sp>
          <p:nvSpPr>
            <p:cNvPr id="253" name=""/>
            <p:cNvSpPr/>
            <p:nvPr/>
          </p:nvSpPr>
          <p:spPr>
            <a:xfrm flipV="1">
              <a:off x="3836880" y="2246040"/>
              <a:ext cx="5778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3640" y="200808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16040" y="2727360"/>
            <a:ext cx="1192320" cy="352440"/>
            <a:chOff x="2516040" y="2727360"/>
            <a:chExt cx="1192320" cy="352440"/>
          </a:xfrm>
        </p:grpSpPr>
        <p:sp>
          <p:nvSpPr>
            <p:cNvPr id="256" name=""/>
            <p:cNvSpPr/>
            <p:nvPr/>
          </p:nvSpPr>
          <p:spPr>
            <a:xfrm flipV="1">
              <a:off x="2516040" y="2933640"/>
              <a:ext cx="57816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7273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259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262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7236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172360" y="3429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95640" y="2276640"/>
            <a:ext cx="2508120" cy="1668240"/>
          </a:xfrm>
          <a:custGeom>
            <a:avLst/>
            <a:gdLst/>
            <a:ahLst/>
            <a:rect l="l" t="t" r="r" b="b"/>
            <a:pathLst>
              <a:path w="1580" h="1051">
                <a:moveTo>
                  <a:pt x="0" y="408"/>
                </a:moveTo>
                <a:cubicBezTo>
                  <a:pt x="132" y="676"/>
                  <a:pt x="264" y="945"/>
                  <a:pt x="498" y="998"/>
                </a:cubicBezTo>
                <a:cubicBezTo>
                  <a:pt x="732" y="1051"/>
                  <a:pt x="1232" y="891"/>
                  <a:pt x="1406" y="725"/>
                </a:cubicBezTo>
                <a:cubicBezTo>
                  <a:pt x="1580" y="559"/>
                  <a:pt x="1519" y="121"/>
                  <a:pt x="1542" y="0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22100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rt circuit en commande (A ou 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8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285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294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06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483160" y="1560600"/>
            <a:ext cx="2824200" cy="6602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59200" y="2249640"/>
            <a:ext cx="8035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923640" y="1830240"/>
            <a:ext cx="1087920" cy="739800"/>
            <a:chOff x="3923640" y="1830240"/>
            <a:chExt cx="1087920" cy="739800"/>
          </a:xfrm>
        </p:grpSpPr>
        <p:sp>
          <p:nvSpPr>
            <p:cNvPr id="324" name=""/>
            <p:cNvSpPr/>
            <p:nvPr/>
          </p:nvSpPr>
          <p:spPr>
            <a:xfrm flipV="1">
              <a:off x="3923640" y="2256480"/>
              <a:ext cx="506880" cy="313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548200">
              <a:off x="4929480" y="183924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27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330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333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1, Lampe allumée, BCc5 =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27640" y="157644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372360" y="287172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44000" y="3448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24400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44000" y="350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155736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372360" y="2852640"/>
            <a:ext cx="1871640" cy="93672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2276640"/>
            <a:ext cx="0" cy="72072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9360" y="1227240"/>
            <a:ext cx="936720" cy="9954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32360" y="4653000"/>
            <a:ext cx="38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commande (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5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3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946840" y="1982880"/>
            <a:ext cx="40140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48440" y="2379600"/>
            <a:ext cx="0" cy="795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351480" y="1982880"/>
            <a:ext cx="338400" cy="530280"/>
            <a:chOff x="6351480" y="1982880"/>
            <a:chExt cx="338400" cy="530280"/>
          </a:xfrm>
        </p:grpSpPr>
        <p:sp>
          <p:nvSpPr>
            <p:cNvPr id="358" name=""/>
            <p:cNvSpPr/>
            <p:nvPr/>
          </p:nvSpPr>
          <p:spPr>
            <a:xfrm>
              <a:off x="6351480" y="224784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4520" y="198288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554520" y="19828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554520" y="211536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554520" y="224784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554520" y="2380680"/>
              <a:ext cx="13536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419880" y="2909880"/>
            <a:ext cx="3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57920" y="2644920"/>
            <a:ext cx="541440" cy="529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299360" y="2644560"/>
            <a:ext cx="337680" cy="530280"/>
            <a:chOff x="7299360" y="2644560"/>
            <a:chExt cx="337680" cy="530280"/>
          </a:xfrm>
        </p:grpSpPr>
        <p:sp>
          <p:nvSpPr>
            <p:cNvPr id="367" name=""/>
            <p:cNvSpPr/>
            <p:nvPr/>
          </p:nvSpPr>
          <p:spPr>
            <a:xfrm>
              <a:off x="7299360" y="2909520"/>
              <a:ext cx="2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02040" y="264492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502040" y="264456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2040" y="277668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02040" y="2909520"/>
              <a:ext cx="13500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502040" y="3042000"/>
              <a:ext cx="13500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554880" y="2909880"/>
            <a:ext cx="1752480" cy="927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451640" y="3429000"/>
            <a:ext cx="1150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402160" y="22478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5402160" y="2909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4520" y="3174840"/>
            <a:ext cx="74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5073480" y="2792520"/>
            <a:ext cx="271800" cy="264960"/>
            <a:chOff x="5073480" y="2792520"/>
            <a:chExt cx="271800" cy="264960"/>
          </a:xfrm>
        </p:grpSpPr>
        <p:sp>
          <p:nvSpPr>
            <p:cNvPr id="379" name=""/>
            <p:cNvSpPr/>
            <p:nvPr/>
          </p:nvSpPr>
          <p:spPr>
            <a:xfrm>
              <a:off x="5209200" y="2792520"/>
              <a:ext cx="0" cy="26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73480" y="2924640"/>
              <a:ext cx="27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524720" y="1052640"/>
            <a:ext cx="1150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74680" y="293364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2720" y="275436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901960"/>
            <a:ext cx="28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11320" y="2933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94200" y="293364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54160" y="22525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37040" y="225252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550960" y="2052720"/>
            <a:ext cx="0" cy="19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41560" y="2247840"/>
            <a:ext cx="1496880" cy="677880"/>
          </a:xfrm>
          <a:custGeom>
            <a:avLst/>
            <a:gdLst/>
            <a:ahLst/>
            <a:rect l="l" t="t" r="r" b="b"/>
            <a:pathLst>
              <a:path w="1182" h="522">
                <a:moveTo>
                  <a:pt x="0" y="0"/>
                </a:moveTo>
                <a:lnTo>
                  <a:pt x="0" y="270"/>
                </a:lnTo>
                <a:lnTo>
                  <a:pt x="1182" y="270"/>
                </a:lnTo>
                <a:lnTo>
                  <a:pt x="1182" y="52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2727360" y="2070000"/>
            <a:ext cx="14400" cy="1347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32160" y="22464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4680" y="22464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808440" y="2154240"/>
            <a:ext cx="1296720" cy="87480"/>
            <a:chOff x="3808440" y="2154240"/>
            <a:chExt cx="1296720" cy="87480"/>
          </a:xfrm>
        </p:grpSpPr>
        <p:sp>
          <p:nvSpPr>
            <p:cNvPr id="395" name=""/>
            <p:cNvSpPr/>
            <p:nvPr/>
          </p:nvSpPr>
          <p:spPr>
            <a:xfrm>
              <a:off x="3808440" y="2227320"/>
              <a:ext cx="595800" cy="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888000">
              <a:off x="5024160" y="216216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600280" y="2550960"/>
            <a:ext cx="1046160" cy="704880"/>
            <a:chOff x="2600280" y="2550960"/>
            <a:chExt cx="1046160" cy="704880"/>
          </a:xfrm>
        </p:grpSpPr>
        <p:sp>
          <p:nvSpPr>
            <p:cNvPr id="398" name=""/>
            <p:cNvSpPr/>
            <p:nvPr/>
          </p:nvSpPr>
          <p:spPr>
            <a:xfrm flipV="1">
              <a:off x="2600280" y="2937600"/>
              <a:ext cx="504360" cy="318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515800">
              <a:off x="3564000" y="2560320"/>
              <a:ext cx="7308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459160" y="2146320"/>
            <a:ext cx="1320840" cy="293400"/>
            <a:chOff x="2459160" y="2146320"/>
            <a:chExt cx="1320840" cy="293400"/>
          </a:xfrm>
        </p:grpSpPr>
        <p:sp>
          <p:nvSpPr>
            <p:cNvPr id="401" name=""/>
            <p:cNvSpPr/>
            <p:nvPr/>
          </p:nvSpPr>
          <p:spPr>
            <a:xfrm>
              <a:off x="2459160" y="2146320"/>
              <a:ext cx="677880" cy="10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08360" y="2367000"/>
              <a:ext cx="71640" cy="7272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956200" y="2511360"/>
            <a:ext cx="992160" cy="736200"/>
            <a:chOff x="5956200" y="2511360"/>
            <a:chExt cx="992160" cy="736200"/>
          </a:xfrm>
        </p:grpSpPr>
        <p:sp>
          <p:nvSpPr>
            <p:cNvPr id="404" name=""/>
            <p:cNvSpPr/>
            <p:nvPr/>
          </p:nvSpPr>
          <p:spPr>
            <a:xfrm flipV="1">
              <a:off x="5956200" y="2909520"/>
              <a:ext cx="463680" cy="33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77080" y="2511360"/>
              <a:ext cx="71280" cy="730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187280" y="2943360"/>
            <a:ext cx="129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18360" y="227664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291440" y="2905200"/>
            <a:ext cx="21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1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292720" y="2925720"/>
            <a:ext cx="64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24400" y="1595520"/>
            <a:ext cx="3816360" cy="647640"/>
          </a:xfrm>
          <a:custGeom>
            <a:avLst/>
            <a:gdLst/>
            <a:ahLst/>
            <a:rect l="l" t="t" r="r" b="b"/>
            <a:pathLst>
              <a:path w="2404" h="408">
                <a:moveTo>
                  <a:pt x="0" y="408"/>
                </a:moveTo>
                <a:lnTo>
                  <a:pt x="953" y="408"/>
                </a:lnTo>
                <a:lnTo>
                  <a:pt x="635" y="408"/>
                </a:lnTo>
                <a:lnTo>
                  <a:pt x="635" y="0"/>
                </a:lnTo>
                <a:lnTo>
                  <a:pt x="240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423280" y="1268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2492280"/>
            <a:ext cx="936720" cy="936720"/>
          </a:xfrm>
          <a:prstGeom prst="irregularSeal1">
            <a:avLst/>
          </a:pr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35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05480" y="289260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0" y="0"/>
                </a:moveTo>
                <a:lnTo>
                  <a:pt x="227" y="0"/>
                </a:lnTo>
                <a:lnTo>
                  <a:pt x="91" y="0"/>
                </a:lnTo>
                <a:lnTo>
                  <a:pt x="91" y="590"/>
                </a:lnTo>
                <a:lnTo>
                  <a:pt x="1179" y="59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580000" y="3067920"/>
            <a:ext cx="936720" cy="43164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43280" y="4653000"/>
            <a:ext cx="381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t circuit en puiss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357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95640" y="256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21560" y="3772080"/>
            <a:ext cx="611280" cy="11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25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434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447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267920" y="3029040"/>
            <a:ext cx="62892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465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2997360"/>
            <a:ext cx="187164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627280" y="2276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27280" y="213372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995640" y="2492280"/>
            <a:ext cx="4032360" cy="649440"/>
          </a:xfrm>
          <a:custGeom>
            <a:avLst/>
            <a:gdLst/>
            <a:ahLst/>
            <a:rect l="l" t="t" r="r" b="b"/>
            <a:pathLst>
              <a:path w="2540" h="409">
                <a:moveTo>
                  <a:pt x="0" y="409"/>
                </a:moveTo>
                <a:lnTo>
                  <a:pt x="1769" y="409"/>
                </a:lnTo>
                <a:lnTo>
                  <a:pt x="771" y="409"/>
                </a:lnTo>
                <a:lnTo>
                  <a:pt x="771" y="0"/>
                </a:lnTo>
                <a:lnTo>
                  <a:pt x="254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308360" y="386064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6732720" y="3789360"/>
            <a:ext cx="576000" cy="71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515772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v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6826320" y="2878200"/>
            <a:ext cx="43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42320" y="3309840"/>
            <a:ext cx="0" cy="862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261200" y="2878200"/>
            <a:ext cx="363240" cy="574560"/>
            <a:chOff x="7261200" y="2878200"/>
            <a:chExt cx="363240" cy="574560"/>
          </a:xfrm>
        </p:grpSpPr>
        <p:sp>
          <p:nvSpPr>
            <p:cNvPr id="491" name=""/>
            <p:cNvSpPr/>
            <p:nvPr/>
          </p:nvSpPr>
          <p:spPr>
            <a:xfrm>
              <a:off x="7261200" y="316512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479000" y="28782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7479000" y="287820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479000" y="302148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479000" y="3164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479000" y="3309120"/>
              <a:ext cx="14544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514840" y="388476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78440" y="3597120"/>
            <a:ext cx="582840" cy="57492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332840" y="3596760"/>
            <a:ext cx="435960" cy="575280"/>
            <a:chOff x="7332840" y="3596760"/>
            <a:chExt cx="435960" cy="575280"/>
          </a:xfrm>
        </p:grpSpPr>
        <p:sp>
          <p:nvSpPr>
            <p:cNvPr id="500" name=""/>
            <p:cNvSpPr/>
            <p:nvPr/>
          </p:nvSpPr>
          <p:spPr>
            <a:xfrm>
              <a:off x="7332840" y="38847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3360" y="3597120"/>
              <a:ext cx="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23360" y="359676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7623360" y="3740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23360" y="388440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7623360" y="4028040"/>
              <a:ext cx="14544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605640" y="3884760"/>
            <a:ext cx="727200" cy="1008000"/>
          </a:xfrm>
          <a:custGeom>
            <a:avLst/>
            <a:gdLst/>
            <a:ahLst/>
            <a:rect l="l" t="t" r="r" b="b"/>
            <a:pathLst>
              <a:path w="570" h="452">
                <a:moveTo>
                  <a:pt x="0" y="0"/>
                </a:moveTo>
                <a:lnTo>
                  <a:pt x="0" y="452"/>
                </a:lnTo>
                <a:lnTo>
                  <a:pt x="570" y="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04000" y="4797360"/>
            <a:ext cx="123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242040" y="316548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60920" y="388476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878440" y="4172040"/>
            <a:ext cx="800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6824520" y="37400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944960" y="3759120"/>
            <a:ext cx="290520" cy="287280"/>
            <a:chOff x="4944960" y="3759120"/>
            <a:chExt cx="290520" cy="287280"/>
          </a:xfrm>
        </p:grpSpPr>
        <p:sp>
          <p:nvSpPr>
            <p:cNvPr id="513" name=""/>
            <p:cNvSpPr/>
            <p:nvPr/>
          </p:nvSpPr>
          <p:spPr>
            <a:xfrm>
              <a:off x="5090040" y="3759120"/>
              <a:ext cx="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44960" y="390240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 flipV="1">
            <a:off x="4398840" y="3165120"/>
            <a:ext cx="191628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45200" y="2536920"/>
            <a:ext cx="2844720" cy="64764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900"/>
                </a:moveTo>
                <a:lnTo>
                  <a:pt x="0" y="0"/>
                </a:lnTo>
                <a:lnTo>
                  <a:pt x="2160" y="0"/>
                </a:lnTo>
                <a:lnTo>
                  <a:pt x="25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7640" y="2492280"/>
            <a:ext cx="1158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34136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904680" y="3029040"/>
            <a:ext cx="36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849320" y="317196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49320" y="2884320"/>
            <a:ext cx="5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1849320" y="30286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40120" y="3171960"/>
            <a:ext cx="5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449520" y="3171600"/>
            <a:ext cx="5810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0560" y="3171960"/>
            <a:ext cx="43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3171960"/>
            <a:ext cx="8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49520" y="3171960"/>
            <a:ext cx="6541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9080" y="2884320"/>
            <a:ext cx="2035080" cy="287640"/>
          </a:xfrm>
          <a:custGeom>
            <a:avLst/>
            <a:gdLst/>
            <a:ahLst/>
            <a:rect l="l" t="t" r="r" b="b"/>
            <a:pathLst>
              <a:path w="1596" h="226">
                <a:moveTo>
                  <a:pt x="0" y="0"/>
                </a:moveTo>
                <a:lnTo>
                  <a:pt x="1596" y="0"/>
                </a:lnTo>
                <a:lnTo>
                  <a:pt x="1596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68360" y="2884320"/>
            <a:ext cx="290520" cy="287640"/>
            <a:chOff x="468360" y="2884320"/>
            <a:chExt cx="290520" cy="287640"/>
          </a:xfrm>
        </p:grpSpPr>
        <p:sp>
          <p:nvSpPr>
            <p:cNvPr id="530" name=""/>
            <p:cNvSpPr/>
            <p:nvPr/>
          </p:nvSpPr>
          <p:spPr>
            <a:xfrm>
              <a:off x="613440" y="288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360" y="3027960"/>
              <a:ext cx="29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17928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1, B=0, Lampe allumée, BCc5 = 1, BCc6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00000" y="2997360"/>
            <a:ext cx="358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36000" y="3141720"/>
            <a:ext cx="21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835280" y="3141720"/>
            <a:ext cx="1657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119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948360" y="1773360"/>
            <a:ext cx="0" cy="1008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72360" y="2205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7308360" y="3933720"/>
            <a:ext cx="35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5640" y="386064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88000" y="5084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 = 0 v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012000" y="4292280"/>
            <a:ext cx="72720" cy="86508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24720" y="45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5640" y="4005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539640" y="2852640"/>
            <a:ext cx="1357200" cy="262080"/>
            <a:chOff x="539640" y="2852640"/>
            <a:chExt cx="1357200" cy="262080"/>
          </a:xfrm>
        </p:grpSpPr>
        <p:sp>
          <p:nvSpPr>
            <p:cNvPr id="547" name=""/>
            <p:cNvSpPr/>
            <p:nvPr/>
          </p:nvSpPr>
          <p:spPr>
            <a:xfrm flipH="1" flipV="1">
              <a:off x="1267920" y="3029040"/>
              <a:ext cx="6289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9640" y="2852640"/>
              <a:ext cx="71640" cy="7164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1835280" y="2529000"/>
            <a:ext cx="6192720" cy="612720"/>
          </a:xfrm>
          <a:custGeom>
            <a:avLst/>
            <a:gdLst/>
            <a:ahLst/>
            <a:rect l="l" t="t" r="r" b="b"/>
            <a:pathLst>
              <a:path w="3901" h="363">
                <a:moveTo>
                  <a:pt x="0" y="181"/>
                </a:moveTo>
                <a:lnTo>
                  <a:pt x="1588" y="181"/>
                </a:lnTo>
                <a:lnTo>
                  <a:pt x="1588" y="363"/>
                </a:lnTo>
                <a:lnTo>
                  <a:pt x="1361" y="363"/>
                </a:lnTo>
                <a:lnTo>
                  <a:pt x="3130" y="363"/>
                </a:lnTo>
                <a:lnTo>
                  <a:pt x="2132" y="363"/>
                </a:lnTo>
                <a:lnTo>
                  <a:pt x="2132" y="0"/>
                </a:lnTo>
                <a:lnTo>
                  <a:pt x="3901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20000" y="3429000"/>
            <a:ext cx="0" cy="36036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721560" y="3772080"/>
            <a:ext cx="1235160" cy="304560"/>
            <a:chOff x="6721560" y="3772080"/>
            <a:chExt cx="1235160" cy="304560"/>
          </a:xfrm>
        </p:grpSpPr>
        <p:sp>
          <p:nvSpPr>
            <p:cNvPr id="552" name=""/>
            <p:cNvSpPr/>
            <p:nvPr/>
          </p:nvSpPr>
          <p:spPr>
            <a:xfrm>
              <a:off x="6721560" y="3772080"/>
              <a:ext cx="611280" cy="112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85080" y="4005360"/>
              <a:ext cx="71640" cy="71280"/>
            </a:xfrm>
            <a:prstGeom prst="ellipse">
              <a:avLst/>
            </a:prstGeom>
            <a:noFill/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6659640" y="4005360"/>
            <a:ext cx="720720" cy="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443640" y="407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3272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578560" y="3176640"/>
            <a:ext cx="1152360" cy="1297080"/>
          </a:xfrm>
          <a:custGeom>
            <a:avLst/>
            <a:gdLst>
              <a:gd name="textAreaLeft" fmla="*/ 474840 w 1152360"/>
              <a:gd name="textAreaRight" fmla="*/ 677520 w 115236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443640" y="3860640"/>
            <a:ext cx="865080" cy="1008360"/>
          </a:xfrm>
          <a:custGeom>
            <a:avLst/>
            <a:gdLst/>
            <a:ahLst/>
            <a:rect l="l" t="t" r="r" b="b"/>
            <a:pathLst>
              <a:path w="545" h="635">
                <a:moveTo>
                  <a:pt x="545" y="635"/>
                </a:moveTo>
                <a:lnTo>
                  <a:pt x="91" y="635"/>
                </a:lnTo>
                <a:lnTo>
                  <a:pt x="91" y="46"/>
                </a:lnTo>
                <a:lnTo>
                  <a:pt x="227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667640" y="465300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92360" y="5057640"/>
            <a:ext cx="597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relais est alimenté mais n’a pas fonctionn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pure à la commande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t circuit à la pu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588000" y="3933720"/>
            <a:ext cx="936720" cy="432000"/>
          </a:xfrm>
          <a:custGeom>
            <a:avLst/>
            <a:gdLst/>
            <a:ahLst/>
            <a:rect l="l" t="t" r="r" b="b"/>
            <a:pathLst>
              <a:path w="590" h="627">
                <a:moveTo>
                  <a:pt x="0" y="627"/>
                </a:moveTo>
                <a:cubicBezTo>
                  <a:pt x="24" y="540"/>
                  <a:pt x="59" y="198"/>
                  <a:pt x="146" y="108"/>
                </a:cubicBezTo>
                <a:cubicBezTo>
                  <a:pt x="233" y="18"/>
                  <a:pt x="448" y="0"/>
                  <a:pt x="519" y="85"/>
                </a:cubicBezTo>
                <a:cubicBezTo>
                  <a:pt x="590" y="170"/>
                  <a:pt x="561" y="528"/>
                  <a:pt x="570" y="617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732360" y="2781360"/>
            <a:ext cx="504720" cy="647640"/>
            <a:chOff x="6732360" y="2781360"/>
            <a:chExt cx="504720" cy="647640"/>
          </a:xfrm>
        </p:grpSpPr>
        <p:sp>
          <p:nvSpPr>
            <p:cNvPr id="563" name=""/>
            <p:cNvSpPr/>
            <p:nvPr/>
          </p:nvSpPr>
          <p:spPr>
            <a:xfrm flipH="1">
              <a:off x="673236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876720" y="2781360"/>
              <a:ext cx="360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2124000" y="260280"/>
            <a:ext cx="302436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948360" y="260280"/>
            <a:ext cx="2195640" cy="792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10800"/>
                </a:moveTo>
                <a:lnTo>
                  <a:pt x="21365" y="3794"/>
                </a:lnTo>
                <a:lnTo>
                  <a:pt x="213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40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6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2800000">
                                      <p:cBhvr>
                                        <p:cTn id="55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58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515280" y="4317840"/>
            <a:ext cx="6696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33360"/>
            <a:ext cx="32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énergie au rep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07000" y="5950080"/>
            <a:ext cx="2878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75200" y="5116680"/>
            <a:ext cx="50796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340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108920" y="3941640"/>
            <a:ext cx="0" cy="392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7108560" y="4262400"/>
            <a:ext cx="6516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0892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67360" y="5067360"/>
            <a:ext cx="481320" cy="44136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08920" y="5508720"/>
            <a:ext cx="0" cy="44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30960" y="5048280"/>
            <a:ext cx="853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19840" y="4251240"/>
            <a:ext cx="223560" cy="5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22880" y="4773600"/>
            <a:ext cx="0" cy="34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0000" y="4251240"/>
            <a:ext cx="6415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0" y="43830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0" y="452916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43600" y="3468600"/>
            <a:ext cx="74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243400" y="1639800"/>
            <a:ext cx="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5222520" y="1965240"/>
            <a:ext cx="13500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222880" y="2489040"/>
            <a:ext cx="0" cy="176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10000" y="1982880"/>
            <a:ext cx="6415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21200" y="208116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0" y="2227320"/>
            <a:ext cx="1179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794200" y="765000"/>
            <a:ext cx="743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830920" y="1965240"/>
            <a:ext cx="27000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26120" y="2489040"/>
            <a:ext cx="877680" cy="2481480"/>
          </a:xfrm>
          <a:custGeom>
            <a:avLst/>
            <a:gdLst/>
            <a:ahLst/>
            <a:rect l="l" t="t" r="r" b="b"/>
            <a:pathLst>
              <a:path w="741" h="2166">
                <a:moveTo>
                  <a:pt x="741" y="0"/>
                </a:moveTo>
                <a:lnTo>
                  <a:pt x="741" y="2166"/>
                </a:lnTo>
                <a:lnTo>
                  <a:pt x="0" y="2166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22880" y="2031840"/>
            <a:ext cx="20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00920" y="20318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100920" y="1247760"/>
            <a:ext cx="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22880" y="1639800"/>
            <a:ext cx="878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077240" y="4327560"/>
            <a:ext cx="13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15040" y="49230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23160" y="487044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0200" y="4653000"/>
            <a:ext cx="10666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Cc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4136760" y="496584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0, B=0, Lampe allumée, BCc5 = 0, BCc6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74920" y="1700280"/>
            <a:ext cx="1368360" cy="3600360"/>
          </a:xfrm>
          <a:prstGeom prst="line">
            <a:avLst/>
          </a:prstGeom>
          <a:ln w="7632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2133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78200" y="5157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219640" y="5444640"/>
            <a:ext cx="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16320" y="2349360"/>
            <a:ext cx="1866960" cy="3167280"/>
          </a:xfrm>
          <a:custGeom>
            <a:avLst/>
            <a:gdLst/>
            <a:ahLst/>
            <a:rect l="l" t="t" r="r" b="b"/>
            <a:pathLst>
              <a:path w="1176" h="1995">
                <a:moveTo>
                  <a:pt x="632" y="1995"/>
                </a:moveTo>
                <a:lnTo>
                  <a:pt x="633" y="1660"/>
                </a:lnTo>
                <a:lnTo>
                  <a:pt x="0" y="1660"/>
                </a:lnTo>
                <a:lnTo>
                  <a:pt x="644" y="1671"/>
                </a:lnTo>
                <a:lnTo>
                  <a:pt x="632" y="1542"/>
                </a:lnTo>
                <a:lnTo>
                  <a:pt x="632" y="1678"/>
                </a:lnTo>
                <a:lnTo>
                  <a:pt x="1176" y="1678"/>
                </a:lnTo>
                <a:lnTo>
                  <a:pt x="1176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7090920" y="4292640"/>
            <a:ext cx="7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91280" y="4869000"/>
            <a:ext cx="865440" cy="215640"/>
          </a:xfrm>
          <a:custGeom>
            <a:avLst/>
            <a:gdLst/>
            <a:ahLst/>
            <a:rect l="l" t="t" r="r" b="b"/>
            <a:pathLst>
              <a:path w="545" h="136">
                <a:moveTo>
                  <a:pt x="545" y="46"/>
                </a:moveTo>
                <a:lnTo>
                  <a:pt x="0" y="46"/>
                </a:lnTo>
                <a:lnTo>
                  <a:pt x="0" y="1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7091280" y="551664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299280" y="4581360"/>
            <a:ext cx="1512720" cy="129708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34240 h 1297080"/>
              <a:gd name="textAreaBottom" fmla="*/ 76284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7fba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95672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0692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162920" y="53737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=12 v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8459640" y="6237360"/>
            <a:ext cx="287640" cy="216000"/>
          </a:xfrm>
          <a:custGeom>
            <a:avLst/>
            <a:gdLst>
              <a:gd name="textAreaLeft" fmla="*/ 13680 w 287640"/>
              <a:gd name="textAreaRight" fmla="*/ 273960 w 287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3" y="3794"/>
                </a:lnTo>
                <a:lnTo>
                  <a:pt x="213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2:35:29Z</dcterms:created>
  <dc:creator>paul2</dc:creator>
  <dc:description/>
  <dc:language>en-US</dc:language>
  <cp:lastModifiedBy>paul2</cp:lastModifiedBy>
  <dcterms:modified xsi:type="dcterms:W3CDTF">2007-05-26T08:38:11Z</dcterms:modified>
  <cp:revision>34</cp:revision>
  <dc:subject/>
  <dc:title>Diapositive 1</dc:title>
</cp:coreProperties>
</file>