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0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979800" y="1676520"/>
            <a:ext cx="81000" cy="954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919240" y="2079720"/>
            <a:ext cx="97200" cy="93960"/>
          </a:xfrm>
          <a:custGeom>
            <a:avLst/>
            <a:gdLst/>
            <a:ahLst/>
            <a:rect l="0" t="0" r="r" b="b"/>
            <a:pathLst>
              <a:path w="270" h="261">
                <a:moveTo>
                  <a:pt x="72" y="0"/>
                </a:moveTo>
                <a:lnTo>
                  <a:pt x="270" y="57"/>
                </a:lnTo>
                <a:lnTo>
                  <a:pt x="196" y="261"/>
                </a:lnTo>
                <a:lnTo>
                  <a:pt x="0" y="198"/>
                </a:lnTo>
                <a:lnTo>
                  <a:pt x="7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32640" y="4618080"/>
            <a:ext cx="606600" cy="593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13280" y="4697280"/>
            <a:ext cx="446040" cy="446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98880" y="2496960"/>
            <a:ext cx="922320" cy="8953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18040" y="2611440"/>
            <a:ext cx="68580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3360" y="2611440"/>
            <a:ext cx="68724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189320" y="2496960"/>
            <a:ext cx="65160" cy="1296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03480" y="2438280"/>
            <a:ext cx="923760" cy="8985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33440" y="2548080"/>
            <a:ext cx="68580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52600" y="2676600"/>
            <a:ext cx="444600" cy="428760"/>
          </a:xfrm>
          <a:prstGeom prst="ellipse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37200" y="2733840"/>
            <a:ext cx="4446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5280" y="1944720"/>
            <a:ext cx="594000" cy="1049760"/>
          </a:xfrm>
          <a:custGeom>
            <a:avLst/>
            <a:gdLst/>
            <a:ahLst/>
            <a:rect l="0" t="0" r="r" b="b"/>
            <a:pathLst>
              <a:path w="1650" h="2916">
                <a:moveTo>
                  <a:pt x="0" y="2773"/>
                </a:moveTo>
                <a:lnTo>
                  <a:pt x="32" y="2789"/>
                </a:lnTo>
                <a:lnTo>
                  <a:pt x="474" y="2916"/>
                </a:lnTo>
                <a:lnTo>
                  <a:pt x="555" y="2662"/>
                </a:lnTo>
                <a:lnTo>
                  <a:pt x="1014" y="1160"/>
                </a:lnTo>
                <a:lnTo>
                  <a:pt x="1585" y="1287"/>
                </a:lnTo>
                <a:lnTo>
                  <a:pt x="1650" y="1081"/>
                </a:lnTo>
                <a:lnTo>
                  <a:pt x="1070" y="722"/>
                </a:lnTo>
                <a:lnTo>
                  <a:pt x="1247" y="111"/>
                </a:lnTo>
                <a:lnTo>
                  <a:pt x="780" y="0"/>
                </a:lnTo>
                <a:lnTo>
                  <a:pt x="0" y="2773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87760" y="2816280"/>
            <a:ext cx="33120" cy="1116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2920" bIns="-52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16200" y="2805120"/>
            <a:ext cx="57240" cy="57240"/>
          </a:xfrm>
          <a:prstGeom prst="ellipse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05120" y="2496960"/>
            <a:ext cx="343440" cy="446400"/>
          </a:xfrm>
          <a:custGeom>
            <a:avLst/>
            <a:gdLst/>
            <a:ahLst/>
            <a:rect l="0" t="0" r="r" b="b"/>
            <a:pathLst>
              <a:path w="954" h="1240">
                <a:moveTo>
                  <a:pt x="174" y="0"/>
                </a:moveTo>
                <a:lnTo>
                  <a:pt x="360" y="7"/>
                </a:lnTo>
                <a:lnTo>
                  <a:pt x="464" y="174"/>
                </a:lnTo>
                <a:lnTo>
                  <a:pt x="628" y="193"/>
                </a:lnTo>
                <a:lnTo>
                  <a:pt x="954" y="938"/>
                </a:lnTo>
                <a:lnTo>
                  <a:pt x="869" y="1113"/>
                </a:lnTo>
                <a:lnTo>
                  <a:pt x="875" y="1240"/>
                </a:lnTo>
                <a:lnTo>
                  <a:pt x="273" y="1083"/>
                </a:lnTo>
                <a:lnTo>
                  <a:pt x="281" y="1083"/>
                </a:lnTo>
                <a:lnTo>
                  <a:pt x="270" y="1073"/>
                </a:lnTo>
                <a:lnTo>
                  <a:pt x="273" y="1075"/>
                </a:lnTo>
                <a:lnTo>
                  <a:pt x="281" y="1081"/>
                </a:lnTo>
                <a:lnTo>
                  <a:pt x="0" y="455"/>
                </a:lnTo>
                <a:lnTo>
                  <a:pt x="174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805120" y="2448000"/>
            <a:ext cx="71280" cy="2109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52640" y="2617920"/>
            <a:ext cx="88920" cy="87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24280" y="2800440"/>
            <a:ext cx="92160" cy="87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03400" y="2708280"/>
            <a:ext cx="77760" cy="810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1520" y="2485800"/>
            <a:ext cx="316440" cy="429120"/>
          </a:xfrm>
          <a:custGeom>
            <a:avLst/>
            <a:gdLst/>
            <a:ahLst/>
            <a:rect l="0" t="0" r="r" b="b"/>
            <a:pathLst>
              <a:path w="879" h="1192">
                <a:moveTo>
                  <a:pt x="681" y="1150"/>
                </a:moveTo>
                <a:lnTo>
                  <a:pt x="189" y="1192"/>
                </a:lnTo>
                <a:lnTo>
                  <a:pt x="0" y="920"/>
                </a:lnTo>
                <a:lnTo>
                  <a:pt x="383" y="214"/>
                </a:lnTo>
                <a:lnTo>
                  <a:pt x="596" y="214"/>
                </a:lnTo>
                <a:lnTo>
                  <a:pt x="745" y="0"/>
                </a:lnTo>
                <a:lnTo>
                  <a:pt x="879" y="31"/>
                </a:lnTo>
                <a:lnTo>
                  <a:pt x="855" y="588"/>
                </a:lnTo>
                <a:lnTo>
                  <a:pt x="625" y="994"/>
                </a:lnTo>
                <a:lnTo>
                  <a:pt x="745" y="1065"/>
                </a:lnTo>
                <a:lnTo>
                  <a:pt x="681" y="115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91040" y="2627280"/>
            <a:ext cx="8892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86280" y="2801880"/>
            <a:ext cx="8892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7040" y="2716200"/>
            <a:ext cx="84240" cy="792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25800" y="1895400"/>
            <a:ext cx="4125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43400" y="1876320"/>
            <a:ext cx="0" cy="19526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65880" y="3525840"/>
            <a:ext cx="1951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654520" y="3514680"/>
            <a:ext cx="96840" cy="1033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557520" y="2741760"/>
            <a:ext cx="0" cy="15732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59320" y="2743200"/>
            <a:ext cx="4791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987640" y="2743200"/>
            <a:ext cx="56988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21280" y="4794120"/>
            <a:ext cx="246240" cy="246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46600" y="4532400"/>
            <a:ext cx="416160" cy="362160"/>
          </a:xfrm>
          <a:custGeom>
            <a:avLst/>
            <a:gdLst/>
            <a:ahLst/>
            <a:rect l="0" t="0" r="r" b="b"/>
            <a:pathLst>
              <a:path w="1156" h="1006">
                <a:moveTo>
                  <a:pt x="50" y="556"/>
                </a:moveTo>
                <a:lnTo>
                  <a:pt x="698" y="0"/>
                </a:lnTo>
                <a:lnTo>
                  <a:pt x="878" y="68"/>
                </a:lnTo>
                <a:lnTo>
                  <a:pt x="960" y="23"/>
                </a:lnTo>
                <a:lnTo>
                  <a:pt x="1055" y="92"/>
                </a:lnTo>
                <a:lnTo>
                  <a:pt x="1013" y="291"/>
                </a:lnTo>
                <a:lnTo>
                  <a:pt x="1156" y="577"/>
                </a:lnTo>
                <a:lnTo>
                  <a:pt x="1037" y="665"/>
                </a:lnTo>
                <a:lnTo>
                  <a:pt x="849" y="548"/>
                </a:lnTo>
                <a:lnTo>
                  <a:pt x="499" y="969"/>
                </a:lnTo>
                <a:lnTo>
                  <a:pt x="293" y="919"/>
                </a:lnTo>
                <a:lnTo>
                  <a:pt x="97" y="1006"/>
                </a:lnTo>
                <a:lnTo>
                  <a:pt x="0" y="903"/>
                </a:lnTo>
                <a:lnTo>
                  <a:pt x="97" y="747"/>
                </a:lnTo>
                <a:lnTo>
                  <a:pt x="50" y="556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27680" y="4689360"/>
            <a:ext cx="79200" cy="824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61080" y="4765680"/>
            <a:ext cx="90360" cy="903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13360" y="4629240"/>
            <a:ext cx="9036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84960" y="4214880"/>
            <a:ext cx="447480" cy="44748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661000" y="4543560"/>
            <a:ext cx="149400" cy="1508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65680" y="4680000"/>
            <a:ext cx="114480" cy="1141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37080" y="4325760"/>
            <a:ext cx="9237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60840" y="4325760"/>
            <a:ext cx="376560" cy="378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10080" y="2668680"/>
            <a:ext cx="4921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0800" y="2664000"/>
            <a:ext cx="0" cy="1825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14640" y="2851200"/>
            <a:ext cx="23184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78200" y="2847960"/>
            <a:ext cx="2113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586320" y="1722600"/>
            <a:ext cx="250560" cy="14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197240" y="1496880"/>
            <a:ext cx="479520" cy="261720"/>
            <a:chOff x="4197240" y="1496880"/>
            <a:chExt cx="479520" cy="261720"/>
          </a:xfrm>
        </p:grpSpPr>
        <p:sp>
          <p:nvSpPr>
            <p:cNvPr id="87" name=""/>
            <p:cNvSpPr/>
            <p:nvPr/>
          </p:nvSpPr>
          <p:spPr>
            <a:xfrm flipV="1">
              <a:off x="4238640" y="1496880"/>
              <a:ext cx="438120" cy="112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33960" y="1620720"/>
              <a:ext cx="31680" cy="1159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14880" y="1600200"/>
              <a:ext cx="3024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97240" y="1698480"/>
              <a:ext cx="37080" cy="60120"/>
            </a:xfrm>
            <a:custGeom>
              <a:avLst/>
              <a:gdLst/>
              <a:ahLst/>
              <a:rect l="0" t="0" r="r" b="b"/>
              <a:pathLst>
                <a:path fill="none" w="103" h="167">
                  <a:moveTo>
                    <a:pt x="40" y="167"/>
                  </a:moveTo>
                  <a:lnTo>
                    <a:pt x="40" y="167"/>
                  </a:lnTo>
                  <a:cubicBezTo>
                    <a:pt x="48" y="165"/>
                    <a:pt x="55" y="162"/>
                    <a:pt x="61" y="158"/>
                  </a:cubicBezTo>
                  <a:cubicBezTo>
                    <a:pt x="74" y="151"/>
                    <a:pt x="84" y="140"/>
                    <a:pt x="92" y="127"/>
                  </a:cubicBezTo>
                  <a:cubicBezTo>
                    <a:pt x="99" y="114"/>
                    <a:pt x="103" y="100"/>
                    <a:pt x="103" y="85"/>
                  </a:cubicBezTo>
                  <a:cubicBezTo>
                    <a:pt x="103" y="70"/>
                    <a:pt x="99" y="56"/>
                    <a:pt x="92" y="43"/>
                  </a:cubicBezTo>
                  <a:cubicBezTo>
                    <a:pt x="84" y="30"/>
                    <a:pt x="74" y="19"/>
                    <a:pt x="61" y="12"/>
                  </a:cubicBezTo>
                  <a:cubicBezTo>
                    <a:pt x="49" y="4"/>
                    <a:pt x="35" y="0"/>
                    <a:pt x="20" y="0"/>
                  </a:cubicBezTo>
                  <a:cubicBezTo>
                    <a:pt x="13" y="0"/>
                    <a:pt x="7" y="1"/>
                    <a:pt x="0" y="3"/>
                  </a:cubicBezTo>
                </a:path>
              </a:pathLst>
            </a:custGeom>
            <a:ln w="12600">
              <a:solidFill>
                <a:srgbClr val="969696"/>
              </a:solidFill>
              <a:round/>
            </a:ln>
          </p:spPr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227480" y="1712880"/>
              <a:ext cx="23760" cy="4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 flipV="1">
            <a:off x="4105440" y="1611360"/>
            <a:ext cx="0" cy="619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03640" y="1614600"/>
            <a:ext cx="1112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122720" y="1739880"/>
            <a:ext cx="1440" cy="414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833640" y="1776240"/>
            <a:ext cx="2890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833640" y="1733400"/>
            <a:ext cx="0" cy="460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835440" y="1670040"/>
            <a:ext cx="13176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33640" y="1668600"/>
            <a:ext cx="0" cy="4284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965400" y="1652760"/>
            <a:ext cx="0" cy="172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979800" y="1652760"/>
            <a:ext cx="1800" cy="187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40200" y="1652760"/>
            <a:ext cx="284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978360" y="1652760"/>
            <a:ext cx="284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940200" y="1603440"/>
            <a:ext cx="0" cy="507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06800" y="1601640"/>
            <a:ext cx="0" cy="511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0360" y="1716120"/>
            <a:ext cx="0" cy="9651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865600" y="2422440"/>
            <a:ext cx="150840" cy="57240"/>
            <a:chOff x="2865600" y="2422440"/>
            <a:chExt cx="150840" cy="57240"/>
          </a:xfrm>
        </p:grpSpPr>
        <p:sp>
          <p:nvSpPr>
            <p:cNvPr id="107" name=""/>
            <p:cNvSpPr/>
            <p:nvPr/>
          </p:nvSpPr>
          <p:spPr>
            <a:xfrm>
              <a:off x="2865600" y="2422440"/>
              <a:ext cx="3168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95480" y="2440080"/>
              <a:ext cx="88920" cy="219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82960" y="2448000"/>
              <a:ext cx="33480" cy="3168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541600" y="2857680"/>
            <a:ext cx="745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62280" y="2773440"/>
            <a:ext cx="101520" cy="507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936880" y="2668680"/>
            <a:ext cx="6555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247920" y="2665440"/>
            <a:ext cx="0" cy="1951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108320" y="2774880"/>
            <a:ext cx="136800" cy="90720"/>
          </a:xfrm>
          <a:prstGeom prst="line">
            <a:avLst/>
          </a:prstGeom>
          <a:ln w="1015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2246400"/>
            <a:ext cx="371880" cy="803520"/>
          </a:xfrm>
          <a:custGeom>
            <a:avLst/>
            <a:gdLst/>
            <a:ahLst/>
            <a:rect l="0" t="0" r="r" b="b"/>
            <a:pathLst>
              <a:path w="1033" h="2232">
                <a:moveTo>
                  <a:pt x="37" y="118"/>
                </a:moveTo>
                <a:lnTo>
                  <a:pt x="479" y="0"/>
                </a:lnTo>
                <a:lnTo>
                  <a:pt x="1033" y="2129"/>
                </a:lnTo>
                <a:lnTo>
                  <a:pt x="575" y="2232"/>
                </a:lnTo>
                <a:lnTo>
                  <a:pt x="429" y="1674"/>
                </a:lnTo>
                <a:lnTo>
                  <a:pt x="0" y="1674"/>
                </a:lnTo>
                <a:lnTo>
                  <a:pt x="0" y="1484"/>
                </a:lnTo>
                <a:lnTo>
                  <a:pt x="336" y="1317"/>
                </a:lnTo>
                <a:lnTo>
                  <a:pt x="183" y="737"/>
                </a:lnTo>
                <a:lnTo>
                  <a:pt x="37" y="118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2908440"/>
            <a:ext cx="745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94480" y="3557520"/>
            <a:ext cx="317880" cy="608400"/>
          </a:xfrm>
          <a:custGeom>
            <a:avLst/>
            <a:gdLst/>
            <a:ahLst/>
            <a:rect l="0" t="0" r="r" b="b"/>
            <a:pathLst>
              <a:path w="883" h="1690">
                <a:moveTo>
                  <a:pt x="39" y="249"/>
                </a:moveTo>
                <a:lnTo>
                  <a:pt x="290" y="0"/>
                </a:lnTo>
                <a:lnTo>
                  <a:pt x="378" y="87"/>
                </a:lnTo>
                <a:lnTo>
                  <a:pt x="317" y="148"/>
                </a:lnTo>
                <a:lnTo>
                  <a:pt x="383" y="214"/>
                </a:lnTo>
                <a:lnTo>
                  <a:pt x="534" y="214"/>
                </a:lnTo>
                <a:lnTo>
                  <a:pt x="534" y="42"/>
                </a:lnTo>
                <a:lnTo>
                  <a:pt x="883" y="42"/>
                </a:lnTo>
                <a:lnTo>
                  <a:pt x="883" y="1277"/>
                </a:lnTo>
                <a:lnTo>
                  <a:pt x="564" y="1277"/>
                </a:lnTo>
                <a:lnTo>
                  <a:pt x="564" y="1690"/>
                </a:lnTo>
                <a:lnTo>
                  <a:pt x="196" y="1690"/>
                </a:lnTo>
                <a:lnTo>
                  <a:pt x="196" y="883"/>
                </a:lnTo>
                <a:lnTo>
                  <a:pt x="0" y="883"/>
                </a:lnTo>
                <a:lnTo>
                  <a:pt x="0" y="608"/>
                </a:lnTo>
                <a:lnTo>
                  <a:pt x="263" y="608"/>
                </a:lnTo>
                <a:lnTo>
                  <a:pt x="263" y="457"/>
                </a:lnTo>
                <a:lnTo>
                  <a:pt x="39" y="249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436920" y="3813120"/>
            <a:ext cx="22543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83160" y="3527280"/>
            <a:ext cx="0" cy="6987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0" y="4916520"/>
            <a:ext cx="1144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14720" y="4919760"/>
            <a:ext cx="0" cy="540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10040" y="4975200"/>
            <a:ext cx="190440" cy="666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197240" y="5038560"/>
            <a:ext cx="227160" cy="18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2600" y="5013360"/>
            <a:ext cx="47520" cy="475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70480" y="5037120"/>
            <a:ext cx="442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14760" y="5021280"/>
            <a:ext cx="31680" cy="30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479840" y="4449600"/>
            <a:ext cx="276480" cy="412920"/>
            <a:chOff x="4479840" y="4449600"/>
            <a:chExt cx="276480" cy="412920"/>
          </a:xfrm>
        </p:grpSpPr>
        <p:sp>
          <p:nvSpPr>
            <p:cNvPr id="128" name=""/>
            <p:cNvSpPr/>
            <p:nvPr/>
          </p:nvSpPr>
          <p:spPr>
            <a:xfrm flipV="1">
              <a:off x="4479840" y="4546440"/>
              <a:ext cx="0" cy="2811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81640" y="4546440"/>
              <a:ext cx="205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48240" y="4545000"/>
              <a:ext cx="284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43560" y="4508640"/>
              <a:ext cx="0" cy="36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05400" y="4508640"/>
              <a:ext cx="0" cy="36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572000" y="4692600"/>
              <a:ext cx="0" cy="1364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511520" y="4821120"/>
              <a:ext cx="0" cy="414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484520" y="4824360"/>
              <a:ext cx="288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545000" y="4824360"/>
              <a:ext cx="2556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546440" y="4822920"/>
              <a:ext cx="0" cy="396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68760" y="4694400"/>
              <a:ext cx="1429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67320" y="4675320"/>
              <a:ext cx="123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691160" y="4545000"/>
              <a:ext cx="0" cy="1317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711680" y="4545000"/>
              <a:ext cx="0" cy="1522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646520" y="4543560"/>
              <a:ext cx="446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713120" y="4543560"/>
              <a:ext cx="432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646520" y="4449600"/>
              <a:ext cx="0" cy="954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756320" y="4449600"/>
              <a:ext cx="0" cy="939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5240" y="4543560"/>
              <a:ext cx="0" cy="1332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448160" y="5059440"/>
            <a:ext cx="0" cy="745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97400" y="5132520"/>
            <a:ext cx="1126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00640" y="5138640"/>
            <a:ext cx="111240" cy="554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527720" y="4329000"/>
            <a:ext cx="0" cy="2253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557520" y="4325760"/>
            <a:ext cx="97164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81160" y="2338560"/>
            <a:ext cx="381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909880" y="2332080"/>
            <a:ext cx="90360" cy="252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000240" y="2354400"/>
            <a:ext cx="0" cy="9684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86320" y="4552920"/>
            <a:ext cx="81000" cy="135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53000" y="4476600"/>
            <a:ext cx="96840" cy="60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65520" y="4684680"/>
            <a:ext cx="1350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00520" y="4538520"/>
            <a:ext cx="0" cy="1461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1280" y="1968480"/>
            <a:ext cx="97200" cy="125640"/>
          </a:xfrm>
          <a:custGeom>
            <a:avLst/>
            <a:gdLst/>
            <a:ahLst/>
            <a:rect l="0" t="0" r="r" b="b"/>
            <a:pathLst>
              <a:path w="270" h="349">
                <a:moveTo>
                  <a:pt x="0" y="286"/>
                </a:moveTo>
                <a:lnTo>
                  <a:pt x="84" y="0"/>
                </a:lnTo>
                <a:lnTo>
                  <a:pt x="270" y="60"/>
                </a:lnTo>
                <a:lnTo>
                  <a:pt x="186" y="349"/>
                </a:lnTo>
                <a:lnTo>
                  <a:pt x="0" y="28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25800" y="2095560"/>
            <a:ext cx="352440" cy="114120"/>
            <a:chOff x="3025800" y="2095560"/>
            <a:chExt cx="352440" cy="114120"/>
          </a:xfrm>
        </p:grpSpPr>
        <p:sp>
          <p:nvSpPr>
            <p:cNvPr id="161" name=""/>
            <p:cNvSpPr/>
            <p:nvPr/>
          </p:nvSpPr>
          <p:spPr>
            <a:xfrm>
              <a:off x="3025800" y="2095560"/>
              <a:ext cx="554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95640" y="2117880"/>
              <a:ext cx="55440" cy="1872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74840" y="2143080"/>
              <a:ext cx="572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7920" y="2166840"/>
              <a:ext cx="5580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21000" y="2190600"/>
              <a:ext cx="572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375000" y="2209680"/>
            <a:ext cx="3240" cy="542880"/>
            <a:chOff x="3375000" y="2209680"/>
            <a:chExt cx="3240" cy="542880"/>
          </a:xfrm>
        </p:grpSpPr>
        <p:sp>
          <p:nvSpPr>
            <p:cNvPr id="167" name=""/>
            <p:cNvSpPr/>
            <p:nvPr/>
          </p:nvSpPr>
          <p:spPr>
            <a:xfrm>
              <a:off x="3378240" y="220968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78240" y="230976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76440" y="2403360"/>
              <a:ext cx="0" cy="748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75000" y="250992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75000" y="261288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75000" y="2708280"/>
              <a:ext cx="1440" cy="442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843360" y="1677960"/>
            <a:ext cx="125280" cy="936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1360" y="1611360"/>
            <a:ext cx="46080" cy="3492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24160" y="1670040"/>
            <a:ext cx="0" cy="381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979800" y="1671480"/>
            <a:ext cx="1494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24160" y="1743120"/>
            <a:ext cx="288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22720" y="1708200"/>
            <a:ext cx="270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975120" y="1679400"/>
            <a:ext cx="239760" cy="92160"/>
            <a:chOff x="3975120" y="1679400"/>
            <a:chExt cx="239760" cy="92160"/>
          </a:xfrm>
        </p:grpSpPr>
        <p:sp>
          <p:nvSpPr>
            <p:cNvPr id="180" name=""/>
            <p:cNvSpPr/>
            <p:nvPr/>
          </p:nvSpPr>
          <p:spPr>
            <a:xfrm>
              <a:off x="3975120" y="1725480"/>
              <a:ext cx="21276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84640" y="1714680"/>
              <a:ext cx="3024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76560" y="1685880"/>
              <a:ext cx="0" cy="85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75120" y="1681200"/>
              <a:ext cx="205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79800" y="1770120"/>
              <a:ext cx="15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67280" y="1682640"/>
              <a:ext cx="0" cy="828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64040" y="1679400"/>
              <a:ext cx="20520" cy="18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71960" y="1765440"/>
              <a:ext cx="15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884320" y="2071800"/>
            <a:ext cx="131760" cy="270000"/>
            <a:chOff x="2884320" y="2071800"/>
            <a:chExt cx="131760" cy="270000"/>
          </a:xfrm>
        </p:grpSpPr>
        <p:grpSp>
          <p:nvGrpSpPr>
            <p:cNvPr id="189" name=""/>
            <p:cNvGrpSpPr/>
            <p:nvPr/>
          </p:nvGrpSpPr>
          <p:grpSpPr>
            <a:xfrm>
              <a:off x="2884320" y="2087640"/>
              <a:ext cx="95400" cy="254160"/>
              <a:chOff x="2884320" y="2087640"/>
              <a:chExt cx="95400" cy="254160"/>
            </a:xfrm>
          </p:grpSpPr>
          <p:sp>
            <p:nvSpPr>
              <p:cNvPr id="190" name=""/>
              <p:cNvSpPr/>
              <p:nvPr/>
            </p:nvSpPr>
            <p:spPr>
              <a:xfrm>
                <a:off x="2884320" y="2308320"/>
                <a:ext cx="30240" cy="33480"/>
              </a:xfrm>
              <a:prstGeom prst="ellipse">
                <a:avLst/>
              </a:prstGeom>
              <a:noFill/>
              <a:ln w="12600">
                <a:solidFill>
                  <a:srgbClr val="969696"/>
                </a:solidFill>
                <a:round/>
              </a:ln>
            </p:spPr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2901960" y="2087640"/>
                <a:ext cx="77760" cy="22680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952720" y="2076480"/>
              <a:ext cx="63360" cy="205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944800" y="2071800"/>
              <a:ext cx="936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003480" y="2093760"/>
              <a:ext cx="9720" cy="302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24280" y="2154240"/>
              <a:ext cx="61920" cy="190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922480" y="2143080"/>
              <a:ext cx="9720" cy="31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982960" y="2162160"/>
              <a:ext cx="9360" cy="31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860560" y="1943280"/>
            <a:ext cx="208080" cy="299880"/>
            <a:chOff x="2860560" y="1943280"/>
            <a:chExt cx="208080" cy="299880"/>
          </a:xfrm>
        </p:grpSpPr>
        <p:sp>
          <p:nvSpPr>
            <p:cNvPr id="199" name=""/>
            <p:cNvSpPr/>
            <p:nvPr/>
          </p:nvSpPr>
          <p:spPr>
            <a:xfrm flipV="1">
              <a:off x="2909880" y="1962000"/>
              <a:ext cx="63360" cy="2098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75040" y="1963800"/>
              <a:ext cx="2844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30480" y="1979640"/>
              <a:ext cx="25560" cy="64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025800" y="1984320"/>
              <a:ext cx="27000" cy="1000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25800" y="2081160"/>
              <a:ext cx="42840" cy="158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14640" y="2117880"/>
              <a:ext cx="46080" cy="158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5480" y="2021040"/>
              <a:ext cx="50760" cy="172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002040" y="1943280"/>
              <a:ext cx="12600" cy="266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914560" y="2182680"/>
              <a:ext cx="14400" cy="493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944800" y="2192400"/>
              <a:ext cx="15840" cy="507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2905200" y="2176560"/>
              <a:ext cx="2376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959200" y="2195640"/>
              <a:ext cx="2196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982960" y="2117880"/>
              <a:ext cx="33120" cy="90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60560" y="2146320"/>
              <a:ext cx="49320" cy="1584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3014640" y="1884240"/>
            <a:ext cx="30240" cy="986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494240" y="4694400"/>
            <a:ext cx="66600" cy="330120"/>
            <a:chOff x="4494240" y="4694400"/>
            <a:chExt cx="66600" cy="330120"/>
          </a:xfrm>
        </p:grpSpPr>
        <p:sp>
          <p:nvSpPr>
            <p:cNvPr id="215" name=""/>
            <p:cNvSpPr/>
            <p:nvPr/>
          </p:nvSpPr>
          <p:spPr>
            <a:xfrm>
              <a:off x="4498920" y="4705200"/>
              <a:ext cx="57240" cy="684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98920" y="4697280"/>
              <a:ext cx="5868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94240" y="46944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60840" y="4695840"/>
              <a:ext cx="0" cy="334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527720" y="4705200"/>
              <a:ext cx="0" cy="3193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00720" y="4780080"/>
              <a:ext cx="601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4240" y="47610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60840" y="47610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476600" y="4543560"/>
            <a:ext cx="98280" cy="2840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06840" y="4824360"/>
            <a:ext cx="46080" cy="414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41840" y="4448160"/>
            <a:ext cx="120600" cy="10332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05560" y="1955880"/>
            <a:ext cx="156600" cy="254520"/>
          </a:xfrm>
          <a:custGeom>
            <a:avLst/>
            <a:gdLst/>
            <a:ahLst/>
            <a:rect l="0" t="0" r="r" b="b"/>
            <a:pathLst>
              <a:path w="435" h="707">
                <a:moveTo>
                  <a:pt x="194" y="0"/>
                </a:moveTo>
                <a:lnTo>
                  <a:pt x="0" y="633"/>
                </a:lnTo>
                <a:lnTo>
                  <a:pt x="241" y="707"/>
                </a:lnTo>
                <a:lnTo>
                  <a:pt x="435" y="73"/>
                </a:lnTo>
                <a:lnTo>
                  <a:pt x="194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3120" y="2188080"/>
            <a:ext cx="47880" cy="56160"/>
          </a:xfrm>
          <a:custGeom>
            <a:avLst/>
            <a:gdLst/>
            <a:ahLst/>
            <a:rect l="0" t="0" r="r" b="b"/>
            <a:pathLst>
              <a:path w="133" h="156">
                <a:moveTo>
                  <a:pt x="39" y="0"/>
                </a:moveTo>
                <a:lnTo>
                  <a:pt x="0" y="128"/>
                </a:lnTo>
                <a:lnTo>
                  <a:pt x="93" y="156"/>
                </a:lnTo>
                <a:lnTo>
                  <a:pt x="133" y="28"/>
                </a:lnTo>
                <a:lnTo>
                  <a:pt x="39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30760" y="1663560"/>
            <a:ext cx="298440" cy="11736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35520" y="1600200"/>
            <a:ext cx="76320" cy="572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21280" y="1704960"/>
            <a:ext cx="28440" cy="428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03480" y="1496880"/>
            <a:ext cx="4235760" cy="3714840"/>
            <a:chOff x="2103480" y="1496880"/>
            <a:chExt cx="4235760" cy="3714840"/>
          </a:xfrm>
        </p:grpSpPr>
        <p:sp>
          <p:nvSpPr>
            <p:cNvPr id="233" name=""/>
            <p:cNvSpPr/>
            <p:nvPr/>
          </p:nvSpPr>
          <p:spPr>
            <a:xfrm>
              <a:off x="3979800" y="1676520"/>
              <a:ext cx="81000" cy="954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19240" y="2079720"/>
              <a:ext cx="97200" cy="93960"/>
            </a:xfrm>
            <a:custGeom>
              <a:avLst/>
              <a:gdLst/>
              <a:ahLst/>
              <a:rect l="0" t="0" r="r" b="b"/>
              <a:pathLst>
                <a:path w="270" h="261">
                  <a:moveTo>
                    <a:pt x="72" y="0"/>
                  </a:moveTo>
                  <a:lnTo>
                    <a:pt x="270" y="57"/>
                  </a:lnTo>
                  <a:lnTo>
                    <a:pt x="196" y="261"/>
                  </a:lnTo>
                  <a:lnTo>
                    <a:pt x="0" y="198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32640" y="4618080"/>
              <a:ext cx="606600" cy="59364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13280" y="4697280"/>
              <a:ext cx="446040" cy="446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98880" y="2496960"/>
              <a:ext cx="922320" cy="895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18040" y="2611440"/>
              <a:ext cx="685800" cy="682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3360" y="2611440"/>
              <a:ext cx="687240" cy="682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189320" y="2496960"/>
              <a:ext cx="65160" cy="12960"/>
            </a:xfrm>
            <a:prstGeom prst="line">
              <a:avLst/>
            </a:prstGeom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03480" y="2438280"/>
              <a:ext cx="923760" cy="898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33440" y="2548080"/>
              <a:ext cx="685800" cy="682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52600" y="2676600"/>
              <a:ext cx="444600" cy="4287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7200" y="2733840"/>
              <a:ext cx="444600" cy="428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65280" y="1944720"/>
              <a:ext cx="594000" cy="1049760"/>
            </a:xfrm>
            <a:custGeom>
              <a:avLst/>
              <a:gdLst/>
              <a:ahLst/>
              <a:rect l="0" t="0" r="r" b="b"/>
              <a:pathLst>
                <a:path w="1650" h="2916">
                  <a:moveTo>
                    <a:pt x="0" y="2773"/>
                  </a:moveTo>
                  <a:lnTo>
                    <a:pt x="32" y="2789"/>
                  </a:lnTo>
                  <a:lnTo>
                    <a:pt x="474" y="2916"/>
                  </a:lnTo>
                  <a:lnTo>
                    <a:pt x="555" y="2662"/>
                  </a:lnTo>
                  <a:lnTo>
                    <a:pt x="1014" y="1160"/>
                  </a:lnTo>
                  <a:lnTo>
                    <a:pt x="1585" y="1287"/>
                  </a:lnTo>
                  <a:lnTo>
                    <a:pt x="1650" y="1081"/>
                  </a:lnTo>
                  <a:lnTo>
                    <a:pt x="1070" y="722"/>
                  </a:lnTo>
                  <a:lnTo>
                    <a:pt x="1247" y="111"/>
                  </a:lnTo>
                  <a:lnTo>
                    <a:pt x="780" y="0"/>
                  </a:lnTo>
                  <a:lnTo>
                    <a:pt x="0" y="2773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87760" y="2816280"/>
              <a:ext cx="33120" cy="11160"/>
            </a:xfrm>
            <a:prstGeom prst="line">
              <a:avLst/>
            </a:prstGeom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52920" bIns="-52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16200" y="2805120"/>
              <a:ext cx="57240" cy="57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805120" y="2448000"/>
              <a:ext cx="71280" cy="210960"/>
            </a:xfrm>
            <a:prstGeom prst="line">
              <a:avLst/>
            </a:prstGeom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52640" y="2617920"/>
              <a:ext cx="88920" cy="874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24280" y="2800440"/>
              <a:ext cx="92160" cy="874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03400" y="2708280"/>
              <a:ext cx="77760" cy="810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91040" y="2627280"/>
              <a:ext cx="88920" cy="88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86280" y="2801880"/>
              <a:ext cx="88920" cy="88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37040" y="2716200"/>
              <a:ext cx="84240" cy="79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25800" y="1895400"/>
              <a:ext cx="412560" cy="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43400" y="1876320"/>
              <a:ext cx="0" cy="195264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465880" y="3525840"/>
              <a:ext cx="195120" cy="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5654520" y="3514680"/>
              <a:ext cx="96840" cy="10332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557520" y="2741760"/>
              <a:ext cx="0" cy="157320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59320" y="2743200"/>
              <a:ext cx="479160" cy="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987640" y="2743200"/>
              <a:ext cx="569880" cy="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21280" y="4794120"/>
              <a:ext cx="246240" cy="246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27680" y="4689360"/>
              <a:ext cx="79200" cy="8244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61080" y="4765680"/>
              <a:ext cx="90360" cy="90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13360" y="4629240"/>
              <a:ext cx="90360" cy="88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84960" y="4214880"/>
              <a:ext cx="447480" cy="4474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661000" y="4543560"/>
              <a:ext cx="149400" cy="15084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65680" y="4680000"/>
              <a:ext cx="114480" cy="11412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6520" bIns="5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37080" y="4325760"/>
              <a:ext cx="923760" cy="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60840" y="4325760"/>
              <a:ext cx="376560" cy="37800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10080" y="2668680"/>
              <a:ext cx="492120" cy="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90800" y="2664000"/>
              <a:ext cx="0" cy="18252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014640" y="2851200"/>
              <a:ext cx="231840" cy="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78200" y="2847960"/>
              <a:ext cx="211320" cy="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586320" y="1722600"/>
              <a:ext cx="250560" cy="144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6160" bIns="-56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197240" y="1496880"/>
              <a:ext cx="479520" cy="261720"/>
              <a:chOff x="4197240" y="1496880"/>
              <a:chExt cx="479520" cy="261720"/>
            </a:xfrm>
          </p:grpSpPr>
          <p:sp>
            <p:nvSpPr>
              <p:cNvPr id="277" name=""/>
              <p:cNvSpPr/>
              <p:nvPr/>
            </p:nvSpPr>
            <p:spPr>
              <a:xfrm flipV="1">
                <a:off x="4238640" y="1496880"/>
                <a:ext cx="438120" cy="11268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33960" y="1620720"/>
                <a:ext cx="31680" cy="11592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14880" y="1600200"/>
                <a:ext cx="30240" cy="30240"/>
              </a:xfrm>
              <a:prstGeom prst="ellipse">
                <a:avLst/>
              </a:prstGeom>
              <a:noFill/>
              <a:ln w="12600">
                <a:solidFill>
                  <a:srgbClr val="969696"/>
                </a:solidFill>
                <a:round/>
              </a:ln>
            </p:spPr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197240" y="1698480"/>
                <a:ext cx="37080" cy="60120"/>
              </a:xfrm>
              <a:custGeom>
                <a:avLst/>
                <a:gdLst/>
                <a:ahLst/>
                <a:rect l="0" t="0" r="r" b="b"/>
                <a:pathLst>
                  <a:path fill="none" w="103" h="167">
                    <a:moveTo>
                      <a:pt x="40" y="167"/>
                    </a:moveTo>
                    <a:lnTo>
                      <a:pt x="40" y="167"/>
                    </a:lnTo>
                    <a:cubicBezTo>
                      <a:pt x="48" y="165"/>
                      <a:pt x="55" y="162"/>
                      <a:pt x="61" y="158"/>
                    </a:cubicBezTo>
                    <a:cubicBezTo>
                      <a:pt x="74" y="151"/>
                      <a:pt x="84" y="140"/>
                      <a:pt x="92" y="127"/>
                    </a:cubicBezTo>
                    <a:cubicBezTo>
                      <a:pt x="99" y="114"/>
                      <a:pt x="103" y="100"/>
                      <a:pt x="103" y="85"/>
                    </a:cubicBezTo>
                    <a:cubicBezTo>
                      <a:pt x="103" y="70"/>
                      <a:pt x="99" y="56"/>
                      <a:pt x="92" y="43"/>
                    </a:cubicBezTo>
                    <a:cubicBezTo>
                      <a:pt x="84" y="30"/>
                      <a:pt x="74" y="19"/>
                      <a:pt x="61" y="12"/>
                    </a:cubicBezTo>
                    <a:cubicBezTo>
                      <a:pt x="49" y="4"/>
                      <a:pt x="35" y="0"/>
                      <a:pt x="20" y="0"/>
                    </a:cubicBezTo>
                    <a:cubicBezTo>
                      <a:pt x="13" y="0"/>
                      <a:pt x="7" y="1"/>
                      <a:pt x="0" y="3"/>
                    </a:cubicBezTo>
                  </a:path>
                </a:pathLst>
              </a:custGeom>
              <a:ln w="12600">
                <a:solidFill>
                  <a:srgbClr val="969696"/>
                </a:solidFill>
                <a:round/>
              </a:ln>
            </p:spPr>
            <p:txBody>
              <a:bodyPr lIns="96120" rIns="9612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227480" y="1712880"/>
                <a:ext cx="23760" cy="468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4105440" y="1611360"/>
              <a:ext cx="0" cy="619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03640" y="1614600"/>
              <a:ext cx="1112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122720" y="1739880"/>
              <a:ext cx="1440" cy="414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833640" y="1776240"/>
              <a:ext cx="28908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3833640" y="1733400"/>
              <a:ext cx="0" cy="460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835440" y="1670040"/>
              <a:ext cx="13176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33640" y="1668600"/>
              <a:ext cx="0" cy="428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965400" y="1652760"/>
              <a:ext cx="0" cy="172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979800" y="1652760"/>
              <a:ext cx="1800" cy="187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940200" y="1652760"/>
              <a:ext cx="284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3978360" y="1652760"/>
              <a:ext cx="284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940200" y="1603440"/>
              <a:ext cx="0" cy="507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006800" y="1601640"/>
              <a:ext cx="0" cy="51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00360" y="1716120"/>
              <a:ext cx="0" cy="96516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2865600" y="2422440"/>
              <a:ext cx="150840" cy="57240"/>
              <a:chOff x="2865600" y="2422440"/>
              <a:chExt cx="150840" cy="57240"/>
            </a:xfrm>
          </p:grpSpPr>
          <p:sp>
            <p:nvSpPr>
              <p:cNvPr id="297" name=""/>
              <p:cNvSpPr/>
              <p:nvPr/>
            </p:nvSpPr>
            <p:spPr>
              <a:xfrm>
                <a:off x="2865600" y="2422440"/>
                <a:ext cx="31680" cy="30240"/>
              </a:xfrm>
              <a:prstGeom prst="ellipse">
                <a:avLst/>
              </a:prstGeom>
              <a:noFill/>
              <a:ln w="12600">
                <a:solidFill>
                  <a:srgbClr val="969696"/>
                </a:solidFill>
                <a:round/>
              </a:ln>
            </p:spPr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95480" y="2440080"/>
                <a:ext cx="88920" cy="2196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982960" y="2448000"/>
                <a:ext cx="33480" cy="31680"/>
              </a:xfrm>
              <a:prstGeom prst="ellipse">
                <a:avLst/>
              </a:prstGeom>
              <a:noFill/>
              <a:ln w="12600">
                <a:solidFill>
                  <a:srgbClr val="969696"/>
                </a:solidFill>
                <a:round/>
              </a:ln>
            </p:spPr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541600" y="2857680"/>
              <a:ext cx="7452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762280" y="2773440"/>
              <a:ext cx="101520" cy="5076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936880" y="2668680"/>
              <a:ext cx="655560" cy="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247920" y="2665440"/>
              <a:ext cx="0" cy="19512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08320" y="2774880"/>
              <a:ext cx="136800" cy="90720"/>
            </a:xfrm>
            <a:prstGeom prst="line">
              <a:avLst/>
            </a:prstGeom>
            <a:ln w="10152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40760" rIns="14076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91120" y="2246400"/>
              <a:ext cx="371880" cy="803520"/>
            </a:xfrm>
            <a:custGeom>
              <a:avLst/>
              <a:gdLst/>
              <a:ahLst/>
              <a:rect l="0" t="0" r="r" b="b"/>
              <a:pathLst>
                <a:path w="1033" h="2232">
                  <a:moveTo>
                    <a:pt x="37" y="118"/>
                  </a:moveTo>
                  <a:lnTo>
                    <a:pt x="479" y="0"/>
                  </a:lnTo>
                  <a:lnTo>
                    <a:pt x="1033" y="2129"/>
                  </a:lnTo>
                  <a:lnTo>
                    <a:pt x="575" y="2232"/>
                  </a:lnTo>
                  <a:lnTo>
                    <a:pt x="429" y="1674"/>
                  </a:lnTo>
                  <a:lnTo>
                    <a:pt x="0" y="1674"/>
                  </a:lnTo>
                  <a:lnTo>
                    <a:pt x="0" y="1484"/>
                  </a:lnTo>
                  <a:lnTo>
                    <a:pt x="336" y="1317"/>
                  </a:lnTo>
                  <a:lnTo>
                    <a:pt x="183" y="737"/>
                  </a:lnTo>
                  <a:lnTo>
                    <a:pt x="37" y="118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19720" y="2908440"/>
              <a:ext cx="7452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94480" y="3557520"/>
              <a:ext cx="317880" cy="608400"/>
            </a:xfrm>
            <a:custGeom>
              <a:avLst/>
              <a:gdLst/>
              <a:ahLst/>
              <a:rect l="0" t="0" r="r" b="b"/>
              <a:pathLst>
                <a:path w="883" h="1690">
                  <a:moveTo>
                    <a:pt x="39" y="249"/>
                  </a:moveTo>
                  <a:lnTo>
                    <a:pt x="290" y="0"/>
                  </a:lnTo>
                  <a:lnTo>
                    <a:pt x="378" y="87"/>
                  </a:lnTo>
                  <a:lnTo>
                    <a:pt x="317" y="148"/>
                  </a:lnTo>
                  <a:lnTo>
                    <a:pt x="383" y="214"/>
                  </a:lnTo>
                  <a:lnTo>
                    <a:pt x="534" y="214"/>
                  </a:lnTo>
                  <a:lnTo>
                    <a:pt x="534" y="42"/>
                  </a:lnTo>
                  <a:lnTo>
                    <a:pt x="883" y="42"/>
                  </a:lnTo>
                  <a:lnTo>
                    <a:pt x="883" y="1277"/>
                  </a:lnTo>
                  <a:lnTo>
                    <a:pt x="564" y="1277"/>
                  </a:lnTo>
                  <a:lnTo>
                    <a:pt x="564" y="1690"/>
                  </a:lnTo>
                  <a:lnTo>
                    <a:pt x="196" y="1690"/>
                  </a:lnTo>
                  <a:lnTo>
                    <a:pt x="196" y="883"/>
                  </a:lnTo>
                  <a:lnTo>
                    <a:pt x="0" y="883"/>
                  </a:lnTo>
                  <a:lnTo>
                    <a:pt x="0" y="608"/>
                  </a:lnTo>
                  <a:lnTo>
                    <a:pt x="263" y="608"/>
                  </a:lnTo>
                  <a:lnTo>
                    <a:pt x="263" y="457"/>
                  </a:lnTo>
                  <a:lnTo>
                    <a:pt x="39" y="249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436920" y="3813120"/>
              <a:ext cx="2254320" cy="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5483160" y="3527280"/>
              <a:ext cx="0" cy="69876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52800" y="4916520"/>
              <a:ext cx="11448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14720" y="4919760"/>
              <a:ext cx="0" cy="540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10040" y="4975200"/>
              <a:ext cx="190440" cy="666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4197240" y="5038560"/>
              <a:ext cx="227160" cy="18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22600" y="5013360"/>
              <a:ext cx="47520" cy="475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70480" y="5037120"/>
              <a:ext cx="4428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14760" y="5021280"/>
              <a:ext cx="31680" cy="3024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479840" y="4449600"/>
              <a:ext cx="276480" cy="412920"/>
              <a:chOff x="4479840" y="4449600"/>
              <a:chExt cx="276480" cy="412920"/>
            </a:xfrm>
          </p:grpSpPr>
          <p:sp>
            <p:nvSpPr>
              <p:cNvPr id="318" name=""/>
              <p:cNvSpPr/>
              <p:nvPr/>
            </p:nvSpPr>
            <p:spPr>
              <a:xfrm flipV="1">
                <a:off x="4479840" y="4546440"/>
                <a:ext cx="0" cy="28116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81640" y="4546440"/>
                <a:ext cx="2052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48240" y="4545000"/>
                <a:ext cx="2844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43560" y="4508640"/>
                <a:ext cx="0" cy="3636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05400" y="4508640"/>
                <a:ext cx="0" cy="3636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4572000" y="4692600"/>
                <a:ext cx="0" cy="13644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4511520" y="4821120"/>
                <a:ext cx="0" cy="4140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4484520" y="4824360"/>
                <a:ext cx="2880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4545000" y="4824360"/>
                <a:ext cx="255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4546440" y="4822920"/>
                <a:ext cx="0" cy="3960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68760" y="4694400"/>
                <a:ext cx="14292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67320" y="4675320"/>
                <a:ext cx="12384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4691160" y="4545000"/>
                <a:ext cx="0" cy="13176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4711680" y="4545000"/>
                <a:ext cx="0" cy="15228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646520" y="4543560"/>
                <a:ext cx="4464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4713120" y="4543560"/>
                <a:ext cx="4320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646520" y="4449600"/>
                <a:ext cx="0" cy="9540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4756320" y="4449600"/>
                <a:ext cx="0" cy="9396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75240" y="4543560"/>
                <a:ext cx="0" cy="13320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4448160" y="5059440"/>
              <a:ext cx="0" cy="745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97400" y="5132520"/>
              <a:ext cx="11268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00640" y="5138640"/>
              <a:ext cx="111240" cy="5544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527720" y="4329000"/>
              <a:ext cx="0" cy="22536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557520" y="4325760"/>
              <a:ext cx="971640" cy="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81160" y="2338560"/>
              <a:ext cx="38160" cy="3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2909880" y="2332080"/>
              <a:ext cx="90360" cy="252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000240" y="2354400"/>
              <a:ext cx="0" cy="968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86320" y="4552920"/>
              <a:ext cx="81000" cy="135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3000" y="4476600"/>
              <a:ext cx="96840" cy="604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65520" y="4684680"/>
              <a:ext cx="1350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00520" y="4538520"/>
              <a:ext cx="0" cy="1461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51280" y="1968480"/>
              <a:ext cx="97200" cy="125640"/>
            </a:xfrm>
            <a:custGeom>
              <a:avLst/>
              <a:gdLst/>
              <a:ahLst/>
              <a:rect l="0" t="0" r="r" b="b"/>
              <a:pathLst>
                <a:path w="270" h="349">
                  <a:moveTo>
                    <a:pt x="0" y="286"/>
                  </a:moveTo>
                  <a:lnTo>
                    <a:pt x="84" y="0"/>
                  </a:lnTo>
                  <a:lnTo>
                    <a:pt x="270" y="60"/>
                  </a:lnTo>
                  <a:lnTo>
                    <a:pt x="186" y="349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3025800" y="2095560"/>
              <a:ext cx="352440" cy="114120"/>
              <a:chOff x="3025800" y="2095560"/>
              <a:chExt cx="352440" cy="114120"/>
            </a:xfrm>
          </p:grpSpPr>
          <p:sp>
            <p:nvSpPr>
              <p:cNvPr id="351" name=""/>
              <p:cNvSpPr/>
              <p:nvPr/>
            </p:nvSpPr>
            <p:spPr>
              <a:xfrm>
                <a:off x="3025800" y="2095560"/>
                <a:ext cx="55440" cy="19080"/>
              </a:xfrm>
              <a:prstGeom prst="line">
                <a:avLst/>
              </a:prstGeom>
              <a:ln w="255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95640" y="2117880"/>
                <a:ext cx="55440" cy="18720"/>
              </a:xfrm>
              <a:prstGeom prst="line">
                <a:avLst/>
              </a:prstGeom>
              <a:ln w="255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174840" y="2143080"/>
                <a:ext cx="57240" cy="19080"/>
              </a:xfrm>
              <a:prstGeom prst="line">
                <a:avLst/>
              </a:prstGeom>
              <a:ln w="255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47920" y="2166840"/>
                <a:ext cx="55800" cy="19080"/>
              </a:xfrm>
              <a:prstGeom prst="line">
                <a:avLst/>
              </a:prstGeom>
              <a:ln w="255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321000" y="2190600"/>
                <a:ext cx="57240" cy="19080"/>
              </a:xfrm>
              <a:prstGeom prst="line">
                <a:avLst/>
              </a:prstGeom>
              <a:ln w="255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375000" y="2209680"/>
              <a:ext cx="3240" cy="542880"/>
              <a:chOff x="3375000" y="2209680"/>
              <a:chExt cx="3240" cy="542880"/>
            </a:xfrm>
          </p:grpSpPr>
          <p:sp>
            <p:nvSpPr>
              <p:cNvPr id="357" name=""/>
              <p:cNvSpPr/>
              <p:nvPr/>
            </p:nvSpPr>
            <p:spPr>
              <a:xfrm>
                <a:off x="3378240" y="2209680"/>
                <a:ext cx="0" cy="73080"/>
              </a:xfrm>
              <a:prstGeom prst="line">
                <a:avLst/>
              </a:prstGeom>
              <a:ln w="255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378240" y="2309760"/>
                <a:ext cx="0" cy="73080"/>
              </a:xfrm>
              <a:prstGeom prst="line">
                <a:avLst/>
              </a:prstGeom>
              <a:ln w="255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376440" y="2403360"/>
                <a:ext cx="0" cy="74880"/>
              </a:xfrm>
              <a:prstGeom prst="line">
                <a:avLst/>
              </a:prstGeom>
              <a:ln w="255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75000" y="2509920"/>
                <a:ext cx="0" cy="73080"/>
              </a:xfrm>
              <a:prstGeom prst="line">
                <a:avLst/>
              </a:prstGeom>
              <a:ln w="255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75000" y="2612880"/>
                <a:ext cx="0" cy="73080"/>
              </a:xfrm>
              <a:prstGeom prst="line">
                <a:avLst/>
              </a:prstGeom>
              <a:ln w="255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3375000" y="2708280"/>
                <a:ext cx="1440" cy="44280"/>
              </a:xfrm>
              <a:prstGeom prst="line">
                <a:avLst/>
              </a:prstGeom>
              <a:ln w="255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3843360" y="1677960"/>
              <a:ext cx="125280" cy="936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51360" y="1611360"/>
              <a:ext cx="46080" cy="349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124160" y="1670040"/>
              <a:ext cx="0" cy="381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979800" y="1671480"/>
              <a:ext cx="1494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24160" y="1743120"/>
              <a:ext cx="288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22720" y="1708200"/>
              <a:ext cx="270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3975120" y="1679400"/>
              <a:ext cx="239760" cy="92160"/>
              <a:chOff x="3975120" y="1679400"/>
              <a:chExt cx="239760" cy="92160"/>
            </a:xfrm>
          </p:grpSpPr>
          <p:sp>
            <p:nvSpPr>
              <p:cNvPr id="370" name=""/>
              <p:cNvSpPr/>
              <p:nvPr/>
            </p:nvSpPr>
            <p:spPr>
              <a:xfrm>
                <a:off x="3975120" y="1725480"/>
                <a:ext cx="2127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84640" y="1714680"/>
                <a:ext cx="30240" cy="30240"/>
              </a:xfrm>
              <a:prstGeom prst="ellipse">
                <a:avLst/>
              </a:prstGeom>
              <a:noFill/>
              <a:ln w="12600">
                <a:solidFill>
                  <a:srgbClr val="969696"/>
                </a:solidFill>
                <a:round/>
              </a:ln>
            </p:spPr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976560" y="1685880"/>
                <a:ext cx="0" cy="8568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975120" y="1681200"/>
                <a:ext cx="2052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979800" y="1770120"/>
                <a:ext cx="1584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067280" y="1682640"/>
                <a:ext cx="0" cy="8280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64040" y="1679400"/>
                <a:ext cx="20520" cy="180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71960" y="1765440"/>
                <a:ext cx="1584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884320" y="2071800"/>
              <a:ext cx="131760" cy="270000"/>
              <a:chOff x="2884320" y="2071800"/>
              <a:chExt cx="131760" cy="27000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2884320" y="2087640"/>
                <a:ext cx="95400" cy="254160"/>
                <a:chOff x="2884320" y="2087640"/>
                <a:chExt cx="95400" cy="2541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2884320" y="2308320"/>
                  <a:ext cx="30240" cy="33480"/>
                </a:xfrm>
                <a:prstGeom prst="ellipse">
                  <a:avLst/>
                </a:prstGeom>
                <a:noFill/>
                <a:ln w="12600">
                  <a:solidFill>
                    <a:srgbClr val="969696"/>
                  </a:solidFill>
                  <a:round/>
                </a:ln>
              </p:spPr>
              <p:txBody>
                <a:bodyPr lIns="96120" rIns="9612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2901960" y="2087640"/>
                  <a:ext cx="77760" cy="22680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2952720" y="2076480"/>
                <a:ext cx="63360" cy="2052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2944800" y="2071800"/>
                <a:ext cx="9360" cy="3312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3003480" y="2093760"/>
                <a:ext cx="9720" cy="3024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24280" y="2154240"/>
                <a:ext cx="61920" cy="1908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922480" y="2143080"/>
                <a:ext cx="9720" cy="3168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2982960" y="2162160"/>
                <a:ext cx="9360" cy="3168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860560" y="1943280"/>
              <a:ext cx="208080" cy="299880"/>
              <a:chOff x="2860560" y="1943280"/>
              <a:chExt cx="208080" cy="299880"/>
            </a:xfrm>
          </p:grpSpPr>
          <p:sp>
            <p:nvSpPr>
              <p:cNvPr id="389" name=""/>
              <p:cNvSpPr/>
              <p:nvPr/>
            </p:nvSpPr>
            <p:spPr>
              <a:xfrm flipV="1">
                <a:off x="2909880" y="1962000"/>
                <a:ext cx="63360" cy="20988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75040" y="1963800"/>
                <a:ext cx="28440" cy="936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30480" y="1979640"/>
                <a:ext cx="25560" cy="648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3025800" y="1984320"/>
                <a:ext cx="27000" cy="10008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025800" y="2081160"/>
                <a:ext cx="42840" cy="1584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014640" y="2117880"/>
                <a:ext cx="46080" cy="1584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895480" y="2021040"/>
                <a:ext cx="50760" cy="17280"/>
              </a:xfrm>
              <a:prstGeom prst="line">
                <a:avLst/>
              </a:prstGeom>
              <a:ln w="255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3002040" y="1943280"/>
                <a:ext cx="12600" cy="2664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2914560" y="2182680"/>
                <a:ext cx="14400" cy="4932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2944800" y="2192400"/>
                <a:ext cx="15840" cy="5076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2905200" y="2176560"/>
                <a:ext cx="23760" cy="936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flipV="1">
                <a:off x="2959200" y="2195640"/>
                <a:ext cx="21960" cy="936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2982960" y="2117880"/>
                <a:ext cx="33120" cy="9036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860560" y="2146320"/>
                <a:ext cx="49320" cy="15840"/>
              </a:xfrm>
              <a:prstGeom prst="line">
                <a:avLst/>
              </a:prstGeom>
              <a:ln w="255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 flipV="1">
              <a:off x="3014640" y="1884240"/>
              <a:ext cx="30240" cy="9864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494240" y="4694400"/>
              <a:ext cx="66600" cy="330120"/>
              <a:chOff x="4494240" y="4694400"/>
              <a:chExt cx="66600" cy="330120"/>
            </a:xfrm>
          </p:grpSpPr>
          <p:sp>
            <p:nvSpPr>
              <p:cNvPr id="405" name=""/>
              <p:cNvSpPr/>
              <p:nvPr/>
            </p:nvSpPr>
            <p:spPr>
              <a:xfrm>
                <a:off x="4498920" y="4705200"/>
                <a:ext cx="57240" cy="684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round/>
              </a:ln>
            </p:spPr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498920" y="4697280"/>
                <a:ext cx="586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94240" y="4694400"/>
                <a:ext cx="0" cy="3312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560840" y="4695840"/>
                <a:ext cx="0" cy="3348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4527720" y="4705200"/>
                <a:ext cx="0" cy="31932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500720" y="4780080"/>
                <a:ext cx="6012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94240" y="4761000"/>
                <a:ext cx="0" cy="3312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560840" y="4761000"/>
                <a:ext cx="0" cy="3312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4476600" y="4543560"/>
              <a:ext cx="98280" cy="2840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06840" y="4824360"/>
              <a:ext cx="46080" cy="414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41840" y="4448160"/>
              <a:ext cx="120600" cy="1033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05560" y="1955880"/>
              <a:ext cx="156600" cy="254520"/>
            </a:xfrm>
            <a:custGeom>
              <a:avLst/>
              <a:gdLst/>
              <a:ahLst/>
              <a:rect l="0" t="0" r="r" b="b"/>
              <a:pathLst>
                <a:path w="435" h="707">
                  <a:moveTo>
                    <a:pt x="194" y="0"/>
                  </a:moveTo>
                  <a:lnTo>
                    <a:pt x="0" y="633"/>
                  </a:lnTo>
                  <a:lnTo>
                    <a:pt x="241" y="707"/>
                  </a:lnTo>
                  <a:lnTo>
                    <a:pt x="435" y="73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13120" y="2188080"/>
              <a:ext cx="47880" cy="56160"/>
            </a:xfrm>
            <a:custGeom>
              <a:avLst/>
              <a:gdLst/>
              <a:ahLst/>
              <a:rect l="0" t="0" r="r" b="b"/>
              <a:pathLst>
                <a:path w="133" h="156">
                  <a:moveTo>
                    <a:pt x="39" y="0"/>
                  </a:moveTo>
                  <a:lnTo>
                    <a:pt x="0" y="128"/>
                  </a:lnTo>
                  <a:lnTo>
                    <a:pt x="93" y="156"/>
                  </a:lnTo>
                  <a:lnTo>
                    <a:pt x="133" y="2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0760" y="1663560"/>
              <a:ext cx="298440" cy="117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35520" y="1600200"/>
              <a:ext cx="76320" cy="572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21280" y="1704960"/>
              <a:ext cx="28440" cy="42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05120" y="2496960"/>
              <a:ext cx="343440" cy="446400"/>
            </a:xfrm>
            <a:custGeom>
              <a:avLst/>
              <a:gdLst/>
              <a:ahLst/>
              <a:rect l="0" t="0" r="r" b="b"/>
              <a:pathLst>
                <a:path w="954" h="1240">
                  <a:moveTo>
                    <a:pt x="174" y="0"/>
                  </a:moveTo>
                  <a:lnTo>
                    <a:pt x="360" y="7"/>
                  </a:lnTo>
                  <a:lnTo>
                    <a:pt x="464" y="174"/>
                  </a:lnTo>
                  <a:lnTo>
                    <a:pt x="628" y="193"/>
                  </a:lnTo>
                  <a:lnTo>
                    <a:pt x="954" y="938"/>
                  </a:lnTo>
                  <a:lnTo>
                    <a:pt x="869" y="1113"/>
                  </a:lnTo>
                  <a:lnTo>
                    <a:pt x="875" y="1240"/>
                  </a:lnTo>
                  <a:lnTo>
                    <a:pt x="273" y="1083"/>
                  </a:lnTo>
                  <a:lnTo>
                    <a:pt x="281" y="1083"/>
                  </a:lnTo>
                  <a:lnTo>
                    <a:pt x="270" y="1073"/>
                  </a:lnTo>
                  <a:lnTo>
                    <a:pt x="273" y="1075"/>
                  </a:lnTo>
                  <a:lnTo>
                    <a:pt x="281" y="1081"/>
                  </a:lnTo>
                  <a:lnTo>
                    <a:pt x="0" y="455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81520" y="2485800"/>
              <a:ext cx="316440" cy="429120"/>
            </a:xfrm>
            <a:custGeom>
              <a:avLst/>
              <a:gdLst/>
              <a:ahLst/>
              <a:rect l="0" t="0" r="r" b="b"/>
              <a:pathLst>
                <a:path w="879" h="1192">
                  <a:moveTo>
                    <a:pt x="681" y="1150"/>
                  </a:moveTo>
                  <a:lnTo>
                    <a:pt x="189" y="1192"/>
                  </a:lnTo>
                  <a:lnTo>
                    <a:pt x="0" y="920"/>
                  </a:lnTo>
                  <a:lnTo>
                    <a:pt x="383" y="214"/>
                  </a:lnTo>
                  <a:lnTo>
                    <a:pt x="596" y="214"/>
                  </a:lnTo>
                  <a:lnTo>
                    <a:pt x="745" y="0"/>
                  </a:lnTo>
                  <a:lnTo>
                    <a:pt x="879" y="31"/>
                  </a:lnTo>
                  <a:lnTo>
                    <a:pt x="855" y="588"/>
                  </a:lnTo>
                  <a:lnTo>
                    <a:pt x="625" y="994"/>
                  </a:lnTo>
                  <a:lnTo>
                    <a:pt x="745" y="1065"/>
                  </a:lnTo>
                  <a:lnTo>
                    <a:pt x="681" y="1150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46600" y="4532400"/>
              <a:ext cx="416160" cy="362160"/>
            </a:xfrm>
            <a:custGeom>
              <a:avLst/>
              <a:gdLst/>
              <a:ahLst/>
              <a:rect l="0" t="0" r="r" b="b"/>
              <a:pathLst>
                <a:path w="1156" h="1006">
                  <a:moveTo>
                    <a:pt x="50" y="556"/>
                  </a:moveTo>
                  <a:lnTo>
                    <a:pt x="698" y="0"/>
                  </a:lnTo>
                  <a:lnTo>
                    <a:pt x="878" y="68"/>
                  </a:lnTo>
                  <a:lnTo>
                    <a:pt x="960" y="23"/>
                  </a:lnTo>
                  <a:lnTo>
                    <a:pt x="1055" y="92"/>
                  </a:lnTo>
                  <a:lnTo>
                    <a:pt x="1013" y="291"/>
                  </a:lnTo>
                  <a:lnTo>
                    <a:pt x="1156" y="577"/>
                  </a:lnTo>
                  <a:lnTo>
                    <a:pt x="1037" y="665"/>
                  </a:lnTo>
                  <a:lnTo>
                    <a:pt x="849" y="548"/>
                  </a:lnTo>
                  <a:lnTo>
                    <a:pt x="499" y="969"/>
                  </a:lnTo>
                  <a:lnTo>
                    <a:pt x="293" y="919"/>
                  </a:lnTo>
                  <a:lnTo>
                    <a:pt x="97" y="1006"/>
                  </a:lnTo>
                  <a:lnTo>
                    <a:pt x="0" y="903"/>
                  </a:lnTo>
                  <a:lnTo>
                    <a:pt x="97" y="747"/>
                  </a:lnTo>
                  <a:lnTo>
                    <a:pt x="50" y="556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 txBox="1"/>
          <p:nvPr/>
        </p:nvSpPr>
        <p:spPr>
          <a:xfrm>
            <a:off x="2819520" y="585720"/>
            <a:ext cx="203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étriers de fr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0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19240" y="2079720"/>
            <a:ext cx="97200" cy="93960"/>
          </a:xfrm>
          <a:custGeom>
            <a:avLst/>
            <a:gdLst/>
            <a:ahLst/>
            <a:rect l="0" t="0" r="r" b="b"/>
            <a:pathLst>
              <a:path w="270" h="261">
                <a:moveTo>
                  <a:pt x="72" y="0"/>
                </a:moveTo>
                <a:lnTo>
                  <a:pt x="270" y="57"/>
                </a:lnTo>
                <a:lnTo>
                  <a:pt x="196" y="261"/>
                </a:lnTo>
                <a:lnTo>
                  <a:pt x="0" y="198"/>
                </a:lnTo>
                <a:lnTo>
                  <a:pt x="7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32640" y="4618080"/>
            <a:ext cx="606600" cy="593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13280" y="4697280"/>
            <a:ext cx="446040" cy="446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98880" y="2496960"/>
            <a:ext cx="922320" cy="8953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118040" y="2611440"/>
            <a:ext cx="68580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3360" y="2611440"/>
            <a:ext cx="68724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189320" y="2496960"/>
            <a:ext cx="65160" cy="1296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03480" y="2438280"/>
            <a:ext cx="923760" cy="8985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33440" y="2548080"/>
            <a:ext cx="68580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352600" y="2676600"/>
            <a:ext cx="444600" cy="428760"/>
          </a:xfrm>
          <a:prstGeom prst="ellipse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37200" y="2733840"/>
            <a:ext cx="4446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465280" y="1944720"/>
            <a:ext cx="594000" cy="1049760"/>
          </a:xfrm>
          <a:custGeom>
            <a:avLst/>
            <a:gdLst/>
            <a:ahLst/>
            <a:rect l="0" t="0" r="r" b="b"/>
            <a:pathLst>
              <a:path w="1650" h="2916">
                <a:moveTo>
                  <a:pt x="0" y="2773"/>
                </a:moveTo>
                <a:lnTo>
                  <a:pt x="32" y="2789"/>
                </a:lnTo>
                <a:lnTo>
                  <a:pt x="474" y="2916"/>
                </a:lnTo>
                <a:lnTo>
                  <a:pt x="555" y="2662"/>
                </a:lnTo>
                <a:lnTo>
                  <a:pt x="1014" y="1160"/>
                </a:lnTo>
                <a:lnTo>
                  <a:pt x="1585" y="1287"/>
                </a:lnTo>
                <a:lnTo>
                  <a:pt x="1650" y="1081"/>
                </a:lnTo>
                <a:lnTo>
                  <a:pt x="1070" y="722"/>
                </a:lnTo>
                <a:lnTo>
                  <a:pt x="1247" y="111"/>
                </a:lnTo>
                <a:lnTo>
                  <a:pt x="780" y="0"/>
                </a:lnTo>
                <a:lnTo>
                  <a:pt x="0" y="2773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87760" y="2816280"/>
            <a:ext cx="33120" cy="1116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2920" bIns="-52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716200" y="2805120"/>
            <a:ext cx="57240" cy="57240"/>
          </a:xfrm>
          <a:prstGeom prst="ellipse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805120" y="2496960"/>
            <a:ext cx="343440" cy="446400"/>
          </a:xfrm>
          <a:custGeom>
            <a:avLst/>
            <a:gdLst/>
            <a:ahLst/>
            <a:rect l="0" t="0" r="r" b="b"/>
            <a:pathLst>
              <a:path w="954" h="1240">
                <a:moveTo>
                  <a:pt x="174" y="0"/>
                </a:moveTo>
                <a:lnTo>
                  <a:pt x="360" y="7"/>
                </a:lnTo>
                <a:lnTo>
                  <a:pt x="464" y="174"/>
                </a:lnTo>
                <a:lnTo>
                  <a:pt x="628" y="193"/>
                </a:lnTo>
                <a:lnTo>
                  <a:pt x="954" y="938"/>
                </a:lnTo>
                <a:lnTo>
                  <a:pt x="869" y="1113"/>
                </a:lnTo>
                <a:lnTo>
                  <a:pt x="875" y="1240"/>
                </a:lnTo>
                <a:lnTo>
                  <a:pt x="273" y="1083"/>
                </a:lnTo>
                <a:lnTo>
                  <a:pt x="281" y="1083"/>
                </a:lnTo>
                <a:lnTo>
                  <a:pt x="270" y="1073"/>
                </a:lnTo>
                <a:lnTo>
                  <a:pt x="273" y="1075"/>
                </a:lnTo>
                <a:lnTo>
                  <a:pt x="281" y="1081"/>
                </a:lnTo>
                <a:lnTo>
                  <a:pt x="0" y="455"/>
                </a:lnTo>
                <a:lnTo>
                  <a:pt x="174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805120" y="2448000"/>
            <a:ext cx="71280" cy="2109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852640" y="2617920"/>
            <a:ext cx="88920" cy="87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924280" y="2800440"/>
            <a:ext cx="92160" cy="87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03400" y="2708280"/>
            <a:ext cx="77760" cy="810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81520" y="2485800"/>
            <a:ext cx="316440" cy="429120"/>
          </a:xfrm>
          <a:custGeom>
            <a:avLst/>
            <a:gdLst/>
            <a:ahLst/>
            <a:rect l="0" t="0" r="r" b="b"/>
            <a:pathLst>
              <a:path w="879" h="1192">
                <a:moveTo>
                  <a:pt x="681" y="1150"/>
                </a:moveTo>
                <a:lnTo>
                  <a:pt x="189" y="1192"/>
                </a:lnTo>
                <a:lnTo>
                  <a:pt x="0" y="920"/>
                </a:lnTo>
                <a:lnTo>
                  <a:pt x="383" y="214"/>
                </a:lnTo>
                <a:lnTo>
                  <a:pt x="596" y="214"/>
                </a:lnTo>
                <a:lnTo>
                  <a:pt x="745" y="0"/>
                </a:lnTo>
                <a:lnTo>
                  <a:pt x="879" y="31"/>
                </a:lnTo>
                <a:lnTo>
                  <a:pt x="855" y="588"/>
                </a:lnTo>
                <a:lnTo>
                  <a:pt x="625" y="994"/>
                </a:lnTo>
                <a:lnTo>
                  <a:pt x="745" y="1065"/>
                </a:lnTo>
                <a:lnTo>
                  <a:pt x="681" y="115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91040" y="2627280"/>
            <a:ext cx="8892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86280" y="2801880"/>
            <a:ext cx="8892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37040" y="2716200"/>
            <a:ext cx="84240" cy="792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25800" y="1895400"/>
            <a:ext cx="4125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43400" y="1876320"/>
            <a:ext cx="0" cy="19526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5465880" y="3525840"/>
            <a:ext cx="1951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654520" y="3514680"/>
            <a:ext cx="96840" cy="1033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557520" y="2741760"/>
            <a:ext cx="0" cy="15732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559320" y="2743200"/>
            <a:ext cx="4791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987640" y="2743200"/>
            <a:ext cx="56988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21280" y="4794120"/>
            <a:ext cx="246240" cy="246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6600" y="4532400"/>
            <a:ext cx="416160" cy="362160"/>
          </a:xfrm>
          <a:custGeom>
            <a:avLst/>
            <a:gdLst/>
            <a:ahLst/>
            <a:rect l="0" t="0" r="r" b="b"/>
            <a:pathLst>
              <a:path w="1156" h="1006">
                <a:moveTo>
                  <a:pt x="50" y="556"/>
                </a:moveTo>
                <a:lnTo>
                  <a:pt x="698" y="0"/>
                </a:lnTo>
                <a:lnTo>
                  <a:pt x="878" y="68"/>
                </a:lnTo>
                <a:lnTo>
                  <a:pt x="960" y="23"/>
                </a:lnTo>
                <a:lnTo>
                  <a:pt x="1055" y="92"/>
                </a:lnTo>
                <a:lnTo>
                  <a:pt x="1013" y="291"/>
                </a:lnTo>
                <a:lnTo>
                  <a:pt x="1156" y="577"/>
                </a:lnTo>
                <a:lnTo>
                  <a:pt x="1037" y="665"/>
                </a:lnTo>
                <a:lnTo>
                  <a:pt x="849" y="548"/>
                </a:lnTo>
                <a:lnTo>
                  <a:pt x="499" y="969"/>
                </a:lnTo>
                <a:lnTo>
                  <a:pt x="293" y="919"/>
                </a:lnTo>
                <a:lnTo>
                  <a:pt x="97" y="1006"/>
                </a:lnTo>
                <a:lnTo>
                  <a:pt x="0" y="903"/>
                </a:lnTo>
                <a:lnTo>
                  <a:pt x="97" y="747"/>
                </a:lnTo>
                <a:lnTo>
                  <a:pt x="50" y="556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27680" y="4689360"/>
            <a:ext cx="79200" cy="824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761080" y="4765680"/>
            <a:ext cx="90360" cy="903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913360" y="4629240"/>
            <a:ext cx="9036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84960" y="4214880"/>
            <a:ext cx="447480" cy="44748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5661000" y="4543560"/>
            <a:ext cx="149400" cy="1508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665680" y="4680000"/>
            <a:ext cx="114480" cy="1141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37080" y="4325760"/>
            <a:ext cx="9237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460840" y="4325760"/>
            <a:ext cx="376560" cy="378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610080" y="2668680"/>
            <a:ext cx="4921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90800" y="2664000"/>
            <a:ext cx="0" cy="1825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014640" y="2851200"/>
            <a:ext cx="23184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778200" y="2847960"/>
            <a:ext cx="2113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586320" y="1722600"/>
            <a:ext cx="250560" cy="14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600360" y="1716120"/>
            <a:ext cx="0" cy="9651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865600" y="2422440"/>
            <a:ext cx="150840" cy="57240"/>
            <a:chOff x="2865600" y="2422440"/>
            <a:chExt cx="150840" cy="57240"/>
          </a:xfrm>
        </p:grpSpPr>
        <p:sp>
          <p:nvSpPr>
            <p:cNvPr id="473" name=""/>
            <p:cNvSpPr/>
            <p:nvPr/>
          </p:nvSpPr>
          <p:spPr>
            <a:xfrm>
              <a:off x="2865600" y="2422440"/>
              <a:ext cx="3168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95480" y="2440080"/>
              <a:ext cx="88920" cy="219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982960" y="2448000"/>
              <a:ext cx="33480" cy="3168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2541600" y="2857680"/>
            <a:ext cx="745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762280" y="2773440"/>
            <a:ext cx="101520" cy="507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936880" y="2668680"/>
            <a:ext cx="6555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247920" y="2665440"/>
            <a:ext cx="0" cy="1951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4108320" y="2774880"/>
            <a:ext cx="136800" cy="90720"/>
          </a:xfrm>
          <a:prstGeom prst="line">
            <a:avLst/>
          </a:prstGeom>
          <a:ln w="1015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91120" y="2246400"/>
            <a:ext cx="371880" cy="803520"/>
          </a:xfrm>
          <a:custGeom>
            <a:avLst/>
            <a:gdLst/>
            <a:ahLst/>
            <a:rect l="0" t="0" r="r" b="b"/>
            <a:pathLst>
              <a:path w="1033" h="2232">
                <a:moveTo>
                  <a:pt x="37" y="118"/>
                </a:moveTo>
                <a:lnTo>
                  <a:pt x="479" y="0"/>
                </a:lnTo>
                <a:lnTo>
                  <a:pt x="1033" y="2129"/>
                </a:lnTo>
                <a:lnTo>
                  <a:pt x="575" y="2232"/>
                </a:lnTo>
                <a:lnTo>
                  <a:pt x="429" y="1674"/>
                </a:lnTo>
                <a:lnTo>
                  <a:pt x="0" y="1674"/>
                </a:lnTo>
                <a:lnTo>
                  <a:pt x="0" y="1484"/>
                </a:lnTo>
                <a:lnTo>
                  <a:pt x="336" y="1317"/>
                </a:lnTo>
                <a:lnTo>
                  <a:pt x="183" y="737"/>
                </a:lnTo>
                <a:lnTo>
                  <a:pt x="37" y="118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419720" y="2908440"/>
            <a:ext cx="745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694480" y="3557520"/>
            <a:ext cx="317880" cy="608400"/>
          </a:xfrm>
          <a:custGeom>
            <a:avLst/>
            <a:gdLst/>
            <a:ahLst/>
            <a:rect l="0" t="0" r="r" b="b"/>
            <a:pathLst>
              <a:path w="883" h="1690">
                <a:moveTo>
                  <a:pt x="39" y="249"/>
                </a:moveTo>
                <a:lnTo>
                  <a:pt x="290" y="0"/>
                </a:lnTo>
                <a:lnTo>
                  <a:pt x="378" y="87"/>
                </a:lnTo>
                <a:lnTo>
                  <a:pt x="317" y="148"/>
                </a:lnTo>
                <a:lnTo>
                  <a:pt x="383" y="214"/>
                </a:lnTo>
                <a:lnTo>
                  <a:pt x="534" y="214"/>
                </a:lnTo>
                <a:lnTo>
                  <a:pt x="534" y="42"/>
                </a:lnTo>
                <a:lnTo>
                  <a:pt x="883" y="42"/>
                </a:lnTo>
                <a:lnTo>
                  <a:pt x="883" y="1277"/>
                </a:lnTo>
                <a:lnTo>
                  <a:pt x="564" y="1277"/>
                </a:lnTo>
                <a:lnTo>
                  <a:pt x="564" y="1690"/>
                </a:lnTo>
                <a:lnTo>
                  <a:pt x="196" y="1690"/>
                </a:lnTo>
                <a:lnTo>
                  <a:pt x="196" y="883"/>
                </a:lnTo>
                <a:lnTo>
                  <a:pt x="0" y="883"/>
                </a:lnTo>
                <a:lnTo>
                  <a:pt x="0" y="608"/>
                </a:lnTo>
                <a:lnTo>
                  <a:pt x="263" y="608"/>
                </a:lnTo>
                <a:lnTo>
                  <a:pt x="263" y="457"/>
                </a:lnTo>
                <a:lnTo>
                  <a:pt x="39" y="249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436920" y="3813120"/>
            <a:ext cx="22543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5483160" y="3527280"/>
            <a:ext cx="0" cy="6987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52800" y="4916520"/>
            <a:ext cx="1144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14720" y="4919760"/>
            <a:ext cx="0" cy="540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010040" y="4975200"/>
            <a:ext cx="190440" cy="666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197240" y="5038560"/>
            <a:ext cx="227160" cy="18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22600" y="5013360"/>
            <a:ext cx="47520" cy="475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470480" y="5037120"/>
            <a:ext cx="442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14760" y="5021280"/>
            <a:ext cx="31680" cy="30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479840" y="4449600"/>
            <a:ext cx="276480" cy="412920"/>
            <a:chOff x="4479840" y="4449600"/>
            <a:chExt cx="276480" cy="412920"/>
          </a:xfrm>
        </p:grpSpPr>
        <p:sp>
          <p:nvSpPr>
            <p:cNvPr id="494" name=""/>
            <p:cNvSpPr/>
            <p:nvPr/>
          </p:nvSpPr>
          <p:spPr>
            <a:xfrm flipV="1">
              <a:off x="4479840" y="4546440"/>
              <a:ext cx="0" cy="2811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81640" y="4546440"/>
              <a:ext cx="205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48240" y="4545000"/>
              <a:ext cx="284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43560" y="4508640"/>
              <a:ext cx="0" cy="36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05400" y="4508640"/>
              <a:ext cx="0" cy="36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4572000" y="4692600"/>
              <a:ext cx="0" cy="1364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4511520" y="4821120"/>
              <a:ext cx="0" cy="414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4484520" y="4824360"/>
              <a:ext cx="288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4545000" y="4824360"/>
              <a:ext cx="2556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4546440" y="4822920"/>
              <a:ext cx="0" cy="396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568760" y="4694400"/>
              <a:ext cx="1429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67320" y="4675320"/>
              <a:ext cx="123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4691160" y="4545000"/>
              <a:ext cx="0" cy="1317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711680" y="4545000"/>
              <a:ext cx="0" cy="1522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4646520" y="4543560"/>
              <a:ext cx="446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713120" y="4543560"/>
              <a:ext cx="432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4646520" y="4449600"/>
              <a:ext cx="0" cy="954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4756320" y="4449600"/>
              <a:ext cx="0" cy="939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5240" y="4543560"/>
              <a:ext cx="0" cy="1332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4448160" y="5059440"/>
            <a:ext cx="0" cy="745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97400" y="5132520"/>
            <a:ext cx="1126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400640" y="5138640"/>
            <a:ext cx="111240" cy="554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527720" y="4329000"/>
            <a:ext cx="0" cy="2253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3557520" y="4325760"/>
            <a:ext cx="97164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981160" y="2338560"/>
            <a:ext cx="381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2909880" y="2332080"/>
            <a:ext cx="90360" cy="252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000240" y="2354400"/>
            <a:ext cx="0" cy="9684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486320" y="4552920"/>
            <a:ext cx="81000" cy="135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53000" y="4476600"/>
            <a:ext cx="96840" cy="60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565520" y="4684680"/>
            <a:ext cx="1350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700520" y="4538520"/>
            <a:ext cx="0" cy="1461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951280" y="1968480"/>
            <a:ext cx="97200" cy="125640"/>
          </a:xfrm>
          <a:custGeom>
            <a:avLst/>
            <a:gdLst/>
            <a:ahLst/>
            <a:rect l="0" t="0" r="r" b="b"/>
            <a:pathLst>
              <a:path w="270" h="349">
                <a:moveTo>
                  <a:pt x="0" y="286"/>
                </a:moveTo>
                <a:lnTo>
                  <a:pt x="84" y="0"/>
                </a:lnTo>
                <a:lnTo>
                  <a:pt x="270" y="60"/>
                </a:lnTo>
                <a:lnTo>
                  <a:pt x="186" y="349"/>
                </a:lnTo>
                <a:lnTo>
                  <a:pt x="0" y="28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025800" y="2095560"/>
            <a:ext cx="352440" cy="114120"/>
            <a:chOff x="3025800" y="2095560"/>
            <a:chExt cx="352440" cy="114120"/>
          </a:xfrm>
        </p:grpSpPr>
        <p:sp>
          <p:nvSpPr>
            <p:cNvPr id="527" name=""/>
            <p:cNvSpPr/>
            <p:nvPr/>
          </p:nvSpPr>
          <p:spPr>
            <a:xfrm>
              <a:off x="3025800" y="2095560"/>
              <a:ext cx="554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95640" y="2117880"/>
              <a:ext cx="55440" cy="1872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74840" y="2143080"/>
              <a:ext cx="572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47920" y="2166840"/>
              <a:ext cx="5580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21000" y="2190600"/>
              <a:ext cx="572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375000" y="2209680"/>
            <a:ext cx="3240" cy="542880"/>
            <a:chOff x="3375000" y="2209680"/>
            <a:chExt cx="3240" cy="542880"/>
          </a:xfrm>
        </p:grpSpPr>
        <p:sp>
          <p:nvSpPr>
            <p:cNvPr id="533" name=""/>
            <p:cNvSpPr/>
            <p:nvPr/>
          </p:nvSpPr>
          <p:spPr>
            <a:xfrm>
              <a:off x="3378240" y="220968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78240" y="230976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76440" y="2403360"/>
              <a:ext cx="0" cy="748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75000" y="250992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75000" y="261288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375000" y="2708280"/>
              <a:ext cx="1440" cy="442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884320" y="2071800"/>
            <a:ext cx="131760" cy="270000"/>
            <a:chOff x="2884320" y="2071800"/>
            <a:chExt cx="131760" cy="270000"/>
          </a:xfrm>
        </p:grpSpPr>
        <p:grpSp>
          <p:nvGrpSpPr>
            <p:cNvPr id="540" name=""/>
            <p:cNvGrpSpPr/>
            <p:nvPr/>
          </p:nvGrpSpPr>
          <p:grpSpPr>
            <a:xfrm>
              <a:off x="2884320" y="2087640"/>
              <a:ext cx="95400" cy="254160"/>
              <a:chOff x="2884320" y="2087640"/>
              <a:chExt cx="95400" cy="254160"/>
            </a:xfrm>
          </p:grpSpPr>
          <p:sp>
            <p:nvSpPr>
              <p:cNvPr id="541" name=""/>
              <p:cNvSpPr/>
              <p:nvPr/>
            </p:nvSpPr>
            <p:spPr>
              <a:xfrm>
                <a:off x="2884320" y="2308320"/>
                <a:ext cx="30240" cy="33480"/>
              </a:xfrm>
              <a:prstGeom prst="ellipse">
                <a:avLst/>
              </a:prstGeom>
              <a:noFill/>
              <a:ln w="12600">
                <a:solidFill>
                  <a:srgbClr val="969696"/>
                </a:solidFill>
                <a:round/>
              </a:ln>
            </p:spPr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2901960" y="2087640"/>
                <a:ext cx="77760" cy="22680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2952720" y="2076480"/>
              <a:ext cx="63360" cy="205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944800" y="2071800"/>
              <a:ext cx="936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3003480" y="2093760"/>
              <a:ext cx="9720" cy="302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924280" y="2154240"/>
              <a:ext cx="61920" cy="190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2922480" y="2143080"/>
              <a:ext cx="9720" cy="31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2982960" y="2162160"/>
              <a:ext cx="9360" cy="31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860560" y="1943280"/>
            <a:ext cx="208080" cy="299880"/>
            <a:chOff x="2860560" y="1943280"/>
            <a:chExt cx="208080" cy="299880"/>
          </a:xfrm>
        </p:grpSpPr>
        <p:sp>
          <p:nvSpPr>
            <p:cNvPr id="550" name=""/>
            <p:cNvSpPr/>
            <p:nvPr/>
          </p:nvSpPr>
          <p:spPr>
            <a:xfrm flipV="1">
              <a:off x="2909880" y="1962000"/>
              <a:ext cx="63360" cy="2098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75040" y="1963800"/>
              <a:ext cx="2844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30480" y="1979640"/>
              <a:ext cx="25560" cy="64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3025800" y="1984320"/>
              <a:ext cx="27000" cy="1000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25800" y="2081160"/>
              <a:ext cx="42840" cy="158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14640" y="2117880"/>
              <a:ext cx="46080" cy="158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95480" y="2021040"/>
              <a:ext cx="50760" cy="172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002040" y="1943280"/>
              <a:ext cx="12600" cy="266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914560" y="2182680"/>
              <a:ext cx="14400" cy="493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2944800" y="2192400"/>
              <a:ext cx="15840" cy="507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>
              <a:off x="2905200" y="2176560"/>
              <a:ext cx="2376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>
              <a:off x="2959200" y="2195640"/>
              <a:ext cx="2196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2982960" y="2117880"/>
              <a:ext cx="33120" cy="90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60560" y="2146320"/>
              <a:ext cx="49320" cy="1584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 flipV="1">
            <a:off x="3014640" y="1884240"/>
            <a:ext cx="30240" cy="986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4494240" y="4694400"/>
            <a:ext cx="66600" cy="330120"/>
            <a:chOff x="4494240" y="4694400"/>
            <a:chExt cx="66600" cy="330120"/>
          </a:xfrm>
        </p:grpSpPr>
        <p:sp>
          <p:nvSpPr>
            <p:cNvPr id="566" name=""/>
            <p:cNvSpPr/>
            <p:nvPr/>
          </p:nvSpPr>
          <p:spPr>
            <a:xfrm>
              <a:off x="4498920" y="4705200"/>
              <a:ext cx="57240" cy="684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98920" y="4697280"/>
              <a:ext cx="5868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4240" y="46944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60840" y="4695840"/>
              <a:ext cx="0" cy="334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4527720" y="4705200"/>
              <a:ext cx="0" cy="3193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00720" y="4780080"/>
              <a:ext cx="601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494240" y="47610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60840" y="47610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4476600" y="4543560"/>
            <a:ext cx="98280" cy="2840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06840" y="4824360"/>
            <a:ext cx="46080" cy="414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41840" y="4448160"/>
            <a:ext cx="120600" cy="10332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905560" y="1955880"/>
            <a:ext cx="156600" cy="254520"/>
          </a:xfrm>
          <a:custGeom>
            <a:avLst/>
            <a:gdLst/>
            <a:ahLst/>
            <a:rect l="0" t="0" r="r" b="b"/>
            <a:pathLst>
              <a:path w="435" h="707">
                <a:moveTo>
                  <a:pt x="194" y="0"/>
                </a:moveTo>
                <a:lnTo>
                  <a:pt x="0" y="633"/>
                </a:lnTo>
                <a:lnTo>
                  <a:pt x="241" y="707"/>
                </a:lnTo>
                <a:lnTo>
                  <a:pt x="435" y="73"/>
                </a:lnTo>
                <a:lnTo>
                  <a:pt x="194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913120" y="2188080"/>
            <a:ext cx="47880" cy="56160"/>
          </a:xfrm>
          <a:custGeom>
            <a:avLst/>
            <a:gdLst/>
            <a:ahLst/>
            <a:rect l="0" t="0" r="r" b="b"/>
            <a:pathLst>
              <a:path w="133" h="156">
                <a:moveTo>
                  <a:pt x="39" y="0"/>
                </a:moveTo>
                <a:lnTo>
                  <a:pt x="0" y="128"/>
                </a:lnTo>
                <a:lnTo>
                  <a:pt x="93" y="156"/>
                </a:lnTo>
                <a:lnTo>
                  <a:pt x="133" y="28"/>
                </a:lnTo>
                <a:lnTo>
                  <a:pt x="39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830760" y="1496880"/>
            <a:ext cx="846000" cy="284400"/>
            <a:chOff x="3830760" y="1496880"/>
            <a:chExt cx="846000" cy="284400"/>
          </a:xfrm>
        </p:grpSpPr>
        <p:sp>
          <p:nvSpPr>
            <p:cNvPr id="580" name=""/>
            <p:cNvSpPr/>
            <p:nvPr/>
          </p:nvSpPr>
          <p:spPr>
            <a:xfrm>
              <a:off x="3979800" y="1676520"/>
              <a:ext cx="81000" cy="95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4197240" y="1496880"/>
              <a:ext cx="479520" cy="261720"/>
              <a:chOff x="4197240" y="1496880"/>
              <a:chExt cx="479520" cy="261720"/>
            </a:xfrm>
          </p:grpSpPr>
          <p:sp>
            <p:nvSpPr>
              <p:cNvPr id="582" name=""/>
              <p:cNvSpPr/>
              <p:nvPr/>
            </p:nvSpPr>
            <p:spPr>
              <a:xfrm flipV="1">
                <a:off x="4238640" y="1496880"/>
                <a:ext cx="438120" cy="112680"/>
              </a:xfrm>
              <a:prstGeom prst="line">
                <a:avLst/>
              </a:prstGeom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233960" y="1620720"/>
                <a:ext cx="31680" cy="115920"/>
              </a:xfrm>
              <a:prstGeom prst="line">
                <a:avLst/>
              </a:prstGeom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214880" y="1600200"/>
                <a:ext cx="30240" cy="3024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round/>
              </a:ln>
            </p:spPr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97240" y="1698480"/>
                <a:ext cx="37080" cy="60120"/>
              </a:xfrm>
              <a:custGeom>
                <a:avLst/>
                <a:gdLst/>
                <a:ahLst/>
                <a:rect l="0" t="0" r="r" b="b"/>
                <a:pathLst>
                  <a:path w="103" h="167">
                    <a:moveTo>
                      <a:pt x="19" y="85"/>
                    </a:moveTo>
                    <a:lnTo>
                      <a:pt x="40" y="167"/>
                    </a:lnTo>
                    <a:lnTo>
                      <a:pt x="40" y="167"/>
                    </a:lnTo>
                    <a:cubicBezTo>
                      <a:pt x="48" y="165"/>
                      <a:pt x="55" y="162"/>
                      <a:pt x="61" y="158"/>
                    </a:cubicBezTo>
                    <a:cubicBezTo>
                      <a:pt x="74" y="151"/>
                      <a:pt x="84" y="140"/>
                      <a:pt x="92" y="127"/>
                    </a:cubicBezTo>
                    <a:cubicBezTo>
                      <a:pt x="99" y="114"/>
                      <a:pt x="103" y="100"/>
                      <a:pt x="103" y="85"/>
                    </a:cubicBezTo>
                    <a:cubicBezTo>
                      <a:pt x="103" y="70"/>
                      <a:pt x="99" y="56"/>
                      <a:pt x="92" y="43"/>
                    </a:cubicBezTo>
                    <a:cubicBezTo>
                      <a:pt x="84" y="30"/>
                      <a:pt x="74" y="19"/>
                      <a:pt x="61" y="12"/>
                    </a:cubicBezTo>
                    <a:cubicBezTo>
                      <a:pt x="49" y="4"/>
                      <a:pt x="35" y="0"/>
                      <a:pt x="20" y="0"/>
                    </a:cubicBezTo>
                    <a:cubicBezTo>
                      <a:pt x="13" y="0"/>
                      <a:pt x="7" y="1"/>
                      <a:pt x="0" y="3"/>
                    </a:cubicBez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ffcc00"/>
              </a:solidFill>
              <a:ln w="12600">
                <a:solidFill>
                  <a:srgbClr val="ffcc00"/>
                </a:solidFill>
                <a:round/>
              </a:ln>
            </p:spPr>
            <p:txBody>
              <a:bodyPr lIns="96120" rIns="9612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4227480" y="1712880"/>
                <a:ext cx="23760" cy="4680"/>
              </a:xfrm>
              <a:prstGeom prst="line">
                <a:avLst/>
              </a:prstGeom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 flipV="1">
              <a:off x="4105440" y="1611360"/>
              <a:ext cx="0" cy="6192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03640" y="1614600"/>
              <a:ext cx="11124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4122720" y="1739880"/>
              <a:ext cx="1440" cy="4140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3833640" y="1776240"/>
              <a:ext cx="28908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3833640" y="1733400"/>
              <a:ext cx="0" cy="4608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3835440" y="1670040"/>
              <a:ext cx="13176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33640" y="1668600"/>
              <a:ext cx="0" cy="4284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965400" y="1652760"/>
              <a:ext cx="0" cy="1728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979800" y="1652760"/>
              <a:ext cx="1800" cy="1872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3940200" y="1652760"/>
              <a:ext cx="2844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3978360" y="1652760"/>
              <a:ext cx="2844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3940200" y="1603440"/>
              <a:ext cx="0" cy="5076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4006800" y="1601640"/>
              <a:ext cx="0" cy="5112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43360" y="1677960"/>
              <a:ext cx="125280" cy="93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951360" y="1611360"/>
              <a:ext cx="46080" cy="3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4124160" y="1670040"/>
              <a:ext cx="0" cy="3816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3979800" y="1671480"/>
              <a:ext cx="14940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24160" y="1743120"/>
              <a:ext cx="2880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22720" y="1708200"/>
              <a:ext cx="2700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3975120" y="1679400"/>
              <a:ext cx="239760" cy="92160"/>
              <a:chOff x="3975120" y="1679400"/>
              <a:chExt cx="239760" cy="92160"/>
            </a:xfrm>
          </p:grpSpPr>
          <p:sp>
            <p:nvSpPr>
              <p:cNvPr id="607" name=""/>
              <p:cNvSpPr/>
              <p:nvPr/>
            </p:nvSpPr>
            <p:spPr>
              <a:xfrm>
                <a:off x="3975120" y="1725480"/>
                <a:ext cx="21276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184640" y="1714680"/>
                <a:ext cx="30240" cy="3024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round/>
              </a:ln>
            </p:spPr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76560" y="1685880"/>
                <a:ext cx="0" cy="85680"/>
              </a:xfrm>
              <a:prstGeom prst="line">
                <a:avLst/>
              </a:prstGeom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975120" y="1681200"/>
                <a:ext cx="2052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79800" y="1770120"/>
                <a:ext cx="1584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067280" y="1682640"/>
                <a:ext cx="0" cy="82800"/>
              </a:xfrm>
              <a:prstGeom prst="line">
                <a:avLst/>
              </a:prstGeom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064040" y="1679400"/>
                <a:ext cx="20520" cy="1800"/>
              </a:xfrm>
              <a:prstGeom prst="line">
                <a:avLst/>
              </a:prstGeom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071960" y="1765440"/>
                <a:ext cx="1584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3830760" y="1663560"/>
              <a:ext cx="298440" cy="117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935520" y="1600200"/>
              <a:ext cx="76320" cy="57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21280" y="1704960"/>
              <a:ext cx="28440" cy="4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 txBox="1"/>
          <p:nvPr/>
        </p:nvSpPr>
        <p:spPr>
          <a:xfrm>
            <a:off x="2873520" y="784080"/>
            <a:ext cx="202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emble levier de fr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ître-cylindre av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60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979800" y="1676520"/>
            <a:ext cx="81000" cy="954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919240" y="2079720"/>
            <a:ext cx="97200" cy="93960"/>
          </a:xfrm>
          <a:custGeom>
            <a:avLst/>
            <a:gdLst/>
            <a:ahLst/>
            <a:rect l="0" t="0" r="r" b="b"/>
            <a:pathLst>
              <a:path w="270" h="261">
                <a:moveTo>
                  <a:pt x="72" y="0"/>
                </a:moveTo>
                <a:lnTo>
                  <a:pt x="270" y="57"/>
                </a:lnTo>
                <a:lnTo>
                  <a:pt x="196" y="261"/>
                </a:lnTo>
                <a:lnTo>
                  <a:pt x="0" y="198"/>
                </a:lnTo>
                <a:lnTo>
                  <a:pt x="7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732640" y="4618080"/>
            <a:ext cx="606600" cy="593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813280" y="4697280"/>
            <a:ext cx="446040" cy="446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998880" y="2496960"/>
            <a:ext cx="922320" cy="8953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18040" y="2611440"/>
            <a:ext cx="68580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113360" y="2611440"/>
            <a:ext cx="68724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189320" y="2496960"/>
            <a:ext cx="65160" cy="1296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103480" y="2438280"/>
            <a:ext cx="923760" cy="8985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233440" y="2548080"/>
            <a:ext cx="68580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352600" y="2676600"/>
            <a:ext cx="444600" cy="428760"/>
          </a:xfrm>
          <a:prstGeom prst="ellipse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37200" y="2733840"/>
            <a:ext cx="4446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65280" y="1944720"/>
            <a:ext cx="594000" cy="1049760"/>
          </a:xfrm>
          <a:custGeom>
            <a:avLst/>
            <a:gdLst/>
            <a:ahLst/>
            <a:rect l="0" t="0" r="r" b="b"/>
            <a:pathLst>
              <a:path w="1650" h="2916">
                <a:moveTo>
                  <a:pt x="0" y="2773"/>
                </a:moveTo>
                <a:lnTo>
                  <a:pt x="32" y="2789"/>
                </a:lnTo>
                <a:lnTo>
                  <a:pt x="474" y="2916"/>
                </a:lnTo>
                <a:lnTo>
                  <a:pt x="555" y="2662"/>
                </a:lnTo>
                <a:lnTo>
                  <a:pt x="1014" y="1160"/>
                </a:lnTo>
                <a:lnTo>
                  <a:pt x="1585" y="1287"/>
                </a:lnTo>
                <a:lnTo>
                  <a:pt x="1650" y="1081"/>
                </a:lnTo>
                <a:lnTo>
                  <a:pt x="1070" y="722"/>
                </a:lnTo>
                <a:lnTo>
                  <a:pt x="1247" y="111"/>
                </a:lnTo>
                <a:lnTo>
                  <a:pt x="780" y="0"/>
                </a:lnTo>
                <a:lnTo>
                  <a:pt x="0" y="2773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687760" y="2816280"/>
            <a:ext cx="33120" cy="1116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2920" bIns="-52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716200" y="2805120"/>
            <a:ext cx="57240" cy="57240"/>
          </a:xfrm>
          <a:prstGeom prst="ellipse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05120" y="2496960"/>
            <a:ext cx="343440" cy="446400"/>
          </a:xfrm>
          <a:custGeom>
            <a:avLst/>
            <a:gdLst/>
            <a:ahLst/>
            <a:rect l="0" t="0" r="r" b="b"/>
            <a:pathLst>
              <a:path w="954" h="1240">
                <a:moveTo>
                  <a:pt x="174" y="0"/>
                </a:moveTo>
                <a:lnTo>
                  <a:pt x="360" y="7"/>
                </a:lnTo>
                <a:lnTo>
                  <a:pt x="464" y="174"/>
                </a:lnTo>
                <a:lnTo>
                  <a:pt x="628" y="193"/>
                </a:lnTo>
                <a:lnTo>
                  <a:pt x="954" y="938"/>
                </a:lnTo>
                <a:lnTo>
                  <a:pt x="869" y="1113"/>
                </a:lnTo>
                <a:lnTo>
                  <a:pt x="875" y="1240"/>
                </a:lnTo>
                <a:lnTo>
                  <a:pt x="273" y="1083"/>
                </a:lnTo>
                <a:lnTo>
                  <a:pt x="281" y="1083"/>
                </a:lnTo>
                <a:lnTo>
                  <a:pt x="270" y="1073"/>
                </a:lnTo>
                <a:lnTo>
                  <a:pt x="273" y="1075"/>
                </a:lnTo>
                <a:lnTo>
                  <a:pt x="281" y="1081"/>
                </a:lnTo>
                <a:lnTo>
                  <a:pt x="0" y="455"/>
                </a:lnTo>
                <a:lnTo>
                  <a:pt x="174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2805120" y="2448000"/>
            <a:ext cx="71280" cy="2109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852640" y="2617920"/>
            <a:ext cx="88920" cy="87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24280" y="2800440"/>
            <a:ext cx="92160" cy="87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903400" y="2708280"/>
            <a:ext cx="77760" cy="810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91040" y="2627280"/>
            <a:ext cx="8892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86280" y="2801880"/>
            <a:ext cx="8892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037040" y="2716200"/>
            <a:ext cx="84240" cy="792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025800" y="1895400"/>
            <a:ext cx="4125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443400" y="1876320"/>
            <a:ext cx="0" cy="19526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5465880" y="3525840"/>
            <a:ext cx="1951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5654520" y="3514680"/>
            <a:ext cx="96840" cy="1033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57520" y="2741760"/>
            <a:ext cx="0" cy="15732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559320" y="2743200"/>
            <a:ext cx="4791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2987640" y="2743200"/>
            <a:ext cx="56988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921280" y="4794120"/>
            <a:ext cx="246240" cy="246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646600" y="4532400"/>
            <a:ext cx="416160" cy="362160"/>
          </a:xfrm>
          <a:custGeom>
            <a:avLst/>
            <a:gdLst/>
            <a:ahLst/>
            <a:rect l="0" t="0" r="r" b="b"/>
            <a:pathLst>
              <a:path w="1156" h="1006">
                <a:moveTo>
                  <a:pt x="50" y="556"/>
                </a:moveTo>
                <a:lnTo>
                  <a:pt x="698" y="0"/>
                </a:lnTo>
                <a:lnTo>
                  <a:pt x="878" y="68"/>
                </a:lnTo>
                <a:lnTo>
                  <a:pt x="960" y="23"/>
                </a:lnTo>
                <a:lnTo>
                  <a:pt x="1055" y="92"/>
                </a:lnTo>
                <a:lnTo>
                  <a:pt x="1013" y="291"/>
                </a:lnTo>
                <a:lnTo>
                  <a:pt x="1156" y="577"/>
                </a:lnTo>
                <a:lnTo>
                  <a:pt x="1037" y="665"/>
                </a:lnTo>
                <a:lnTo>
                  <a:pt x="849" y="548"/>
                </a:lnTo>
                <a:lnTo>
                  <a:pt x="499" y="969"/>
                </a:lnTo>
                <a:lnTo>
                  <a:pt x="293" y="919"/>
                </a:lnTo>
                <a:lnTo>
                  <a:pt x="97" y="1006"/>
                </a:lnTo>
                <a:lnTo>
                  <a:pt x="0" y="903"/>
                </a:lnTo>
                <a:lnTo>
                  <a:pt x="97" y="747"/>
                </a:lnTo>
                <a:lnTo>
                  <a:pt x="50" y="556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27680" y="4689360"/>
            <a:ext cx="79200" cy="824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61080" y="4765680"/>
            <a:ext cx="90360" cy="903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913360" y="4629240"/>
            <a:ext cx="9036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484960" y="4214880"/>
            <a:ext cx="447480" cy="44748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5661000" y="4543560"/>
            <a:ext cx="149400" cy="1508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665680" y="4680000"/>
            <a:ext cx="114480" cy="1141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537080" y="4325760"/>
            <a:ext cx="9237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60840" y="4325760"/>
            <a:ext cx="376560" cy="378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610080" y="2668680"/>
            <a:ext cx="4921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790800" y="2664000"/>
            <a:ext cx="0" cy="1825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3014640" y="2851200"/>
            <a:ext cx="23184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778200" y="2847960"/>
            <a:ext cx="2113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586320" y="1722600"/>
            <a:ext cx="250560" cy="14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197240" y="1496880"/>
            <a:ext cx="479520" cy="261720"/>
            <a:chOff x="4197240" y="1496880"/>
            <a:chExt cx="479520" cy="261720"/>
          </a:xfrm>
        </p:grpSpPr>
        <p:sp>
          <p:nvSpPr>
            <p:cNvPr id="666" name=""/>
            <p:cNvSpPr/>
            <p:nvPr/>
          </p:nvSpPr>
          <p:spPr>
            <a:xfrm flipV="1">
              <a:off x="4238640" y="1496880"/>
              <a:ext cx="438120" cy="112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33960" y="1620720"/>
              <a:ext cx="31680" cy="1159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14880" y="1600200"/>
              <a:ext cx="3024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97240" y="1698480"/>
              <a:ext cx="37080" cy="60120"/>
            </a:xfrm>
            <a:custGeom>
              <a:avLst/>
              <a:gdLst/>
              <a:ahLst/>
              <a:rect l="0" t="0" r="r" b="b"/>
              <a:pathLst>
                <a:path fill="none" w="103" h="167">
                  <a:moveTo>
                    <a:pt x="40" y="167"/>
                  </a:moveTo>
                  <a:lnTo>
                    <a:pt x="40" y="167"/>
                  </a:lnTo>
                  <a:cubicBezTo>
                    <a:pt x="48" y="165"/>
                    <a:pt x="55" y="162"/>
                    <a:pt x="61" y="158"/>
                  </a:cubicBezTo>
                  <a:cubicBezTo>
                    <a:pt x="74" y="151"/>
                    <a:pt x="84" y="140"/>
                    <a:pt x="92" y="127"/>
                  </a:cubicBezTo>
                  <a:cubicBezTo>
                    <a:pt x="99" y="114"/>
                    <a:pt x="103" y="100"/>
                    <a:pt x="103" y="85"/>
                  </a:cubicBezTo>
                  <a:cubicBezTo>
                    <a:pt x="103" y="70"/>
                    <a:pt x="99" y="56"/>
                    <a:pt x="92" y="43"/>
                  </a:cubicBezTo>
                  <a:cubicBezTo>
                    <a:pt x="84" y="30"/>
                    <a:pt x="74" y="19"/>
                    <a:pt x="61" y="12"/>
                  </a:cubicBezTo>
                  <a:cubicBezTo>
                    <a:pt x="49" y="4"/>
                    <a:pt x="35" y="0"/>
                    <a:pt x="20" y="0"/>
                  </a:cubicBezTo>
                  <a:cubicBezTo>
                    <a:pt x="13" y="0"/>
                    <a:pt x="7" y="1"/>
                    <a:pt x="0" y="3"/>
                  </a:cubicBezTo>
                </a:path>
              </a:pathLst>
            </a:custGeom>
            <a:ln w="12600">
              <a:solidFill>
                <a:srgbClr val="969696"/>
              </a:solidFill>
              <a:round/>
            </a:ln>
          </p:spPr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4227480" y="1712880"/>
              <a:ext cx="23760" cy="4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4105440" y="1611360"/>
            <a:ext cx="0" cy="619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103640" y="1614600"/>
            <a:ext cx="1112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122720" y="1739880"/>
            <a:ext cx="1440" cy="414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3833640" y="1776240"/>
            <a:ext cx="2890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833640" y="1733400"/>
            <a:ext cx="0" cy="460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835440" y="1670040"/>
            <a:ext cx="13176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833640" y="1668600"/>
            <a:ext cx="0" cy="4284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3965400" y="1652760"/>
            <a:ext cx="0" cy="172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3979800" y="1652760"/>
            <a:ext cx="1800" cy="187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3940200" y="1652760"/>
            <a:ext cx="284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978360" y="1652760"/>
            <a:ext cx="284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3940200" y="1603440"/>
            <a:ext cx="0" cy="507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4006800" y="1601640"/>
            <a:ext cx="0" cy="511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600360" y="1716120"/>
            <a:ext cx="0" cy="9651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865600" y="2422440"/>
            <a:ext cx="150840" cy="57240"/>
            <a:chOff x="2865600" y="2422440"/>
            <a:chExt cx="150840" cy="57240"/>
          </a:xfrm>
        </p:grpSpPr>
        <p:sp>
          <p:nvSpPr>
            <p:cNvPr id="686" name=""/>
            <p:cNvSpPr/>
            <p:nvPr/>
          </p:nvSpPr>
          <p:spPr>
            <a:xfrm>
              <a:off x="2865600" y="2422440"/>
              <a:ext cx="3168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5480" y="2440080"/>
              <a:ext cx="88920" cy="219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82960" y="2448000"/>
              <a:ext cx="33480" cy="3168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541600" y="2857680"/>
            <a:ext cx="745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762280" y="2773440"/>
            <a:ext cx="101520" cy="507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2936880" y="2668680"/>
            <a:ext cx="6555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3247920" y="2665440"/>
            <a:ext cx="0" cy="1951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4108320" y="2774880"/>
            <a:ext cx="136800" cy="90720"/>
          </a:xfrm>
          <a:prstGeom prst="line">
            <a:avLst/>
          </a:prstGeom>
          <a:ln w="1015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191120" y="2246400"/>
            <a:ext cx="371880" cy="803520"/>
          </a:xfrm>
          <a:custGeom>
            <a:avLst/>
            <a:gdLst/>
            <a:ahLst/>
            <a:rect l="0" t="0" r="r" b="b"/>
            <a:pathLst>
              <a:path w="1033" h="2232">
                <a:moveTo>
                  <a:pt x="37" y="118"/>
                </a:moveTo>
                <a:lnTo>
                  <a:pt x="479" y="0"/>
                </a:lnTo>
                <a:lnTo>
                  <a:pt x="1033" y="2129"/>
                </a:lnTo>
                <a:lnTo>
                  <a:pt x="575" y="2232"/>
                </a:lnTo>
                <a:lnTo>
                  <a:pt x="429" y="1674"/>
                </a:lnTo>
                <a:lnTo>
                  <a:pt x="0" y="1674"/>
                </a:lnTo>
                <a:lnTo>
                  <a:pt x="0" y="1484"/>
                </a:lnTo>
                <a:lnTo>
                  <a:pt x="336" y="1317"/>
                </a:lnTo>
                <a:lnTo>
                  <a:pt x="183" y="737"/>
                </a:lnTo>
                <a:lnTo>
                  <a:pt x="37" y="118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2908440"/>
            <a:ext cx="745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694480" y="3557520"/>
            <a:ext cx="317880" cy="608400"/>
          </a:xfrm>
          <a:custGeom>
            <a:avLst/>
            <a:gdLst/>
            <a:ahLst/>
            <a:rect l="0" t="0" r="r" b="b"/>
            <a:pathLst>
              <a:path w="883" h="1690">
                <a:moveTo>
                  <a:pt x="39" y="249"/>
                </a:moveTo>
                <a:lnTo>
                  <a:pt x="290" y="0"/>
                </a:lnTo>
                <a:lnTo>
                  <a:pt x="378" y="87"/>
                </a:lnTo>
                <a:lnTo>
                  <a:pt x="317" y="148"/>
                </a:lnTo>
                <a:lnTo>
                  <a:pt x="383" y="214"/>
                </a:lnTo>
                <a:lnTo>
                  <a:pt x="534" y="214"/>
                </a:lnTo>
                <a:lnTo>
                  <a:pt x="534" y="42"/>
                </a:lnTo>
                <a:lnTo>
                  <a:pt x="883" y="42"/>
                </a:lnTo>
                <a:lnTo>
                  <a:pt x="883" y="1277"/>
                </a:lnTo>
                <a:lnTo>
                  <a:pt x="564" y="1277"/>
                </a:lnTo>
                <a:lnTo>
                  <a:pt x="564" y="1690"/>
                </a:lnTo>
                <a:lnTo>
                  <a:pt x="196" y="1690"/>
                </a:lnTo>
                <a:lnTo>
                  <a:pt x="196" y="883"/>
                </a:lnTo>
                <a:lnTo>
                  <a:pt x="0" y="883"/>
                </a:lnTo>
                <a:lnTo>
                  <a:pt x="0" y="608"/>
                </a:lnTo>
                <a:lnTo>
                  <a:pt x="263" y="608"/>
                </a:lnTo>
                <a:lnTo>
                  <a:pt x="263" y="457"/>
                </a:lnTo>
                <a:lnTo>
                  <a:pt x="39" y="249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3436920" y="3813120"/>
            <a:ext cx="22543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5483160" y="3527280"/>
            <a:ext cx="0" cy="6987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0" y="4916520"/>
            <a:ext cx="1144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014720" y="4919760"/>
            <a:ext cx="0" cy="540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010040" y="4975200"/>
            <a:ext cx="190440" cy="666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197240" y="5038560"/>
            <a:ext cx="227160" cy="18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422600" y="5013360"/>
            <a:ext cx="47520" cy="475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470480" y="5037120"/>
            <a:ext cx="442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514760" y="5021280"/>
            <a:ext cx="31680" cy="30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4479840" y="4449600"/>
            <a:ext cx="276480" cy="412920"/>
            <a:chOff x="4479840" y="4449600"/>
            <a:chExt cx="276480" cy="412920"/>
          </a:xfrm>
        </p:grpSpPr>
        <p:sp>
          <p:nvSpPr>
            <p:cNvPr id="707" name=""/>
            <p:cNvSpPr/>
            <p:nvPr/>
          </p:nvSpPr>
          <p:spPr>
            <a:xfrm flipV="1">
              <a:off x="4479840" y="4546440"/>
              <a:ext cx="0" cy="2811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481640" y="4546440"/>
              <a:ext cx="205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48240" y="4545000"/>
              <a:ext cx="284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43560" y="4508640"/>
              <a:ext cx="0" cy="36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05400" y="4508640"/>
              <a:ext cx="0" cy="36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4572000" y="4692600"/>
              <a:ext cx="0" cy="1364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4511520" y="4821120"/>
              <a:ext cx="0" cy="414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4484520" y="4824360"/>
              <a:ext cx="288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4545000" y="4824360"/>
              <a:ext cx="2556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4546440" y="4822920"/>
              <a:ext cx="0" cy="396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68760" y="4694400"/>
              <a:ext cx="1429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67320" y="4675320"/>
              <a:ext cx="123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691160" y="4545000"/>
              <a:ext cx="0" cy="1317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4711680" y="4545000"/>
              <a:ext cx="0" cy="1522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4646520" y="4543560"/>
              <a:ext cx="446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713120" y="4543560"/>
              <a:ext cx="432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4646520" y="4449600"/>
              <a:ext cx="0" cy="954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4756320" y="4449600"/>
              <a:ext cx="0" cy="939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75240" y="4543560"/>
              <a:ext cx="0" cy="1332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4448160" y="5059440"/>
            <a:ext cx="0" cy="745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397400" y="5132520"/>
            <a:ext cx="1126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00640" y="5138640"/>
            <a:ext cx="111240" cy="554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527720" y="4329000"/>
            <a:ext cx="0" cy="2253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3557520" y="4325760"/>
            <a:ext cx="97164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981160" y="2338560"/>
            <a:ext cx="381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2909880" y="2332080"/>
            <a:ext cx="90360" cy="252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3000240" y="2354400"/>
            <a:ext cx="0" cy="9684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486320" y="4552920"/>
            <a:ext cx="81000" cy="135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653000" y="4476600"/>
            <a:ext cx="96840" cy="60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565520" y="4684680"/>
            <a:ext cx="1350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700520" y="4538520"/>
            <a:ext cx="0" cy="1461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951280" y="1968480"/>
            <a:ext cx="97200" cy="125640"/>
          </a:xfrm>
          <a:custGeom>
            <a:avLst/>
            <a:gdLst/>
            <a:ahLst/>
            <a:rect l="0" t="0" r="r" b="b"/>
            <a:pathLst>
              <a:path w="270" h="349">
                <a:moveTo>
                  <a:pt x="0" y="286"/>
                </a:moveTo>
                <a:lnTo>
                  <a:pt x="84" y="0"/>
                </a:lnTo>
                <a:lnTo>
                  <a:pt x="270" y="60"/>
                </a:lnTo>
                <a:lnTo>
                  <a:pt x="186" y="349"/>
                </a:lnTo>
                <a:lnTo>
                  <a:pt x="0" y="28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025800" y="2095560"/>
            <a:ext cx="352440" cy="114120"/>
            <a:chOff x="3025800" y="2095560"/>
            <a:chExt cx="352440" cy="114120"/>
          </a:xfrm>
        </p:grpSpPr>
        <p:sp>
          <p:nvSpPr>
            <p:cNvPr id="740" name=""/>
            <p:cNvSpPr/>
            <p:nvPr/>
          </p:nvSpPr>
          <p:spPr>
            <a:xfrm>
              <a:off x="3025800" y="2095560"/>
              <a:ext cx="554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95640" y="2117880"/>
              <a:ext cx="55440" cy="1872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174840" y="2143080"/>
              <a:ext cx="572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247920" y="2166840"/>
              <a:ext cx="5580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321000" y="2190600"/>
              <a:ext cx="572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3375000" y="2209680"/>
            <a:ext cx="3240" cy="542880"/>
            <a:chOff x="3375000" y="2209680"/>
            <a:chExt cx="3240" cy="542880"/>
          </a:xfrm>
        </p:grpSpPr>
        <p:sp>
          <p:nvSpPr>
            <p:cNvPr id="746" name=""/>
            <p:cNvSpPr/>
            <p:nvPr/>
          </p:nvSpPr>
          <p:spPr>
            <a:xfrm>
              <a:off x="3378240" y="220968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378240" y="230976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376440" y="2403360"/>
              <a:ext cx="0" cy="748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75000" y="250992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75000" y="261288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3375000" y="2708280"/>
              <a:ext cx="1440" cy="442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3843360" y="1677960"/>
            <a:ext cx="125280" cy="936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951360" y="1611360"/>
            <a:ext cx="46080" cy="3492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4124160" y="1670040"/>
            <a:ext cx="0" cy="381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3979800" y="1671480"/>
            <a:ext cx="1494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124160" y="1743120"/>
            <a:ext cx="288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22720" y="1708200"/>
            <a:ext cx="270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975120" y="1679400"/>
            <a:ext cx="239760" cy="92160"/>
            <a:chOff x="3975120" y="1679400"/>
            <a:chExt cx="239760" cy="92160"/>
          </a:xfrm>
        </p:grpSpPr>
        <p:sp>
          <p:nvSpPr>
            <p:cNvPr id="759" name=""/>
            <p:cNvSpPr/>
            <p:nvPr/>
          </p:nvSpPr>
          <p:spPr>
            <a:xfrm>
              <a:off x="3975120" y="1725480"/>
              <a:ext cx="21276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184640" y="1714680"/>
              <a:ext cx="3024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76560" y="1685880"/>
              <a:ext cx="0" cy="85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975120" y="1681200"/>
              <a:ext cx="205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979800" y="1770120"/>
              <a:ext cx="15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67280" y="1682640"/>
              <a:ext cx="0" cy="828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064040" y="1679400"/>
              <a:ext cx="20520" cy="18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71960" y="1765440"/>
              <a:ext cx="15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884320" y="2071800"/>
            <a:ext cx="131760" cy="270000"/>
            <a:chOff x="2884320" y="2071800"/>
            <a:chExt cx="131760" cy="270000"/>
          </a:xfrm>
        </p:grpSpPr>
        <p:grpSp>
          <p:nvGrpSpPr>
            <p:cNvPr id="768" name=""/>
            <p:cNvGrpSpPr/>
            <p:nvPr/>
          </p:nvGrpSpPr>
          <p:grpSpPr>
            <a:xfrm>
              <a:off x="2884320" y="2087640"/>
              <a:ext cx="95400" cy="254160"/>
              <a:chOff x="2884320" y="2087640"/>
              <a:chExt cx="95400" cy="254160"/>
            </a:xfrm>
          </p:grpSpPr>
          <p:sp>
            <p:nvSpPr>
              <p:cNvPr id="769" name=""/>
              <p:cNvSpPr/>
              <p:nvPr/>
            </p:nvSpPr>
            <p:spPr>
              <a:xfrm>
                <a:off x="2884320" y="2308320"/>
                <a:ext cx="30240" cy="33480"/>
              </a:xfrm>
              <a:prstGeom prst="ellipse">
                <a:avLst/>
              </a:prstGeom>
              <a:noFill/>
              <a:ln w="12600">
                <a:solidFill>
                  <a:srgbClr val="969696"/>
                </a:solidFill>
                <a:round/>
              </a:ln>
            </p:spPr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2901960" y="2087640"/>
                <a:ext cx="77760" cy="22680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2952720" y="2076480"/>
              <a:ext cx="63360" cy="205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2944800" y="2071800"/>
              <a:ext cx="936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3003480" y="2093760"/>
              <a:ext cx="9720" cy="302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24280" y="2154240"/>
              <a:ext cx="61920" cy="190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922480" y="2143080"/>
              <a:ext cx="9720" cy="31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82960" y="2162160"/>
              <a:ext cx="9360" cy="31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2860560" y="1943280"/>
            <a:ext cx="208080" cy="299880"/>
            <a:chOff x="2860560" y="1943280"/>
            <a:chExt cx="208080" cy="299880"/>
          </a:xfrm>
        </p:grpSpPr>
        <p:sp>
          <p:nvSpPr>
            <p:cNvPr id="778" name=""/>
            <p:cNvSpPr/>
            <p:nvPr/>
          </p:nvSpPr>
          <p:spPr>
            <a:xfrm flipV="1">
              <a:off x="2909880" y="1962000"/>
              <a:ext cx="63360" cy="2098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975040" y="1963800"/>
              <a:ext cx="2844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30480" y="1979640"/>
              <a:ext cx="25560" cy="64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3025800" y="1984320"/>
              <a:ext cx="27000" cy="1000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25800" y="2081160"/>
              <a:ext cx="42840" cy="158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14640" y="2117880"/>
              <a:ext cx="46080" cy="158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95480" y="2021040"/>
              <a:ext cx="50760" cy="172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3002040" y="1943280"/>
              <a:ext cx="12600" cy="266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2914560" y="2182680"/>
              <a:ext cx="14400" cy="493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944800" y="2192400"/>
              <a:ext cx="15840" cy="507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2905200" y="2176560"/>
              <a:ext cx="2376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flipV="1">
              <a:off x="2959200" y="2195640"/>
              <a:ext cx="2196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2982960" y="2117880"/>
              <a:ext cx="33120" cy="90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60560" y="2146320"/>
              <a:ext cx="49320" cy="1584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"/>
          <p:cNvSpPr/>
          <p:nvPr/>
        </p:nvSpPr>
        <p:spPr>
          <a:xfrm flipV="1">
            <a:off x="3014640" y="1884240"/>
            <a:ext cx="30240" cy="986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4494240" y="4694400"/>
            <a:ext cx="66600" cy="330120"/>
            <a:chOff x="4494240" y="4694400"/>
            <a:chExt cx="66600" cy="330120"/>
          </a:xfrm>
        </p:grpSpPr>
        <p:sp>
          <p:nvSpPr>
            <p:cNvPr id="794" name=""/>
            <p:cNvSpPr/>
            <p:nvPr/>
          </p:nvSpPr>
          <p:spPr>
            <a:xfrm>
              <a:off x="4498920" y="4705200"/>
              <a:ext cx="57240" cy="684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498920" y="4697280"/>
              <a:ext cx="5868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494240" y="46944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60840" y="4695840"/>
              <a:ext cx="0" cy="334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4527720" y="4705200"/>
              <a:ext cx="0" cy="3193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00720" y="4780080"/>
              <a:ext cx="601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94240" y="47610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560840" y="47610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4476600" y="4543560"/>
            <a:ext cx="98280" cy="2840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06840" y="4824360"/>
            <a:ext cx="46080" cy="414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41840" y="4448160"/>
            <a:ext cx="120600" cy="10332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905560" y="1955880"/>
            <a:ext cx="156600" cy="254520"/>
          </a:xfrm>
          <a:custGeom>
            <a:avLst/>
            <a:gdLst/>
            <a:ahLst/>
            <a:rect l="0" t="0" r="r" b="b"/>
            <a:pathLst>
              <a:path w="435" h="707">
                <a:moveTo>
                  <a:pt x="194" y="0"/>
                </a:moveTo>
                <a:lnTo>
                  <a:pt x="0" y="633"/>
                </a:lnTo>
                <a:lnTo>
                  <a:pt x="241" y="707"/>
                </a:lnTo>
                <a:lnTo>
                  <a:pt x="435" y="73"/>
                </a:lnTo>
                <a:lnTo>
                  <a:pt x="194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913120" y="2188080"/>
            <a:ext cx="47880" cy="56160"/>
          </a:xfrm>
          <a:custGeom>
            <a:avLst/>
            <a:gdLst/>
            <a:ahLst/>
            <a:rect l="0" t="0" r="r" b="b"/>
            <a:pathLst>
              <a:path w="133" h="156">
                <a:moveTo>
                  <a:pt x="39" y="0"/>
                </a:moveTo>
                <a:lnTo>
                  <a:pt x="0" y="128"/>
                </a:lnTo>
                <a:lnTo>
                  <a:pt x="93" y="156"/>
                </a:lnTo>
                <a:lnTo>
                  <a:pt x="133" y="28"/>
                </a:lnTo>
                <a:lnTo>
                  <a:pt x="39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830760" y="1663560"/>
            <a:ext cx="298440" cy="11736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35520" y="1600200"/>
            <a:ext cx="76320" cy="572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121280" y="1704960"/>
            <a:ext cx="28440" cy="428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881520" y="2485800"/>
            <a:ext cx="316440" cy="429120"/>
          </a:xfrm>
          <a:custGeom>
            <a:avLst/>
            <a:gdLst/>
            <a:ahLst/>
            <a:rect l="0" t="0" r="r" b="b"/>
            <a:pathLst>
              <a:path w="879" h="1192">
                <a:moveTo>
                  <a:pt x="681" y="1150"/>
                </a:moveTo>
                <a:lnTo>
                  <a:pt x="189" y="1192"/>
                </a:lnTo>
                <a:lnTo>
                  <a:pt x="0" y="920"/>
                </a:lnTo>
                <a:lnTo>
                  <a:pt x="383" y="214"/>
                </a:lnTo>
                <a:lnTo>
                  <a:pt x="596" y="214"/>
                </a:lnTo>
                <a:lnTo>
                  <a:pt x="745" y="0"/>
                </a:lnTo>
                <a:lnTo>
                  <a:pt x="879" y="31"/>
                </a:lnTo>
                <a:lnTo>
                  <a:pt x="855" y="588"/>
                </a:lnTo>
                <a:lnTo>
                  <a:pt x="625" y="994"/>
                </a:lnTo>
                <a:lnTo>
                  <a:pt x="745" y="1065"/>
                </a:lnTo>
                <a:lnTo>
                  <a:pt x="681" y="115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2873520" y="784080"/>
            <a:ext cx="1576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ier Avant dro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60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979800" y="1676520"/>
            <a:ext cx="81000" cy="954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919240" y="2079720"/>
            <a:ext cx="97200" cy="93960"/>
          </a:xfrm>
          <a:custGeom>
            <a:avLst/>
            <a:gdLst/>
            <a:ahLst/>
            <a:rect l="0" t="0" r="r" b="b"/>
            <a:pathLst>
              <a:path w="270" h="261">
                <a:moveTo>
                  <a:pt x="72" y="0"/>
                </a:moveTo>
                <a:lnTo>
                  <a:pt x="270" y="57"/>
                </a:lnTo>
                <a:lnTo>
                  <a:pt x="196" y="261"/>
                </a:lnTo>
                <a:lnTo>
                  <a:pt x="0" y="198"/>
                </a:lnTo>
                <a:lnTo>
                  <a:pt x="7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732640" y="4618080"/>
            <a:ext cx="606600" cy="593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813280" y="4697280"/>
            <a:ext cx="446040" cy="446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998880" y="2496960"/>
            <a:ext cx="922320" cy="8953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8040" y="2611440"/>
            <a:ext cx="68580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113360" y="2611440"/>
            <a:ext cx="68724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4189320" y="2496960"/>
            <a:ext cx="65160" cy="1296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103480" y="2438280"/>
            <a:ext cx="923760" cy="8985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233440" y="2548080"/>
            <a:ext cx="68580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352600" y="2676600"/>
            <a:ext cx="444600" cy="428760"/>
          </a:xfrm>
          <a:prstGeom prst="ellipse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237200" y="2733840"/>
            <a:ext cx="4446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465280" y="1944720"/>
            <a:ext cx="594000" cy="1049760"/>
          </a:xfrm>
          <a:custGeom>
            <a:avLst/>
            <a:gdLst/>
            <a:ahLst/>
            <a:rect l="0" t="0" r="r" b="b"/>
            <a:pathLst>
              <a:path w="1650" h="2916">
                <a:moveTo>
                  <a:pt x="0" y="2773"/>
                </a:moveTo>
                <a:lnTo>
                  <a:pt x="32" y="2789"/>
                </a:lnTo>
                <a:lnTo>
                  <a:pt x="474" y="2916"/>
                </a:lnTo>
                <a:lnTo>
                  <a:pt x="555" y="2662"/>
                </a:lnTo>
                <a:lnTo>
                  <a:pt x="1014" y="1160"/>
                </a:lnTo>
                <a:lnTo>
                  <a:pt x="1585" y="1287"/>
                </a:lnTo>
                <a:lnTo>
                  <a:pt x="1650" y="1081"/>
                </a:lnTo>
                <a:lnTo>
                  <a:pt x="1070" y="722"/>
                </a:lnTo>
                <a:lnTo>
                  <a:pt x="1247" y="111"/>
                </a:lnTo>
                <a:lnTo>
                  <a:pt x="780" y="0"/>
                </a:lnTo>
                <a:lnTo>
                  <a:pt x="0" y="2773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687760" y="2816280"/>
            <a:ext cx="33120" cy="1116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2920" bIns="-52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716200" y="2805120"/>
            <a:ext cx="57240" cy="57240"/>
          </a:xfrm>
          <a:prstGeom prst="ellipse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805120" y="2448000"/>
            <a:ext cx="71280" cy="210960"/>
          </a:xfrm>
          <a:prstGeom prst="line">
            <a:avLst/>
          </a:prstGeom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852640" y="2617920"/>
            <a:ext cx="88920" cy="87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924280" y="2800440"/>
            <a:ext cx="92160" cy="87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903400" y="2708280"/>
            <a:ext cx="77760" cy="810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881520" y="2485800"/>
            <a:ext cx="316440" cy="429120"/>
          </a:xfrm>
          <a:custGeom>
            <a:avLst/>
            <a:gdLst/>
            <a:ahLst/>
            <a:rect l="0" t="0" r="r" b="b"/>
            <a:pathLst>
              <a:path w="879" h="1192">
                <a:moveTo>
                  <a:pt x="681" y="1150"/>
                </a:moveTo>
                <a:lnTo>
                  <a:pt x="189" y="1192"/>
                </a:lnTo>
                <a:lnTo>
                  <a:pt x="0" y="920"/>
                </a:lnTo>
                <a:lnTo>
                  <a:pt x="383" y="214"/>
                </a:lnTo>
                <a:lnTo>
                  <a:pt x="596" y="214"/>
                </a:lnTo>
                <a:lnTo>
                  <a:pt x="745" y="0"/>
                </a:lnTo>
                <a:lnTo>
                  <a:pt x="879" y="31"/>
                </a:lnTo>
                <a:lnTo>
                  <a:pt x="855" y="588"/>
                </a:lnTo>
                <a:lnTo>
                  <a:pt x="625" y="994"/>
                </a:lnTo>
                <a:lnTo>
                  <a:pt x="745" y="1065"/>
                </a:lnTo>
                <a:lnTo>
                  <a:pt x="681" y="115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091040" y="2627280"/>
            <a:ext cx="8892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986280" y="2801880"/>
            <a:ext cx="8892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037040" y="2716200"/>
            <a:ext cx="84240" cy="792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025800" y="1895400"/>
            <a:ext cx="4125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43400" y="1876320"/>
            <a:ext cx="0" cy="19526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465880" y="3525840"/>
            <a:ext cx="1951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4520" y="3514680"/>
            <a:ext cx="96840" cy="1033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3557520" y="2741760"/>
            <a:ext cx="0" cy="15732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559320" y="2743200"/>
            <a:ext cx="4791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2987640" y="2743200"/>
            <a:ext cx="56988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921280" y="4794120"/>
            <a:ext cx="246240" cy="246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646600" y="4532400"/>
            <a:ext cx="416160" cy="362160"/>
          </a:xfrm>
          <a:custGeom>
            <a:avLst/>
            <a:gdLst/>
            <a:ahLst/>
            <a:rect l="0" t="0" r="r" b="b"/>
            <a:pathLst>
              <a:path w="1156" h="1006">
                <a:moveTo>
                  <a:pt x="50" y="556"/>
                </a:moveTo>
                <a:lnTo>
                  <a:pt x="698" y="0"/>
                </a:lnTo>
                <a:lnTo>
                  <a:pt x="878" y="68"/>
                </a:lnTo>
                <a:lnTo>
                  <a:pt x="960" y="23"/>
                </a:lnTo>
                <a:lnTo>
                  <a:pt x="1055" y="92"/>
                </a:lnTo>
                <a:lnTo>
                  <a:pt x="1013" y="291"/>
                </a:lnTo>
                <a:lnTo>
                  <a:pt x="1156" y="577"/>
                </a:lnTo>
                <a:lnTo>
                  <a:pt x="1037" y="665"/>
                </a:lnTo>
                <a:lnTo>
                  <a:pt x="849" y="548"/>
                </a:lnTo>
                <a:lnTo>
                  <a:pt x="499" y="969"/>
                </a:lnTo>
                <a:lnTo>
                  <a:pt x="293" y="919"/>
                </a:lnTo>
                <a:lnTo>
                  <a:pt x="97" y="1006"/>
                </a:lnTo>
                <a:lnTo>
                  <a:pt x="0" y="903"/>
                </a:lnTo>
                <a:lnTo>
                  <a:pt x="97" y="747"/>
                </a:lnTo>
                <a:lnTo>
                  <a:pt x="50" y="556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827680" y="4689360"/>
            <a:ext cx="79200" cy="824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761080" y="4765680"/>
            <a:ext cx="90360" cy="903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913360" y="4629240"/>
            <a:ext cx="9036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484960" y="4214880"/>
            <a:ext cx="447480" cy="44748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5661000" y="4543560"/>
            <a:ext cx="149400" cy="1508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665680" y="4680000"/>
            <a:ext cx="114480" cy="1141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537080" y="4325760"/>
            <a:ext cx="9237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460840" y="4325760"/>
            <a:ext cx="376560" cy="378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10080" y="2668680"/>
            <a:ext cx="4921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790800" y="2664000"/>
            <a:ext cx="0" cy="1825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3014640" y="2851200"/>
            <a:ext cx="23184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778200" y="2847960"/>
            <a:ext cx="2113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586320" y="1722600"/>
            <a:ext cx="250560" cy="14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4197240" y="1496880"/>
            <a:ext cx="479520" cy="261720"/>
            <a:chOff x="4197240" y="1496880"/>
            <a:chExt cx="479520" cy="261720"/>
          </a:xfrm>
        </p:grpSpPr>
        <p:sp>
          <p:nvSpPr>
            <p:cNvPr id="859" name=""/>
            <p:cNvSpPr/>
            <p:nvPr/>
          </p:nvSpPr>
          <p:spPr>
            <a:xfrm flipV="1">
              <a:off x="4238640" y="1496880"/>
              <a:ext cx="438120" cy="112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233960" y="1620720"/>
              <a:ext cx="31680" cy="1159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214880" y="1600200"/>
              <a:ext cx="3024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197240" y="1698480"/>
              <a:ext cx="37080" cy="60120"/>
            </a:xfrm>
            <a:custGeom>
              <a:avLst/>
              <a:gdLst/>
              <a:ahLst/>
              <a:rect l="0" t="0" r="r" b="b"/>
              <a:pathLst>
                <a:path fill="none" w="103" h="167">
                  <a:moveTo>
                    <a:pt x="40" y="167"/>
                  </a:moveTo>
                  <a:lnTo>
                    <a:pt x="40" y="167"/>
                  </a:lnTo>
                  <a:cubicBezTo>
                    <a:pt x="48" y="165"/>
                    <a:pt x="55" y="162"/>
                    <a:pt x="61" y="158"/>
                  </a:cubicBezTo>
                  <a:cubicBezTo>
                    <a:pt x="74" y="151"/>
                    <a:pt x="84" y="140"/>
                    <a:pt x="92" y="127"/>
                  </a:cubicBezTo>
                  <a:cubicBezTo>
                    <a:pt x="99" y="114"/>
                    <a:pt x="103" y="100"/>
                    <a:pt x="103" y="85"/>
                  </a:cubicBezTo>
                  <a:cubicBezTo>
                    <a:pt x="103" y="70"/>
                    <a:pt x="99" y="56"/>
                    <a:pt x="92" y="43"/>
                  </a:cubicBezTo>
                  <a:cubicBezTo>
                    <a:pt x="84" y="30"/>
                    <a:pt x="74" y="19"/>
                    <a:pt x="61" y="12"/>
                  </a:cubicBezTo>
                  <a:cubicBezTo>
                    <a:pt x="49" y="4"/>
                    <a:pt x="35" y="0"/>
                    <a:pt x="20" y="0"/>
                  </a:cubicBezTo>
                  <a:cubicBezTo>
                    <a:pt x="13" y="0"/>
                    <a:pt x="7" y="1"/>
                    <a:pt x="0" y="3"/>
                  </a:cubicBezTo>
                </a:path>
              </a:pathLst>
            </a:custGeom>
            <a:ln w="12600">
              <a:solidFill>
                <a:srgbClr val="969696"/>
              </a:solidFill>
              <a:round/>
            </a:ln>
          </p:spPr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227480" y="1712880"/>
              <a:ext cx="23760" cy="4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"/>
          <p:cNvSpPr/>
          <p:nvPr/>
        </p:nvSpPr>
        <p:spPr>
          <a:xfrm flipV="1">
            <a:off x="4105440" y="1611360"/>
            <a:ext cx="0" cy="619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103640" y="1614600"/>
            <a:ext cx="1112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122720" y="1739880"/>
            <a:ext cx="1440" cy="414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833640" y="1776240"/>
            <a:ext cx="2890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3833640" y="1733400"/>
            <a:ext cx="0" cy="460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3835440" y="1670040"/>
            <a:ext cx="13176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833640" y="1668600"/>
            <a:ext cx="0" cy="4284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3965400" y="1652760"/>
            <a:ext cx="0" cy="172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3979800" y="1652760"/>
            <a:ext cx="1800" cy="187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940200" y="1652760"/>
            <a:ext cx="284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3978360" y="1652760"/>
            <a:ext cx="284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3940200" y="1603440"/>
            <a:ext cx="0" cy="507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4006800" y="1601640"/>
            <a:ext cx="0" cy="511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600360" y="1716120"/>
            <a:ext cx="0" cy="9651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2865600" y="2422440"/>
            <a:ext cx="150840" cy="57240"/>
            <a:chOff x="2865600" y="2422440"/>
            <a:chExt cx="150840" cy="57240"/>
          </a:xfrm>
        </p:grpSpPr>
        <p:sp>
          <p:nvSpPr>
            <p:cNvPr id="879" name=""/>
            <p:cNvSpPr/>
            <p:nvPr/>
          </p:nvSpPr>
          <p:spPr>
            <a:xfrm>
              <a:off x="2865600" y="2422440"/>
              <a:ext cx="31680" cy="30240"/>
            </a:xfrm>
            <a:prstGeom prst="ellipse">
              <a:avLst/>
            </a:prstGeom>
            <a:noFill/>
            <a:ln w="12600">
              <a:solidFill>
                <a:srgbClr val="0099ff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895480" y="2440080"/>
              <a:ext cx="88920" cy="21960"/>
            </a:xfrm>
            <a:prstGeom prst="line">
              <a:avLst/>
            </a:prstGeom>
            <a:ln w="1260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982960" y="2448000"/>
              <a:ext cx="33480" cy="31680"/>
            </a:xfrm>
            <a:prstGeom prst="ellipse">
              <a:avLst/>
            </a:prstGeom>
            <a:noFill/>
            <a:ln w="12600">
              <a:solidFill>
                <a:srgbClr val="0099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541600" y="2857680"/>
            <a:ext cx="745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2762280" y="2773440"/>
            <a:ext cx="101520" cy="50760"/>
          </a:xfrm>
          <a:prstGeom prst="line">
            <a:avLst/>
          </a:prstGeom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2936880" y="2668680"/>
            <a:ext cx="6555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3247920" y="2665440"/>
            <a:ext cx="0" cy="1951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4108320" y="2774880"/>
            <a:ext cx="136800" cy="90720"/>
          </a:xfrm>
          <a:prstGeom prst="line">
            <a:avLst/>
          </a:prstGeom>
          <a:ln w="1015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191120" y="2246400"/>
            <a:ext cx="371880" cy="803520"/>
          </a:xfrm>
          <a:custGeom>
            <a:avLst/>
            <a:gdLst/>
            <a:ahLst/>
            <a:rect l="0" t="0" r="r" b="b"/>
            <a:pathLst>
              <a:path w="1033" h="2232">
                <a:moveTo>
                  <a:pt x="37" y="118"/>
                </a:moveTo>
                <a:lnTo>
                  <a:pt x="479" y="0"/>
                </a:lnTo>
                <a:lnTo>
                  <a:pt x="1033" y="2129"/>
                </a:lnTo>
                <a:lnTo>
                  <a:pt x="575" y="2232"/>
                </a:lnTo>
                <a:lnTo>
                  <a:pt x="429" y="1674"/>
                </a:lnTo>
                <a:lnTo>
                  <a:pt x="0" y="1674"/>
                </a:lnTo>
                <a:lnTo>
                  <a:pt x="0" y="1484"/>
                </a:lnTo>
                <a:lnTo>
                  <a:pt x="336" y="1317"/>
                </a:lnTo>
                <a:lnTo>
                  <a:pt x="183" y="737"/>
                </a:lnTo>
                <a:lnTo>
                  <a:pt x="37" y="118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419720" y="2908440"/>
            <a:ext cx="745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694480" y="3557520"/>
            <a:ext cx="317880" cy="608400"/>
          </a:xfrm>
          <a:custGeom>
            <a:avLst/>
            <a:gdLst/>
            <a:ahLst/>
            <a:rect l="0" t="0" r="r" b="b"/>
            <a:pathLst>
              <a:path w="883" h="1690">
                <a:moveTo>
                  <a:pt x="39" y="249"/>
                </a:moveTo>
                <a:lnTo>
                  <a:pt x="290" y="0"/>
                </a:lnTo>
                <a:lnTo>
                  <a:pt x="378" y="87"/>
                </a:lnTo>
                <a:lnTo>
                  <a:pt x="317" y="148"/>
                </a:lnTo>
                <a:lnTo>
                  <a:pt x="383" y="214"/>
                </a:lnTo>
                <a:lnTo>
                  <a:pt x="534" y="214"/>
                </a:lnTo>
                <a:lnTo>
                  <a:pt x="534" y="42"/>
                </a:lnTo>
                <a:lnTo>
                  <a:pt x="883" y="42"/>
                </a:lnTo>
                <a:lnTo>
                  <a:pt x="883" y="1277"/>
                </a:lnTo>
                <a:lnTo>
                  <a:pt x="564" y="1277"/>
                </a:lnTo>
                <a:lnTo>
                  <a:pt x="564" y="1690"/>
                </a:lnTo>
                <a:lnTo>
                  <a:pt x="196" y="1690"/>
                </a:lnTo>
                <a:lnTo>
                  <a:pt x="196" y="883"/>
                </a:lnTo>
                <a:lnTo>
                  <a:pt x="0" y="883"/>
                </a:lnTo>
                <a:lnTo>
                  <a:pt x="0" y="608"/>
                </a:lnTo>
                <a:lnTo>
                  <a:pt x="263" y="608"/>
                </a:lnTo>
                <a:lnTo>
                  <a:pt x="263" y="457"/>
                </a:lnTo>
                <a:lnTo>
                  <a:pt x="39" y="249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3436920" y="3813120"/>
            <a:ext cx="22543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5483160" y="3527280"/>
            <a:ext cx="0" cy="6987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952800" y="4916520"/>
            <a:ext cx="1144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014720" y="4919760"/>
            <a:ext cx="0" cy="540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010040" y="4975200"/>
            <a:ext cx="190440" cy="666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4197240" y="5038560"/>
            <a:ext cx="227160" cy="18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422600" y="5013360"/>
            <a:ext cx="47520" cy="475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470480" y="5037120"/>
            <a:ext cx="442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514760" y="5021280"/>
            <a:ext cx="31680" cy="30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4479840" y="4449600"/>
            <a:ext cx="276480" cy="412920"/>
            <a:chOff x="4479840" y="4449600"/>
            <a:chExt cx="276480" cy="412920"/>
          </a:xfrm>
        </p:grpSpPr>
        <p:sp>
          <p:nvSpPr>
            <p:cNvPr id="900" name=""/>
            <p:cNvSpPr/>
            <p:nvPr/>
          </p:nvSpPr>
          <p:spPr>
            <a:xfrm flipV="1">
              <a:off x="4479840" y="4546440"/>
              <a:ext cx="0" cy="2811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81640" y="4546440"/>
              <a:ext cx="205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548240" y="4545000"/>
              <a:ext cx="284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543560" y="4508640"/>
              <a:ext cx="0" cy="36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05400" y="4508640"/>
              <a:ext cx="0" cy="36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4572000" y="4692600"/>
              <a:ext cx="0" cy="1364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4511520" y="4821120"/>
              <a:ext cx="0" cy="414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4484520" y="4824360"/>
              <a:ext cx="288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545000" y="4824360"/>
              <a:ext cx="2556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4546440" y="4822920"/>
              <a:ext cx="0" cy="396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568760" y="4694400"/>
              <a:ext cx="1429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67320" y="4675320"/>
              <a:ext cx="123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691160" y="4545000"/>
              <a:ext cx="0" cy="1317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4711680" y="4545000"/>
              <a:ext cx="0" cy="1522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646520" y="4543560"/>
              <a:ext cx="446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4713120" y="4543560"/>
              <a:ext cx="432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4646520" y="4449600"/>
              <a:ext cx="0" cy="954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4756320" y="4449600"/>
              <a:ext cx="0" cy="939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5240" y="4543560"/>
              <a:ext cx="0" cy="1332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4448160" y="5059440"/>
            <a:ext cx="0" cy="745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397400" y="5132520"/>
            <a:ext cx="1126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400640" y="5138640"/>
            <a:ext cx="111240" cy="554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4527720" y="4329000"/>
            <a:ext cx="0" cy="2253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3557520" y="4325760"/>
            <a:ext cx="97164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981160" y="2338560"/>
            <a:ext cx="381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99ff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H="1" flipV="1">
            <a:off x="2909880" y="2332080"/>
            <a:ext cx="90360" cy="25200"/>
          </a:xfrm>
          <a:prstGeom prst="line">
            <a:avLst/>
          </a:prstGeom>
          <a:ln w="1260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3000240" y="2354400"/>
            <a:ext cx="0" cy="96840"/>
          </a:xfrm>
          <a:prstGeom prst="line">
            <a:avLst/>
          </a:prstGeom>
          <a:ln w="1260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486320" y="4552920"/>
            <a:ext cx="81000" cy="135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653000" y="4476600"/>
            <a:ext cx="96840" cy="60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565520" y="4684680"/>
            <a:ext cx="1350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700520" y="4538520"/>
            <a:ext cx="0" cy="1461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51280" y="1968480"/>
            <a:ext cx="97200" cy="125640"/>
          </a:xfrm>
          <a:custGeom>
            <a:avLst/>
            <a:gdLst/>
            <a:ahLst/>
            <a:rect l="0" t="0" r="r" b="b"/>
            <a:pathLst>
              <a:path w="270" h="349">
                <a:moveTo>
                  <a:pt x="0" y="286"/>
                </a:moveTo>
                <a:lnTo>
                  <a:pt x="84" y="0"/>
                </a:lnTo>
                <a:lnTo>
                  <a:pt x="270" y="60"/>
                </a:lnTo>
                <a:lnTo>
                  <a:pt x="186" y="349"/>
                </a:lnTo>
                <a:lnTo>
                  <a:pt x="0" y="28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3025800" y="2095560"/>
            <a:ext cx="352440" cy="114120"/>
            <a:chOff x="3025800" y="2095560"/>
            <a:chExt cx="352440" cy="114120"/>
          </a:xfrm>
        </p:grpSpPr>
        <p:sp>
          <p:nvSpPr>
            <p:cNvPr id="933" name=""/>
            <p:cNvSpPr/>
            <p:nvPr/>
          </p:nvSpPr>
          <p:spPr>
            <a:xfrm>
              <a:off x="3025800" y="2095560"/>
              <a:ext cx="554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095640" y="2117880"/>
              <a:ext cx="55440" cy="1872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174840" y="2143080"/>
              <a:ext cx="572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47920" y="2166840"/>
              <a:ext cx="5580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21000" y="2190600"/>
              <a:ext cx="572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3375000" y="2209680"/>
            <a:ext cx="3240" cy="542880"/>
            <a:chOff x="3375000" y="2209680"/>
            <a:chExt cx="3240" cy="542880"/>
          </a:xfrm>
        </p:grpSpPr>
        <p:sp>
          <p:nvSpPr>
            <p:cNvPr id="939" name=""/>
            <p:cNvSpPr/>
            <p:nvPr/>
          </p:nvSpPr>
          <p:spPr>
            <a:xfrm>
              <a:off x="3378240" y="220968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78240" y="230976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76440" y="2403360"/>
              <a:ext cx="0" cy="748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375000" y="250992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375000" y="261288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3375000" y="2708280"/>
              <a:ext cx="1440" cy="442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843360" y="1677960"/>
            <a:ext cx="125280" cy="936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951360" y="1611360"/>
            <a:ext cx="46080" cy="3492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4124160" y="1670040"/>
            <a:ext cx="0" cy="381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3979800" y="1671480"/>
            <a:ext cx="1494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124160" y="1743120"/>
            <a:ext cx="288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122720" y="1708200"/>
            <a:ext cx="270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3975120" y="1679400"/>
            <a:ext cx="239760" cy="92160"/>
            <a:chOff x="3975120" y="1679400"/>
            <a:chExt cx="239760" cy="92160"/>
          </a:xfrm>
        </p:grpSpPr>
        <p:sp>
          <p:nvSpPr>
            <p:cNvPr id="952" name=""/>
            <p:cNvSpPr/>
            <p:nvPr/>
          </p:nvSpPr>
          <p:spPr>
            <a:xfrm>
              <a:off x="3975120" y="1725480"/>
              <a:ext cx="21276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184640" y="1714680"/>
              <a:ext cx="3024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976560" y="1685880"/>
              <a:ext cx="0" cy="85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75120" y="1681200"/>
              <a:ext cx="205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79800" y="1770120"/>
              <a:ext cx="15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67280" y="1682640"/>
              <a:ext cx="0" cy="828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64040" y="1679400"/>
              <a:ext cx="20520" cy="18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71960" y="1765440"/>
              <a:ext cx="15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 flipV="1">
            <a:off x="2901960" y="2087640"/>
            <a:ext cx="77760" cy="226800"/>
          </a:xfrm>
          <a:prstGeom prst="line">
            <a:avLst/>
          </a:prstGeom>
          <a:ln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952720" y="2076480"/>
            <a:ext cx="63360" cy="2052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944800" y="2071800"/>
            <a:ext cx="9360" cy="3312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003480" y="2093760"/>
            <a:ext cx="9720" cy="3024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924280" y="2154240"/>
            <a:ext cx="61920" cy="1908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2922480" y="2143080"/>
            <a:ext cx="9720" cy="3168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2982960" y="2162160"/>
            <a:ext cx="9360" cy="3168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860560" y="1943280"/>
            <a:ext cx="208080" cy="299880"/>
            <a:chOff x="2860560" y="1943280"/>
            <a:chExt cx="208080" cy="299880"/>
          </a:xfrm>
        </p:grpSpPr>
        <p:sp>
          <p:nvSpPr>
            <p:cNvPr id="968" name=""/>
            <p:cNvSpPr/>
            <p:nvPr/>
          </p:nvSpPr>
          <p:spPr>
            <a:xfrm flipV="1">
              <a:off x="2909880" y="1962000"/>
              <a:ext cx="63360" cy="2098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975040" y="1963800"/>
              <a:ext cx="2844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030480" y="1979640"/>
              <a:ext cx="25560" cy="64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3025800" y="1984320"/>
              <a:ext cx="27000" cy="1000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025800" y="2081160"/>
              <a:ext cx="42840" cy="158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14640" y="2117880"/>
              <a:ext cx="46080" cy="158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895480" y="2021040"/>
              <a:ext cx="50760" cy="172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3002040" y="1943280"/>
              <a:ext cx="12600" cy="266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2914560" y="2182680"/>
              <a:ext cx="14400" cy="493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2944800" y="2192400"/>
              <a:ext cx="15840" cy="507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 flipV="1">
              <a:off x="2905200" y="2176560"/>
              <a:ext cx="2376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2959200" y="2195640"/>
              <a:ext cx="2196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2982960" y="2117880"/>
              <a:ext cx="33120" cy="90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860560" y="2146320"/>
              <a:ext cx="49320" cy="1584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"/>
          <p:cNvSpPr/>
          <p:nvPr/>
        </p:nvSpPr>
        <p:spPr>
          <a:xfrm flipV="1">
            <a:off x="3014640" y="1884240"/>
            <a:ext cx="30240" cy="986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4494240" y="4694400"/>
            <a:ext cx="66600" cy="330120"/>
            <a:chOff x="4494240" y="4694400"/>
            <a:chExt cx="66600" cy="330120"/>
          </a:xfrm>
        </p:grpSpPr>
        <p:sp>
          <p:nvSpPr>
            <p:cNvPr id="984" name=""/>
            <p:cNvSpPr/>
            <p:nvPr/>
          </p:nvSpPr>
          <p:spPr>
            <a:xfrm>
              <a:off x="4498920" y="4705200"/>
              <a:ext cx="57240" cy="684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498920" y="4697280"/>
              <a:ext cx="5868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494240" y="46944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60840" y="4695840"/>
              <a:ext cx="0" cy="334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4527720" y="4705200"/>
              <a:ext cx="0" cy="3193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500720" y="4780080"/>
              <a:ext cx="601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494240" y="47610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560840" y="47610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4476600" y="4543560"/>
            <a:ext cx="98280" cy="2840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506840" y="4824360"/>
            <a:ext cx="46080" cy="414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641840" y="4448160"/>
            <a:ext cx="120600" cy="10332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905560" y="1955880"/>
            <a:ext cx="156600" cy="254520"/>
          </a:xfrm>
          <a:custGeom>
            <a:avLst/>
            <a:gdLst/>
            <a:ahLst/>
            <a:rect l="0" t="0" r="r" b="b"/>
            <a:pathLst>
              <a:path w="435" h="707">
                <a:moveTo>
                  <a:pt x="194" y="0"/>
                </a:moveTo>
                <a:lnTo>
                  <a:pt x="0" y="633"/>
                </a:lnTo>
                <a:lnTo>
                  <a:pt x="241" y="707"/>
                </a:lnTo>
                <a:lnTo>
                  <a:pt x="435" y="73"/>
                </a:lnTo>
                <a:lnTo>
                  <a:pt x="194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913120" y="2188080"/>
            <a:ext cx="47880" cy="56160"/>
          </a:xfrm>
          <a:custGeom>
            <a:avLst/>
            <a:gdLst/>
            <a:ahLst/>
            <a:rect l="0" t="0" r="r" b="b"/>
            <a:pathLst>
              <a:path w="133" h="156">
                <a:moveTo>
                  <a:pt x="39" y="0"/>
                </a:moveTo>
                <a:lnTo>
                  <a:pt x="0" y="128"/>
                </a:lnTo>
                <a:lnTo>
                  <a:pt x="93" y="156"/>
                </a:lnTo>
                <a:lnTo>
                  <a:pt x="133" y="28"/>
                </a:lnTo>
                <a:lnTo>
                  <a:pt x="39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830760" y="1663560"/>
            <a:ext cx="298440" cy="11736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935520" y="1600200"/>
            <a:ext cx="76320" cy="572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121280" y="1704960"/>
            <a:ext cx="28440" cy="428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884320" y="2308320"/>
            <a:ext cx="30240" cy="33480"/>
          </a:xfrm>
          <a:prstGeom prst="ellipse">
            <a:avLst/>
          </a:prstGeom>
          <a:noFill/>
          <a:ln w="12600">
            <a:solidFill>
              <a:srgbClr val="0099ff"/>
            </a:solidFill>
            <a:round/>
          </a:ln>
        </p:spPr>
        <p:txBody>
          <a:bodyPr lIns="96120" rIns="9612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2362320" y="533520"/>
            <a:ext cx="3276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ier avant gauc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emble biellettes- bascul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805120" y="2496960"/>
            <a:ext cx="343440" cy="446400"/>
          </a:xfrm>
          <a:custGeom>
            <a:avLst/>
            <a:gdLst/>
            <a:ahLst/>
            <a:rect l="0" t="0" r="r" b="b"/>
            <a:pathLst>
              <a:path w="954" h="1240">
                <a:moveTo>
                  <a:pt x="174" y="0"/>
                </a:moveTo>
                <a:lnTo>
                  <a:pt x="360" y="7"/>
                </a:lnTo>
                <a:lnTo>
                  <a:pt x="464" y="174"/>
                </a:lnTo>
                <a:lnTo>
                  <a:pt x="628" y="193"/>
                </a:lnTo>
                <a:lnTo>
                  <a:pt x="954" y="938"/>
                </a:lnTo>
                <a:lnTo>
                  <a:pt x="869" y="1113"/>
                </a:lnTo>
                <a:lnTo>
                  <a:pt x="875" y="1240"/>
                </a:lnTo>
                <a:lnTo>
                  <a:pt x="273" y="1083"/>
                </a:lnTo>
                <a:lnTo>
                  <a:pt x="281" y="1083"/>
                </a:lnTo>
                <a:lnTo>
                  <a:pt x="270" y="1073"/>
                </a:lnTo>
                <a:lnTo>
                  <a:pt x="273" y="1075"/>
                </a:lnTo>
                <a:lnTo>
                  <a:pt x="281" y="1081"/>
                </a:lnTo>
                <a:lnTo>
                  <a:pt x="0" y="455"/>
                </a:lnTo>
                <a:lnTo>
                  <a:pt x="174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114800" y="609480"/>
            <a:ext cx="152280" cy="152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838760" y="809640"/>
            <a:ext cx="152280" cy="15228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60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979800" y="1676520"/>
            <a:ext cx="81000" cy="954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732640" y="4618080"/>
            <a:ext cx="606600" cy="593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813280" y="4697280"/>
            <a:ext cx="446040" cy="446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998880" y="2496960"/>
            <a:ext cx="922320" cy="8953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118040" y="2611440"/>
            <a:ext cx="68580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113360" y="2611440"/>
            <a:ext cx="68724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4189320" y="2496960"/>
            <a:ext cx="65160" cy="1296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103480" y="2438280"/>
            <a:ext cx="923760" cy="8985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233440" y="2548080"/>
            <a:ext cx="68580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352600" y="2676600"/>
            <a:ext cx="444600" cy="428760"/>
          </a:xfrm>
          <a:prstGeom prst="ellipse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237200" y="2733840"/>
            <a:ext cx="4446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465280" y="1944720"/>
            <a:ext cx="594000" cy="1049760"/>
          </a:xfrm>
          <a:custGeom>
            <a:avLst/>
            <a:gdLst/>
            <a:ahLst/>
            <a:rect l="0" t="0" r="r" b="b"/>
            <a:pathLst>
              <a:path w="1650" h="2916">
                <a:moveTo>
                  <a:pt x="0" y="2773"/>
                </a:moveTo>
                <a:lnTo>
                  <a:pt x="32" y="2789"/>
                </a:lnTo>
                <a:lnTo>
                  <a:pt x="474" y="2916"/>
                </a:lnTo>
                <a:lnTo>
                  <a:pt x="555" y="2662"/>
                </a:lnTo>
                <a:lnTo>
                  <a:pt x="1014" y="1160"/>
                </a:lnTo>
                <a:lnTo>
                  <a:pt x="1585" y="1287"/>
                </a:lnTo>
                <a:lnTo>
                  <a:pt x="1650" y="1081"/>
                </a:lnTo>
                <a:lnTo>
                  <a:pt x="1070" y="722"/>
                </a:lnTo>
                <a:lnTo>
                  <a:pt x="1247" y="111"/>
                </a:lnTo>
                <a:lnTo>
                  <a:pt x="780" y="0"/>
                </a:lnTo>
                <a:lnTo>
                  <a:pt x="0" y="2773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687760" y="2816280"/>
            <a:ext cx="33120" cy="1116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2920" bIns="-52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716200" y="2805120"/>
            <a:ext cx="57240" cy="57240"/>
          </a:xfrm>
          <a:prstGeom prst="ellipse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805120" y="2496960"/>
            <a:ext cx="343440" cy="446400"/>
          </a:xfrm>
          <a:custGeom>
            <a:avLst/>
            <a:gdLst/>
            <a:ahLst/>
            <a:rect l="0" t="0" r="r" b="b"/>
            <a:pathLst>
              <a:path w="954" h="1240">
                <a:moveTo>
                  <a:pt x="174" y="0"/>
                </a:moveTo>
                <a:lnTo>
                  <a:pt x="360" y="7"/>
                </a:lnTo>
                <a:lnTo>
                  <a:pt x="464" y="174"/>
                </a:lnTo>
                <a:lnTo>
                  <a:pt x="628" y="193"/>
                </a:lnTo>
                <a:lnTo>
                  <a:pt x="954" y="938"/>
                </a:lnTo>
                <a:lnTo>
                  <a:pt x="869" y="1113"/>
                </a:lnTo>
                <a:lnTo>
                  <a:pt x="875" y="1240"/>
                </a:lnTo>
                <a:lnTo>
                  <a:pt x="273" y="1083"/>
                </a:lnTo>
                <a:lnTo>
                  <a:pt x="281" y="1083"/>
                </a:lnTo>
                <a:lnTo>
                  <a:pt x="270" y="1073"/>
                </a:lnTo>
                <a:lnTo>
                  <a:pt x="273" y="1075"/>
                </a:lnTo>
                <a:lnTo>
                  <a:pt x="281" y="1081"/>
                </a:lnTo>
                <a:lnTo>
                  <a:pt x="0" y="455"/>
                </a:lnTo>
                <a:lnTo>
                  <a:pt x="174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2805120" y="2448000"/>
            <a:ext cx="71280" cy="2109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852640" y="2617920"/>
            <a:ext cx="88920" cy="87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924280" y="2800440"/>
            <a:ext cx="92160" cy="87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903400" y="2708280"/>
            <a:ext cx="77760" cy="810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881520" y="2485800"/>
            <a:ext cx="316440" cy="429120"/>
          </a:xfrm>
          <a:custGeom>
            <a:avLst/>
            <a:gdLst/>
            <a:ahLst/>
            <a:rect l="0" t="0" r="r" b="b"/>
            <a:pathLst>
              <a:path w="879" h="1192">
                <a:moveTo>
                  <a:pt x="681" y="1150"/>
                </a:moveTo>
                <a:lnTo>
                  <a:pt x="189" y="1192"/>
                </a:lnTo>
                <a:lnTo>
                  <a:pt x="0" y="920"/>
                </a:lnTo>
                <a:lnTo>
                  <a:pt x="383" y="214"/>
                </a:lnTo>
                <a:lnTo>
                  <a:pt x="596" y="214"/>
                </a:lnTo>
                <a:lnTo>
                  <a:pt x="745" y="0"/>
                </a:lnTo>
                <a:lnTo>
                  <a:pt x="879" y="31"/>
                </a:lnTo>
                <a:lnTo>
                  <a:pt x="855" y="588"/>
                </a:lnTo>
                <a:lnTo>
                  <a:pt x="625" y="994"/>
                </a:lnTo>
                <a:lnTo>
                  <a:pt x="745" y="1065"/>
                </a:lnTo>
                <a:lnTo>
                  <a:pt x="681" y="115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091040" y="2627280"/>
            <a:ext cx="8892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986280" y="2801880"/>
            <a:ext cx="8892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037040" y="2716200"/>
            <a:ext cx="84240" cy="792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025800" y="1895400"/>
            <a:ext cx="4125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443400" y="1876320"/>
            <a:ext cx="0" cy="19526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5465880" y="3525840"/>
            <a:ext cx="1951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H="1" flipV="1">
            <a:off x="5654520" y="3514680"/>
            <a:ext cx="96840" cy="1033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3557520" y="2741760"/>
            <a:ext cx="0" cy="15732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559320" y="2743200"/>
            <a:ext cx="4791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987640" y="2743200"/>
            <a:ext cx="56988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921280" y="4794120"/>
            <a:ext cx="246240" cy="246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646600" y="4532400"/>
            <a:ext cx="416160" cy="362160"/>
          </a:xfrm>
          <a:custGeom>
            <a:avLst/>
            <a:gdLst/>
            <a:ahLst/>
            <a:rect l="0" t="0" r="r" b="b"/>
            <a:pathLst>
              <a:path w="1156" h="1006">
                <a:moveTo>
                  <a:pt x="50" y="556"/>
                </a:moveTo>
                <a:lnTo>
                  <a:pt x="698" y="0"/>
                </a:lnTo>
                <a:lnTo>
                  <a:pt x="878" y="68"/>
                </a:lnTo>
                <a:lnTo>
                  <a:pt x="960" y="23"/>
                </a:lnTo>
                <a:lnTo>
                  <a:pt x="1055" y="92"/>
                </a:lnTo>
                <a:lnTo>
                  <a:pt x="1013" y="291"/>
                </a:lnTo>
                <a:lnTo>
                  <a:pt x="1156" y="577"/>
                </a:lnTo>
                <a:lnTo>
                  <a:pt x="1037" y="665"/>
                </a:lnTo>
                <a:lnTo>
                  <a:pt x="849" y="548"/>
                </a:lnTo>
                <a:lnTo>
                  <a:pt x="499" y="969"/>
                </a:lnTo>
                <a:lnTo>
                  <a:pt x="293" y="919"/>
                </a:lnTo>
                <a:lnTo>
                  <a:pt x="97" y="1006"/>
                </a:lnTo>
                <a:lnTo>
                  <a:pt x="0" y="903"/>
                </a:lnTo>
                <a:lnTo>
                  <a:pt x="97" y="747"/>
                </a:lnTo>
                <a:lnTo>
                  <a:pt x="50" y="556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827680" y="4689360"/>
            <a:ext cx="79200" cy="824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761080" y="4765680"/>
            <a:ext cx="90360" cy="903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913360" y="4629240"/>
            <a:ext cx="9036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84960" y="4214880"/>
            <a:ext cx="447480" cy="44748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5661000" y="4543560"/>
            <a:ext cx="149400" cy="1508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665680" y="4680000"/>
            <a:ext cx="114480" cy="1141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537080" y="4325760"/>
            <a:ext cx="9237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460840" y="4325760"/>
            <a:ext cx="376560" cy="378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610080" y="2668680"/>
            <a:ext cx="4921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790800" y="2664000"/>
            <a:ext cx="0" cy="1825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014640" y="2851200"/>
            <a:ext cx="23184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778200" y="2847960"/>
            <a:ext cx="2113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3586320" y="1722600"/>
            <a:ext cx="250560" cy="14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4197240" y="1496880"/>
            <a:ext cx="479520" cy="261720"/>
            <a:chOff x="4197240" y="1496880"/>
            <a:chExt cx="479520" cy="261720"/>
          </a:xfrm>
        </p:grpSpPr>
        <p:sp>
          <p:nvSpPr>
            <p:cNvPr id="1052" name=""/>
            <p:cNvSpPr/>
            <p:nvPr/>
          </p:nvSpPr>
          <p:spPr>
            <a:xfrm flipV="1">
              <a:off x="4238640" y="1496880"/>
              <a:ext cx="438120" cy="112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33960" y="1620720"/>
              <a:ext cx="31680" cy="1159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214880" y="1600200"/>
              <a:ext cx="3024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97240" y="1698480"/>
              <a:ext cx="37080" cy="60120"/>
            </a:xfrm>
            <a:custGeom>
              <a:avLst/>
              <a:gdLst/>
              <a:ahLst/>
              <a:rect l="0" t="0" r="r" b="b"/>
              <a:pathLst>
                <a:path fill="none" w="103" h="167">
                  <a:moveTo>
                    <a:pt x="40" y="167"/>
                  </a:moveTo>
                  <a:lnTo>
                    <a:pt x="40" y="167"/>
                  </a:lnTo>
                  <a:cubicBezTo>
                    <a:pt x="48" y="165"/>
                    <a:pt x="55" y="162"/>
                    <a:pt x="61" y="158"/>
                  </a:cubicBezTo>
                  <a:cubicBezTo>
                    <a:pt x="74" y="151"/>
                    <a:pt x="84" y="140"/>
                    <a:pt x="92" y="127"/>
                  </a:cubicBezTo>
                  <a:cubicBezTo>
                    <a:pt x="99" y="114"/>
                    <a:pt x="103" y="100"/>
                    <a:pt x="103" y="85"/>
                  </a:cubicBezTo>
                  <a:cubicBezTo>
                    <a:pt x="103" y="70"/>
                    <a:pt x="99" y="56"/>
                    <a:pt x="92" y="43"/>
                  </a:cubicBezTo>
                  <a:cubicBezTo>
                    <a:pt x="84" y="30"/>
                    <a:pt x="74" y="19"/>
                    <a:pt x="61" y="12"/>
                  </a:cubicBezTo>
                  <a:cubicBezTo>
                    <a:pt x="49" y="4"/>
                    <a:pt x="35" y="0"/>
                    <a:pt x="20" y="0"/>
                  </a:cubicBezTo>
                  <a:cubicBezTo>
                    <a:pt x="13" y="0"/>
                    <a:pt x="7" y="1"/>
                    <a:pt x="0" y="3"/>
                  </a:cubicBezTo>
                </a:path>
              </a:pathLst>
            </a:custGeom>
            <a:ln w="12600">
              <a:solidFill>
                <a:srgbClr val="969696"/>
              </a:solidFill>
              <a:round/>
            </a:ln>
          </p:spPr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4227480" y="1712880"/>
              <a:ext cx="23760" cy="4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"/>
          <p:cNvSpPr/>
          <p:nvPr/>
        </p:nvSpPr>
        <p:spPr>
          <a:xfrm flipV="1">
            <a:off x="4105440" y="1611360"/>
            <a:ext cx="0" cy="619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103640" y="1614600"/>
            <a:ext cx="1112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4122720" y="1739880"/>
            <a:ext cx="1440" cy="414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3833640" y="1776240"/>
            <a:ext cx="2890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3833640" y="1733400"/>
            <a:ext cx="0" cy="460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3835440" y="1670040"/>
            <a:ext cx="13176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833640" y="1668600"/>
            <a:ext cx="0" cy="4284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3965400" y="1652760"/>
            <a:ext cx="0" cy="172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3979800" y="1652760"/>
            <a:ext cx="1800" cy="187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3940200" y="1652760"/>
            <a:ext cx="284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3978360" y="1652760"/>
            <a:ext cx="284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3940200" y="1603440"/>
            <a:ext cx="0" cy="507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4006800" y="1601640"/>
            <a:ext cx="0" cy="511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600360" y="1716120"/>
            <a:ext cx="0" cy="9651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2865600" y="2422440"/>
            <a:ext cx="150840" cy="57240"/>
            <a:chOff x="2865600" y="2422440"/>
            <a:chExt cx="150840" cy="57240"/>
          </a:xfrm>
        </p:grpSpPr>
        <p:sp>
          <p:nvSpPr>
            <p:cNvPr id="1072" name=""/>
            <p:cNvSpPr/>
            <p:nvPr/>
          </p:nvSpPr>
          <p:spPr>
            <a:xfrm>
              <a:off x="2865600" y="2422440"/>
              <a:ext cx="3168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895480" y="2440080"/>
              <a:ext cx="88920" cy="219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982960" y="2448000"/>
              <a:ext cx="33480" cy="3168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2541600" y="2857680"/>
            <a:ext cx="745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2762280" y="2773440"/>
            <a:ext cx="101520" cy="507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2936880" y="2668680"/>
            <a:ext cx="6555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3247920" y="2665440"/>
            <a:ext cx="0" cy="1951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4108320" y="2774880"/>
            <a:ext cx="136800" cy="90720"/>
          </a:xfrm>
          <a:prstGeom prst="line">
            <a:avLst/>
          </a:prstGeom>
          <a:ln w="1015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191120" y="2246400"/>
            <a:ext cx="371880" cy="803520"/>
          </a:xfrm>
          <a:custGeom>
            <a:avLst/>
            <a:gdLst/>
            <a:ahLst/>
            <a:rect l="0" t="0" r="r" b="b"/>
            <a:pathLst>
              <a:path w="1033" h="2232">
                <a:moveTo>
                  <a:pt x="37" y="118"/>
                </a:moveTo>
                <a:lnTo>
                  <a:pt x="479" y="0"/>
                </a:lnTo>
                <a:lnTo>
                  <a:pt x="1033" y="2129"/>
                </a:lnTo>
                <a:lnTo>
                  <a:pt x="575" y="2232"/>
                </a:lnTo>
                <a:lnTo>
                  <a:pt x="429" y="1674"/>
                </a:lnTo>
                <a:lnTo>
                  <a:pt x="0" y="1674"/>
                </a:lnTo>
                <a:lnTo>
                  <a:pt x="0" y="1484"/>
                </a:lnTo>
                <a:lnTo>
                  <a:pt x="336" y="1317"/>
                </a:lnTo>
                <a:lnTo>
                  <a:pt x="183" y="737"/>
                </a:lnTo>
                <a:lnTo>
                  <a:pt x="37" y="118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419720" y="2908440"/>
            <a:ext cx="745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694480" y="3557520"/>
            <a:ext cx="317880" cy="608400"/>
          </a:xfrm>
          <a:custGeom>
            <a:avLst/>
            <a:gdLst/>
            <a:ahLst/>
            <a:rect l="0" t="0" r="r" b="b"/>
            <a:pathLst>
              <a:path w="883" h="1690">
                <a:moveTo>
                  <a:pt x="39" y="249"/>
                </a:moveTo>
                <a:lnTo>
                  <a:pt x="290" y="0"/>
                </a:lnTo>
                <a:lnTo>
                  <a:pt x="378" y="87"/>
                </a:lnTo>
                <a:lnTo>
                  <a:pt x="317" y="148"/>
                </a:lnTo>
                <a:lnTo>
                  <a:pt x="383" y="214"/>
                </a:lnTo>
                <a:lnTo>
                  <a:pt x="534" y="214"/>
                </a:lnTo>
                <a:lnTo>
                  <a:pt x="534" y="42"/>
                </a:lnTo>
                <a:lnTo>
                  <a:pt x="883" y="42"/>
                </a:lnTo>
                <a:lnTo>
                  <a:pt x="883" y="1277"/>
                </a:lnTo>
                <a:lnTo>
                  <a:pt x="564" y="1277"/>
                </a:lnTo>
                <a:lnTo>
                  <a:pt x="564" y="1690"/>
                </a:lnTo>
                <a:lnTo>
                  <a:pt x="196" y="1690"/>
                </a:lnTo>
                <a:lnTo>
                  <a:pt x="196" y="883"/>
                </a:lnTo>
                <a:lnTo>
                  <a:pt x="0" y="883"/>
                </a:lnTo>
                <a:lnTo>
                  <a:pt x="0" y="608"/>
                </a:lnTo>
                <a:lnTo>
                  <a:pt x="263" y="608"/>
                </a:lnTo>
                <a:lnTo>
                  <a:pt x="263" y="457"/>
                </a:lnTo>
                <a:lnTo>
                  <a:pt x="39" y="249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3436920" y="3813120"/>
            <a:ext cx="22543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5483160" y="3527280"/>
            <a:ext cx="0" cy="6987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952800" y="4916520"/>
            <a:ext cx="1144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014720" y="4919760"/>
            <a:ext cx="0" cy="540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010040" y="4975200"/>
            <a:ext cx="190440" cy="666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4197240" y="5038560"/>
            <a:ext cx="227160" cy="18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422600" y="5013360"/>
            <a:ext cx="47520" cy="475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470480" y="5037120"/>
            <a:ext cx="442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514760" y="5021280"/>
            <a:ext cx="31680" cy="30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4479840" y="4449600"/>
            <a:ext cx="276480" cy="412920"/>
            <a:chOff x="4479840" y="4449600"/>
            <a:chExt cx="276480" cy="412920"/>
          </a:xfrm>
        </p:grpSpPr>
        <p:sp>
          <p:nvSpPr>
            <p:cNvPr id="1093" name=""/>
            <p:cNvSpPr/>
            <p:nvPr/>
          </p:nvSpPr>
          <p:spPr>
            <a:xfrm flipV="1">
              <a:off x="4479840" y="4546440"/>
              <a:ext cx="0" cy="2811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481640" y="4546440"/>
              <a:ext cx="205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548240" y="4545000"/>
              <a:ext cx="284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543560" y="4508640"/>
              <a:ext cx="0" cy="36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505400" y="4508640"/>
              <a:ext cx="0" cy="36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4572000" y="4692600"/>
              <a:ext cx="0" cy="1364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4511520" y="4821120"/>
              <a:ext cx="0" cy="414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4484520" y="4824360"/>
              <a:ext cx="288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4545000" y="4824360"/>
              <a:ext cx="2556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4546440" y="4822920"/>
              <a:ext cx="0" cy="396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68760" y="4694400"/>
              <a:ext cx="1429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567320" y="4675320"/>
              <a:ext cx="123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4691160" y="4545000"/>
              <a:ext cx="0" cy="1317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4711680" y="4545000"/>
              <a:ext cx="0" cy="1522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4646520" y="4543560"/>
              <a:ext cx="446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4713120" y="4543560"/>
              <a:ext cx="432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646520" y="4449600"/>
              <a:ext cx="0" cy="954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4756320" y="4449600"/>
              <a:ext cx="0" cy="939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575240" y="4543560"/>
              <a:ext cx="0" cy="1332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4448160" y="5059440"/>
            <a:ext cx="0" cy="745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397400" y="5132520"/>
            <a:ext cx="1126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400640" y="5138640"/>
            <a:ext cx="111240" cy="554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4527720" y="4329000"/>
            <a:ext cx="0" cy="2253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557520" y="4325760"/>
            <a:ext cx="97164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981160" y="2338560"/>
            <a:ext cx="381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2909880" y="2332080"/>
            <a:ext cx="90360" cy="252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3000240" y="2354400"/>
            <a:ext cx="0" cy="9684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486320" y="4552920"/>
            <a:ext cx="81000" cy="135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653000" y="4476600"/>
            <a:ext cx="96840" cy="60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565520" y="4684680"/>
            <a:ext cx="1350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700520" y="4538520"/>
            <a:ext cx="0" cy="1461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3025800" y="2095560"/>
            <a:ext cx="352440" cy="114120"/>
            <a:chOff x="3025800" y="2095560"/>
            <a:chExt cx="352440" cy="114120"/>
          </a:xfrm>
        </p:grpSpPr>
        <p:sp>
          <p:nvSpPr>
            <p:cNvPr id="1125" name=""/>
            <p:cNvSpPr/>
            <p:nvPr/>
          </p:nvSpPr>
          <p:spPr>
            <a:xfrm>
              <a:off x="3025800" y="2095560"/>
              <a:ext cx="554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095640" y="2117880"/>
              <a:ext cx="55440" cy="1872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174840" y="2143080"/>
              <a:ext cx="572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247920" y="2166840"/>
              <a:ext cx="5580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321000" y="2190600"/>
              <a:ext cx="572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3375000" y="2209680"/>
            <a:ext cx="3240" cy="542880"/>
            <a:chOff x="3375000" y="2209680"/>
            <a:chExt cx="3240" cy="542880"/>
          </a:xfrm>
        </p:grpSpPr>
        <p:sp>
          <p:nvSpPr>
            <p:cNvPr id="1131" name=""/>
            <p:cNvSpPr/>
            <p:nvPr/>
          </p:nvSpPr>
          <p:spPr>
            <a:xfrm>
              <a:off x="3378240" y="220968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378240" y="230976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376440" y="2403360"/>
              <a:ext cx="0" cy="748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375000" y="250992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375000" y="261288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375000" y="2708280"/>
              <a:ext cx="1440" cy="442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843360" y="1677960"/>
            <a:ext cx="125280" cy="936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951360" y="1611360"/>
            <a:ext cx="46080" cy="3492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4124160" y="1670040"/>
            <a:ext cx="0" cy="381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3979800" y="1671480"/>
            <a:ext cx="1494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124160" y="1743120"/>
            <a:ext cx="288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122720" y="1708200"/>
            <a:ext cx="270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3975120" y="1679400"/>
            <a:ext cx="239760" cy="92160"/>
            <a:chOff x="3975120" y="1679400"/>
            <a:chExt cx="239760" cy="92160"/>
          </a:xfrm>
        </p:grpSpPr>
        <p:sp>
          <p:nvSpPr>
            <p:cNvPr id="1144" name=""/>
            <p:cNvSpPr/>
            <p:nvPr/>
          </p:nvSpPr>
          <p:spPr>
            <a:xfrm>
              <a:off x="3975120" y="1725480"/>
              <a:ext cx="21276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184640" y="1714680"/>
              <a:ext cx="3024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976560" y="1685880"/>
              <a:ext cx="0" cy="85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975120" y="1681200"/>
              <a:ext cx="205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979800" y="1770120"/>
              <a:ext cx="15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67280" y="1682640"/>
              <a:ext cx="0" cy="828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064040" y="1679400"/>
              <a:ext cx="20520" cy="18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071960" y="1765440"/>
              <a:ext cx="15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884320" y="2087640"/>
            <a:ext cx="95400" cy="254160"/>
            <a:chOff x="2884320" y="2087640"/>
            <a:chExt cx="95400" cy="254160"/>
          </a:xfrm>
        </p:grpSpPr>
        <p:sp>
          <p:nvSpPr>
            <p:cNvPr id="1153" name=""/>
            <p:cNvSpPr/>
            <p:nvPr/>
          </p:nvSpPr>
          <p:spPr>
            <a:xfrm>
              <a:off x="2884320" y="2308320"/>
              <a:ext cx="30240" cy="33480"/>
            </a:xfrm>
            <a:prstGeom prst="ellipse">
              <a:avLst/>
            </a:prstGeom>
            <a:noFill/>
            <a:ln w="12600">
              <a:solidFill>
                <a:srgbClr val="ffcc00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2901960" y="2087640"/>
              <a:ext cx="77760" cy="22680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2952720" y="2076480"/>
            <a:ext cx="63360" cy="205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2944800" y="2071800"/>
            <a:ext cx="9360" cy="331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3003480" y="2093760"/>
            <a:ext cx="9720" cy="3024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924280" y="2154240"/>
            <a:ext cx="61920" cy="190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2922480" y="2143080"/>
            <a:ext cx="9720" cy="316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2982960" y="2162160"/>
            <a:ext cx="9360" cy="316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3014640" y="1884240"/>
            <a:ext cx="30240" cy="986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4494240" y="4694400"/>
            <a:ext cx="66600" cy="330120"/>
            <a:chOff x="4494240" y="4694400"/>
            <a:chExt cx="66600" cy="330120"/>
          </a:xfrm>
        </p:grpSpPr>
        <p:sp>
          <p:nvSpPr>
            <p:cNvPr id="1163" name=""/>
            <p:cNvSpPr/>
            <p:nvPr/>
          </p:nvSpPr>
          <p:spPr>
            <a:xfrm>
              <a:off x="4498920" y="4705200"/>
              <a:ext cx="57240" cy="684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498920" y="4697280"/>
              <a:ext cx="5868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494240" y="46944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560840" y="4695840"/>
              <a:ext cx="0" cy="334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4527720" y="4705200"/>
              <a:ext cx="0" cy="3193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500720" y="4780080"/>
              <a:ext cx="601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94240" y="47610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60840" y="47610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4476600" y="4543560"/>
            <a:ext cx="98280" cy="2840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506840" y="4824360"/>
            <a:ext cx="46080" cy="414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4448160"/>
            <a:ext cx="120600" cy="10332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919240" y="2079720"/>
            <a:ext cx="97200" cy="93960"/>
          </a:xfrm>
          <a:custGeom>
            <a:avLst/>
            <a:gdLst/>
            <a:ahLst/>
            <a:rect l="0" t="0" r="r" b="b"/>
            <a:pathLst>
              <a:path w="270" h="261">
                <a:moveTo>
                  <a:pt x="72" y="0"/>
                </a:moveTo>
                <a:lnTo>
                  <a:pt x="270" y="57"/>
                </a:lnTo>
                <a:lnTo>
                  <a:pt x="196" y="261"/>
                </a:lnTo>
                <a:lnTo>
                  <a:pt x="0" y="198"/>
                </a:lnTo>
                <a:lnTo>
                  <a:pt x="72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951280" y="1968480"/>
            <a:ext cx="97200" cy="125640"/>
          </a:xfrm>
          <a:custGeom>
            <a:avLst/>
            <a:gdLst/>
            <a:ahLst/>
            <a:rect l="0" t="0" r="r" b="b"/>
            <a:pathLst>
              <a:path w="270" h="349">
                <a:moveTo>
                  <a:pt x="0" y="286"/>
                </a:moveTo>
                <a:lnTo>
                  <a:pt x="84" y="0"/>
                </a:lnTo>
                <a:lnTo>
                  <a:pt x="270" y="60"/>
                </a:lnTo>
                <a:lnTo>
                  <a:pt x="186" y="349"/>
                </a:lnTo>
                <a:lnTo>
                  <a:pt x="0" y="286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2909880" y="1962000"/>
            <a:ext cx="63360" cy="20988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975040" y="1963800"/>
            <a:ext cx="28440" cy="936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030480" y="1979640"/>
            <a:ext cx="25560" cy="648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3025800" y="1984320"/>
            <a:ext cx="27000" cy="10008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025800" y="2081160"/>
            <a:ext cx="42840" cy="1584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014640" y="2117880"/>
            <a:ext cx="46080" cy="1584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909880" y="2023920"/>
            <a:ext cx="36360" cy="14400"/>
          </a:xfrm>
          <a:prstGeom prst="line">
            <a:avLst/>
          </a:prstGeom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3002040" y="1943280"/>
            <a:ext cx="12600" cy="2664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2914560" y="2182680"/>
            <a:ext cx="14400" cy="4932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2944800" y="2192400"/>
            <a:ext cx="15840" cy="5076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H="1" flipV="1">
            <a:off x="2905200" y="2176560"/>
            <a:ext cx="23760" cy="936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H="1" flipV="1">
            <a:off x="2959200" y="2195640"/>
            <a:ext cx="21960" cy="936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2982960" y="2117880"/>
            <a:ext cx="33120" cy="9036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871720" y="2133720"/>
            <a:ext cx="52560" cy="34920"/>
          </a:xfrm>
          <a:prstGeom prst="line">
            <a:avLst/>
          </a:prstGeom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905560" y="1955880"/>
            <a:ext cx="156600" cy="254520"/>
          </a:xfrm>
          <a:custGeom>
            <a:avLst/>
            <a:gdLst/>
            <a:ahLst/>
            <a:rect l="0" t="0" r="r" b="b"/>
            <a:pathLst>
              <a:path w="435" h="707">
                <a:moveTo>
                  <a:pt x="194" y="0"/>
                </a:moveTo>
                <a:lnTo>
                  <a:pt x="0" y="633"/>
                </a:lnTo>
                <a:lnTo>
                  <a:pt x="241" y="707"/>
                </a:lnTo>
                <a:lnTo>
                  <a:pt x="435" y="73"/>
                </a:lnTo>
                <a:lnTo>
                  <a:pt x="194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913120" y="2188080"/>
            <a:ext cx="47880" cy="56160"/>
          </a:xfrm>
          <a:custGeom>
            <a:avLst/>
            <a:gdLst/>
            <a:ahLst/>
            <a:rect l="0" t="0" r="r" b="b"/>
            <a:pathLst>
              <a:path w="133" h="156">
                <a:moveTo>
                  <a:pt x="39" y="0"/>
                </a:moveTo>
                <a:lnTo>
                  <a:pt x="0" y="128"/>
                </a:lnTo>
                <a:lnTo>
                  <a:pt x="93" y="156"/>
                </a:lnTo>
                <a:lnTo>
                  <a:pt x="133" y="28"/>
                </a:lnTo>
                <a:lnTo>
                  <a:pt x="39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830760" y="1663560"/>
            <a:ext cx="298440" cy="11736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935520" y="1600200"/>
            <a:ext cx="76320" cy="572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121280" y="1704960"/>
            <a:ext cx="28440" cy="428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000240" y="1930680"/>
            <a:ext cx="45000" cy="47160"/>
          </a:xfrm>
          <a:custGeom>
            <a:avLst/>
            <a:gdLst/>
            <a:ahLst/>
            <a:rect l="0" t="0" r="r" b="b"/>
            <a:pathLst>
              <a:path w="125" h="131">
                <a:moveTo>
                  <a:pt x="32" y="0"/>
                </a:moveTo>
                <a:lnTo>
                  <a:pt x="0" y="103"/>
                </a:lnTo>
                <a:lnTo>
                  <a:pt x="93" y="131"/>
                </a:lnTo>
                <a:lnTo>
                  <a:pt x="125" y="28"/>
                </a:lnTo>
                <a:lnTo>
                  <a:pt x="32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014640" y="2068560"/>
            <a:ext cx="75240" cy="75240"/>
          </a:xfrm>
          <a:custGeom>
            <a:avLst/>
            <a:gdLst/>
            <a:ahLst/>
            <a:rect l="0" t="0" r="r" b="b"/>
            <a:pathLst>
              <a:path w="209" h="209">
                <a:moveTo>
                  <a:pt x="54" y="0"/>
                </a:moveTo>
                <a:lnTo>
                  <a:pt x="0" y="155"/>
                </a:lnTo>
                <a:lnTo>
                  <a:pt x="155" y="209"/>
                </a:lnTo>
                <a:lnTo>
                  <a:pt x="209" y="54"/>
                </a:lnTo>
                <a:lnTo>
                  <a:pt x="54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24120" bIns="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2873520" y="784080"/>
            <a:ext cx="224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ître-cylindre second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"/>
          <p:cNvSpPr/>
          <p:nvPr/>
        </p:nvSpPr>
        <p:spPr>
          <a:xfrm>
            <a:off x="60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979800" y="1676520"/>
            <a:ext cx="81000" cy="954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919240" y="2079720"/>
            <a:ext cx="97200" cy="93960"/>
          </a:xfrm>
          <a:custGeom>
            <a:avLst/>
            <a:gdLst/>
            <a:ahLst/>
            <a:rect l="0" t="0" r="r" b="b"/>
            <a:pathLst>
              <a:path w="270" h="261">
                <a:moveTo>
                  <a:pt x="72" y="0"/>
                </a:moveTo>
                <a:lnTo>
                  <a:pt x="270" y="57"/>
                </a:lnTo>
                <a:lnTo>
                  <a:pt x="196" y="261"/>
                </a:lnTo>
                <a:lnTo>
                  <a:pt x="0" y="198"/>
                </a:lnTo>
                <a:lnTo>
                  <a:pt x="7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732640" y="4618080"/>
            <a:ext cx="606600" cy="593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813280" y="4697280"/>
            <a:ext cx="446040" cy="446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998880" y="2496960"/>
            <a:ext cx="922320" cy="8953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118040" y="2611440"/>
            <a:ext cx="68580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113360" y="2611440"/>
            <a:ext cx="68724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4189320" y="2496960"/>
            <a:ext cx="65160" cy="1296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103480" y="2438280"/>
            <a:ext cx="923760" cy="8985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233440" y="2548080"/>
            <a:ext cx="68580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352600" y="2676600"/>
            <a:ext cx="444600" cy="428760"/>
          </a:xfrm>
          <a:prstGeom prst="ellipse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237200" y="2733840"/>
            <a:ext cx="4446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465280" y="1944720"/>
            <a:ext cx="594000" cy="1049760"/>
          </a:xfrm>
          <a:custGeom>
            <a:avLst/>
            <a:gdLst/>
            <a:ahLst/>
            <a:rect l="0" t="0" r="r" b="b"/>
            <a:pathLst>
              <a:path w="1650" h="2916">
                <a:moveTo>
                  <a:pt x="0" y="2773"/>
                </a:moveTo>
                <a:lnTo>
                  <a:pt x="32" y="2789"/>
                </a:lnTo>
                <a:lnTo>
                  <a:pt x="474" y="2916"/>
                </a:lnTo>
                <a:lnTo>
                  <a:pt x="555" y="2662"/>
                </a:lnTo>
                <a:lnTo>
                  <a:pt x="1014" y="1160"/>
                </a:lnTo>
                <a:lnTo>
                  <a:pt x="1585" y="1287"/>
                </a:lnTo>
                <a:lnTo>
                  <a:pt x="1650" y="1081"/>
                </a:lnTo>
                <a:lnTo>
                  <a:pt x="1070" y="722"/>
                </a:lnTo>
                <a:lnTo>
                  <a:pt x="1247" y="111"/>
                </a:lnTo>
                <a:lnTo>
                  <a:pt x="780" y="0"/>
                </a:lnTo>
                <a:lnTo>
                  <a:pt x="0" y="2773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687760" y="2816280"/>
            <a:ext cx="33120" cy="1116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2920" bIns="-52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716200" y="2805120"/>
            <a:ext cx="57240" cy="57240"/>
          </a:xfrm>
          <a:prstGeom prst="ellipse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2805120" y="2448000"/>
            <a:ext cx="71280" cy="2109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852640" y="2617920"/>
            <a:ext cx="88920" cy="87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924280" y="2800440"/>
            <a:ext cx="92160" cy="87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903400" y="2708280"/>
            <a:ext cx="77760" cy="810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881520" y="2485800"/>
            <a:ext cx="316440" cy="429120"/>
          </a:xfrm>
          <a:custGeom>
            <a:avLst/>
            <a:gdLst/>
            <a:ahLst/>
            <a:rect l="0" t="0" r="r" b="b"/>
            <a:pathLst>
              <a:path w="879" h="1192">
                <a:moveTo>
                  <a:pt x="681" y="1150"/>
                </a:moveTo>
                <a:lnTo>
                  <a:pt x="189" y="1192"/>
                </a:lnTo>
                <a:lnTo>
                  <a:pt x="0" y="920"/>
                </a:lnTo>
                <a:lnTo>
                  <a:pt x="383" y="214"/>
                </a:lnTo>
                <a:lnTo>
                  <a:pt x="596" y="214"/>
                </a:lnTo>
                <a:lnTo>
                  <a:pt x="745" y="0"/>
                </a:lnTo>
                <a:lnTo>
                  <a:pt x="879" y="31"/>
                </a:lnTo>
                <a:lnTo>
                  <a:pt x="855" y="588"/>
                </a:lnTo>
                <a:lnTo>
                  <a:pt x="625" y="994"/>
                </a:lnTo>
                <a:lnTo>
                  <a:pt x="745" y="1065"/>
                </a:lnTo>
                <a:lnTo>
                  <a:pt x="681" y="115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091040" y="2627280"/>
            <a:ext cx="8892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986280" y="2801880"/>
            <a:ext cx="8892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037040" y="2716200"/>
            <a:ext cx="84240" cy="792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025800" y="1895400"/>
            <a:ext cx="4125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443400" y="1876320"/>
            <a:ext cx="0" cy="19526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5465880" y="3525840"/>
            <a:ext cx="1951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5654520" y="3514680"/>
            <a:ext cx="96840" cy="1033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3557520" y="2741760"/>
            <a:ext cx="0" cy="15732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559320" y="2743200"/>
            <a:ext cx="4791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2987640" y="2743200"/>
            <a:ext cx="56988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921280" y="4794120"/>
            <a:ext cx="246240" cy="246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646600" y="4532400"/>
            <a:ext cx="416160" cy="362160"/>
          </a:xfrm>
          <a:custGeom>
            <a:avLst/>
            <a:gdLst/>
            <a:ahLst/>
            <a:rect l="0" t="0" r="r" b="b"/>
            <a:pathLst>
              <a:path w="1156" h="1006">
                <a:moveTo>
                  <a:pt x="50" y="556"/>
                </a:moveTo>
                <a:lnTo>
                  <a:pt x="698" y="0"/>
                </a:lnTo>
                <a:lnTo>
                  <a:pt x="878" y="68"/>
                </a:lnTo>
                <a:lnTo>
                  <a:pt x="960" y="23"/>
                </a:lnTo>
                <a:lnTo>
                  <a:pt x="1055" y="92"/>
                </a:lnTo>
                <a:lnTo>
                  <a:pt x="1013" y="291"/>
                </a:lnTo>
                <a:lnTo>
                  <a:pt x="1156" y="577"/>
                </a:lnTo>
                <a:lnTo>
                  <a:pt x="1037" y="665"/>
                </a:lnTo>
                <a:lnTo>
                  <a:pt x="849" y="548"/>
                </a:lnTo>
                <a:lnTo>
                  <a:pt x="499" y="969"/>
                </a:lnTo>
                <a:lnTo>
                  <a:pt x="293" y="919"/>
                </a:lnTo>
                <a:lnTo>
                  <a:pt x="97" y="1006"/>
                </a:lnTo>
                <a:lnTo>
                  <a:pt x="0" y="903"/>
                </a:lnTo>
                <a:lnTo>
                  <a:pt x="97" y="747"/>
                </a:lnTo>
                <a:lnTo>
                  <a:pt x="50" y="556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827680" y="4689360"/>
            <a:ext cx="79200" cy="824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761080" y="4765680"/>
            <a:ext cx="90360" cy="903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913360" y="4629240"/>
            <a:ext cx="9036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484960" y="4214880"/>
            <a:ext cx="447480" cy="44748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5661000" y="4543560"/>
            <a:ext cx="149400" cy="1508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665680" y="4680000"/>
            <a:ext cx="114480" cy="1141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537080" y="4325760"/>
            <a:ext cx="9237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460840" y="4325760"/>
            <a:ext cx="376560" cy="378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610080" y="2668680"/>
            <a:ext cx="4921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790800" y="2664000"/>
            <a:ext cx="0" cy="1825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3014640" y="2851200"/>
            <a:ext cx="23184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778200" y="2847960"/>
            <a:ext cx="2113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3586320" y="1722600"/>
            <a:ext cx="250560" cy="14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4197240" y="1496880"/>
            <a:ext cx="479520" cy="261720"/>
            <a:chOff x="4197240" y="1496880"/>
            <a:chExt cx="479520" cy="261720"/>
          </a:xfrm>
        </p:grpSpPr>
        <p:sp>
          <p:nvSpPr>
            <p:cNvPr id="1245" name=""/>
            <p:cNvSpPr/>
            <p:nvPr/>
          </p:nvSpPr>
          <p:spPr>
            <a:xfrm flipV="1">
              <a:off x="4238640" y="1496880"/>
              <a:ext cx="438120" cy="112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33960" y="1620720"/>
              <a:ext cx="31680" cy="1159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214880" y="1600200"/>
              <a:ext cx="3024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197240" y="1698480"/>
              <a:ext cx="37080" cy="60120"/>
            </a:xfrm>
            <a:custGeom>
              <a:avLst/>
              <a:gdLst/>
              <a:ahLst/>
              <a:rect l="0" t="0" r="r" b="b"/>
              <a:pathLst>
                <a:path fill="none" w="103" h="167">
                  <a:moveTo>
                    <a:pt x="40" y="167"/>
                  </a:moveTo>
                  <a:lnTo>
                    <a:pt x="40" y="167"/>
                  </a:lnTo>
                  <a:cubicBezTo>
                    <a:pt x="48" y="165"/>
                    <a:pt x="55" y="162"/>
                    <a:pt x="61" y="158"/>
                  </a:cubicBezTo>
                  <a:cubicBezTo>
                    <a:pt x="74" y="151"/>
                    <a:pt x="84" y="140"/>
                    <a:pt x="92" y="127"/>
                  </a:cubicBezTo>
                  <a:cubicBezTo>
                    <a:pt x="99" y="114"/>
                    <a:pt x="103" y="100"/>
                    <a:pt x="103" y="85"/>
                  </a:cubicBezTo>
                  <a:cubicBezTo>
                    <a:pt x="103" y="70"/>
                    <a:pt x="99" y="56"/>
                    <a:pt x="92" y="43"/>
                  </a:cubicBezTo>
                  <a:cubicBezTo>
                    <a:pt x="84" y="30"/>
                    <a:pt x="74" y="19"/>
                    <a:pt x="61" y="12"/>
                  </a:cubicBezTo>
                  <a:cubicBezTo>
                    <a:pt x="49" y="4"/>
                    <a:pt x="35" y="0"/>
                    <a:pt x="20" y="0"/>
                  </a:cubicBezTo>
                  <a:cubicBezTo>
                    <a:pt x="13" y="0"/>
                    <a:pt x="7" y="1"/>
                    <a:pt x="0" y="3"/>
                  </a:cubicBezTo>
                </a:path>
              </a:pathLst>
            </a:custGeom>
            <a:ln w="12600">
              <a:solidFill>
                <a:srgbClr val="969696"/>
              </a:solidFill>
              <a:round/>
            </a:ln>
          </p:spPr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4227480" y="1712880"/>
              <a:ext cx="23760" cy="4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0" name=""/>
          <p:cNvSpPr/>
          <p:nvPr/>
        </p:nvSpPr>
        <p:spPr>
          <a:xfrm flipV="1">
            <a:off x="4105440" y="1611360"/>
            <a:ext cx="0" cy="619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103640" y="1614600"/>
            <a:ext cx="1112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122720" y="1739880"/>
            <a:ext cx="1440" cy="414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3833640" y="1776240"/>
            <a:ext cx="2890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3833640" y="1733400"/>
            <a:ext cx="0" cy="460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835440" y="1670040"/>
            <a:ext cx="13176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833640" y="1668600"/>
            <a:ext cx="0" cy="4284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3965400" y="1652760"/>
            <a:ext cx="0" cy="172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3979800" y="1652760"/>
            <a:ext cx="1800" cy="187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3940200" y="1652760"/>
            <a:ext cx="284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3978360" y="1652760"/>
            <a:ext cx="284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3940200" y="1603440"/>
            <a:ext cx="0" cy="507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4006800" y="1601640"/>
            <a:ext cx="0" cy="511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600360" y="1716120"/>
            <a:ext cx="0" cy="9651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2865600" y="2422440"/>
            <a:ext cx="150840" cy="57240"/>
            <a:chOff x="2865600" y="2422440"/>
            <a:chExt cx="150840" cy="57240"/>
          </a:xfrm>
        </p:grpSpPr>
        <p:sp>
          <p:nvSpPr>
            <p:cNvPr id="1265" name=""/>
            <p:cNvSpPr/>
            <p:nvPr/>
          </p:nvSpPr>
          <p:spPr>
            <a:xfrm>
              <a:off x="2865600" y="2422440"/>
              <a:ext cx="3168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95480" y="2440080"/>
              <a:ext cx="88920" cy="219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982960" y="2448000"/>
              <a:ext cx="33480" cy="3168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2541600" y="2857680"/>
            <a:ext cx="745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762280" y="2773440"/>
            <a:ext cx="101520" cy="507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936880" y="2668680"/>
            <a:ext cx="6555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3247920" y="2665440"/>
            <a:ext cx="0" cy="1951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108320" y="2774880"/>
            <a:ext cx="136800" cy="90720"/>
          </a:xfrm>
          <a:prstGeom prst="line">
            <a:avLst/>
          </a:prstGeom>
          <a:ln w="1015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191120" y="2246400"/>
            <a:ext cx="371880" cy="803520"/>
          </a:xfrm>
          <a:custGeom>
            <a:avLst/>
            <a:gdLst/>
            <a:ahLst/>
            <a:rect l="0" t="0" r="r" b="b"/>
            <a:pathLst>
              <a:path w="1033" h="2232">
                <a:moveTo>
                  <a:pt x="37" y="118"/>
                </a:moveTo>
                <a:lnTo>
                  <a:pt x="479" y="0"/>
                </a:lnTo>
                <a:lnTo>
                  <a:pt x="1033" y="2129"/>
                </a:lnTo>
                <a:lnTo>
                  <a:pt x="575" y="2232"/>
                </a:lnTo>
                <a:lnTo>
                  <a:pt x="429" y="1674"/>
                </a:lnTo>
                <a:lnTo>
                  <a:pt x="0" y="1674"/>
                </a:lnTo>
                <a:lnTo>
                  <a:pt x="0" y="1484"/>
                </a:lnTo>
                <a:lnTo>
                  <a:pt x="336" y="1317"/>
                </a:lnTo>
                <a:lnTo>
                  <a:pt x="183" y="737"/>
                </a:lnTo>
                <a:lnTo>
                  <a:pt x="37" y="118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419720" y="2908440"/>
            <a:ext cx="745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5694480" y="3557520"/>
            <a:ext cx="317880" cy="608400"/>
          </a:xfrm>
          <a:custGeom>
            <a:avLst/>
            <a:gdLst/>
            <a:ahLst/>
            <a:rect l="0" t="0" r="r" b="b"/>
            <a:pathLst>
              <a:path w="883" h="1690">
                <a:moveTo>
                  <a:pt x="39" y="249"/>
                </a:moveTo>
                <a:lnTo>
                  <a:pt x="290" y="0"/>
                </a:lnTo>
                <a:lnTo>
                  <a:pt x="378" y="87"/>
                </a:lnTo>
                <a:lnTo>
                  <a:pt x="317" y="148"/>
                </a:lnTo>
                <a:lnTo>
                  <a:pt x="383" y="214"/>
                </a:lnTo>
                <a:lnTo>
                  <a:pt x="534" y="214"/>
                </a:lnTo>
                <a:lnTo>
                  <a:pt x="534" y="42"/>
                </a:lnTo>
                <a:lnTo>
                  <a:pt x="883" y="42"/>
                </a:lnTo>
                <a:lnTo>
                  <a:pt x="883" y="1277"/>
                </a:lnTo>
                <a:lnTo>
                  <a:pt x="564" y="1277"/>
                </a:lnTo>
                <a:lnTo>
                  <a:pt x="564" y="1690"/>
                </a:lnTo>
                <a:lnTo>
                  <a:pt x="196" y="1690"/>
                </a:lnTo>
                <a:lnTo>
                  <a:pt x="196" y="883"/>
                </a:lnTo>
                <a:lnTo>
                  <a:pt x="0" y="883"/>
                </a:lnTo>
                <a:lnTo>
                  <a:pt x="0" y="608"/>
                </a:lnTo>
                <a:lnTo>
                  <a:pt x="263" y="608"/>
                </a:lnTo>
                <a:lnTo>
                  <a:pt x="263" y="457"/>
                </a:lnTo>
                <a:lnTo>
                  <a:pt x="39" y="249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3436920" y="3813120"/>
            <a:ext cx="22543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5483160" y="3527280"/>
            <a:ext cx="0" cy="6987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952800" y="4916520"/>
            <a:ext cx="1144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4014720" y="4919760"/>
            <a:ext cx="0" cy="540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010040" y="4975200"/>
            <a:ext cx="190440" cy="666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4197240" y="5038560"/>
            <a:ext cx="227160" cy="18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422600" y="5013360"/>
            <a:ext cx="47520" cy="475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470480" y="5037120"/>
            <a:ext cx="442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514760" y="5021280"/>
            <a:ext cx="31680" cy="30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4479840" y="4449600"/>
            <a:ext cx="276480" cy="412920"/>
            <a:chOff x="4479840" y="4449600"/>
            <a:chExt cx="276480" cy="412920"/>
          </a:xfrm>
        </p:grpSpPr>
        <p:sp>
          <p:nvSpPr>
            <p:cNvPr id="1286" name=""/>
            <p:cNvSpPr/>
            <p:nvPr/>
          </p:nvSpPr>
          <p:spPr>
            <a:xfrm flipV="1">
              <a:off x="4479840" y="4546440"/>
              <a:ext cx="0" cy="2811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481640" y="4546440"/>
              <a:ext cx="205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548240" y="4545000"/>
              <a:ext cx="284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43560" y="4508640"/>
              <a:ext cx="0" cy="36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505400" y="4508640"/>
              <a:ext cx="0" cy="36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4572000" y="4692600"/>
              <a:ext cx="0" cy="1364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4511520" y="4821120"/>
              <a:ext cx="0" cy="414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4484520" y="4824360"/>
              <a:ext cx="288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4545000" y="4824360"/>
              <a:ext cx="2556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4546440" y="4822920"/>
              <a:ext cx="0" cy="396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568760" y="4694400"/>
              <a:ext cx="1429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567320" y="4675320"/>
              <a:ext cx="123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4691160" y="4545000"/>
              <a:ext cx="0" cy="1317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4711680" y="4545000"/>
              <a:ext cx="0" cy="1522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4646520" y="4543560"/>
              <a:ext cx="446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713120" y="4543560"/>
              <a:ext cx="432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4646520" y="4449600"/>
              <a:ext cx="0" cy="954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4756320" y="4449600"/>
              <a:ext cx="0" cy="939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575240" y="4543560"/>
              <a:ext cx="0" cy="1332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448160" y="5059440"/>
            <a:ext cx="0" cy="745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397400" y="5132520"/>
            <a:ext cx="1126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400640" y="5138640"/>
            <a:ext cx="111240" cy="554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4527720" y="4329000"/>
            <a:ext cx="0" cy="2253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3557520" y="4325760"/>
            <a:ext cx="97164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981160" y="2338560"/>
            <a:ext cx="381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H="1" flipV="1">
            <a:off x="2909880" y="2332080"/>
            <a:ext cx="90360" cy="252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3000240" y="2354400"/>
            <a:ext cx="0" cy="9684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486320" y="4552920"/>
            <a:ext cx="81000" cy="135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653000" y="4476600"/>
            <a:ext cx="96840" cy="60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565520" y="4684680"/>
            <a:ext cx="1350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700520" y="4538520"/>
            <a:ext cx="0" cy="1461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2951280" y="1968480"/>
            <a:ext cx="97200" cy="125640"/>
          </a:xfrm>
          <a:custGeom>
            <a:avLst/>
            <a:gdLst/>
            <a:ahLst/>
            <a:rect l="0" t="0" r="r" b="b"/>
            <a:pathLst>
              <a:path w="270" h="349">
                <a:moveTo>
                  <a:pt x="0" y="286"/>
                </a:moveTo>
                <a:lnTo>
                  <a:pt x="84" y="0"/>
                </a:lnTo>
                <a:lnTo>
                  <a:pt x="270" y="60"/>
                </a:lnTo>
                <a:lnTo>
                  <a:pt x="186" y="349"/>
                </a:lnTo>
                <a:lnTo>
                  <a:pt x="0" y="28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3025800" y="2095560"/>
            <a:ext cx="352440" cy="114120"/>
            <a:chOff x="3025800" y="2095560"/>
            <a:chExt cx="352440" cy="114120"/>
          </a:xfrm>
        </p:grpSpPr>
        <p:sp>
          <p:nvSpPr>
            <p:cNvPr id="1319" name=""/>
            <p:cNvSpPr/>
            <p:nvPr/>
          </p:nvSpPr>
          <p:spPr>
            <a:xfrm>
              <a:off x="3025800" y="2095560"/>
              <a:ext cx="554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095640" y="2117880"/>
              <a:ext cx="55440" cy="1872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174840" y="2143080"/>
              <a:ext cx="572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47920" y="2166840"/>
              <a:ext cx="5580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321000" y="2190600"/>
              <a:ext cx="572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3375000" y="2209680"/>
            <a:ext cx="3240" cy="542880"/>
            <a:chOff x="3375000" y="2209680"/>
            <a:chExt cx="3240" cy="542880"/>
          </a:xfrm>
        </p:grpSpPr>
        <p:sp>
          <p:nvSpPr>
            <p:cNvPr id="1325" name=""/>
            <p:cNvSpPr/>
            <p:nvPr/>
          </p:nvSpPr>
          <p:spPr>
            <a:xfrm>
              <a:off x="3378240" y="220968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378240" y="230976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376440" y="2403360"/>
              <a:ext cx="0" cy="748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375000" y="250992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375000" y="261288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3375000" y="2708280"/>
              <a:ext cx="1440" cy="442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3843360" y="1677960"/>
            <a:ext cx="125280" cy="936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951360" y="1611360"/>
            <a:ext cx="46080" cy="3492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4124160" y="1670040"/>
            <a:ext cx="0" cy="381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3979800" y="1671480"/>
            <a:ext cx="1494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124160" y="1743120"/>
            <a:ext cx="288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122720" y="1708200"/>
            <a:ext cx="270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3975120" y="1679400"/>
            <a:ext cx="239760" cy="92160"/>
            <a:chOff x="3975120" y="1679400"/>
            <a:chExt cx="239760" cy="92160"/>
          </a:xfrm>
        </p:grpSpPr>
        <p:sp>
          <p:nvSpPr>
            <p:cNvPr id="1338" name=""/>
            <p:cNvSpPr/>
            <p:nvPr/>
          </p:nvSpPr>
          <p:spPr>
            <a:xfrm>
              <a:off x="3975120" y="1725480"/>
              <a:ext cx="21276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84640" y="1714680"/>
              <a:ext cx="3024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976560" y="1685880"/>
              <a:ext cx="0" cy="85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975120" y="1681200"/>
              <a:ext cx="205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979800" y="1770120"/>
              <a:ext cx="15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067280" y="1682640"/>
              <a:ext cx="0" cy="828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064040" y="1679400"/>
              <a:ext cx="20520" cy="18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071960" y="1765440"/>
              <a:ext cx="15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2884320" y="2071800"/>
            <a:ext cx="131760" cy="270000"/>
            <a:chOff x="2884320" y="2071800"/>
            <a:chExt cx="131760" cy="270000"/>
          </a:xfrm>
        </p:grpSpPr>
        <p:grpSp>
          <p:nvGrpSpPr>
            <p:cNvPr id="1347" name=""/>
            <p:cNvGrpSpPr/>
            <p:nvPr/>
          </p:nvGrpSpPr>
          <p:grpSpPr>
            <a:xfrm>
              <a:off x="2884320" y="2087640"/>
              <a:ext cx="95400" cy="254160"/>
              <a:chOff x="2884320" y="2087640"/>
              <a:chExt cx="95400" cy="254160"/>
            </a:xfrm>
          </p:grpSpPr>
          <p:sp>
            <p:nvSpPr>
              <p:cNvPr id="1348" name=""/>
              <p:cNvSpPr/>
              <p:nvPr/>
            </p:nvSpPr>
            <p:spPr>
              <a:xfrm>
                <a:off x="2884320" y="2308320"/>
                <a:ext cx="30240" cy="33480"/>
              </a:xfrm>
              <a:prstGeom prst="ellipse">
                <a:avLst/>
              </a:prstGeom>
              <a:noFill/>
              <a:ln w="12600">
                <a:solidFill>
                  <a:srgbClr val="969696"/>
                </a:solidFill>
                <a:round/>
              </a:ln>
            </p:spPr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2901960" y="2087640"/>
                <a:ext cx="77760" cy="22680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0" name=""/>
            <p:cNvSpPr/>
            <p:nvPr/>
          </p:nvSpPr>
          <p:spPr>
            <a:xfrm>
              <a:off x="2952720" y="2076480"/>
              <a:ext cx="63360" cy="205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2944800" y="2071800"/>
              <a:ext cx="936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3003480" y="2093760"/>
              <a:ext cx="9720" cy="302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924280" y="2154240"/>
              <a:ext cx="61920" cy="190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2922480" y="2143080"/>
              <a:ext cx="9720" cy="31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2982960" y="2162160"/>
              <a:ext cx="9360" cy="31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2860560" y="1943280"/>
            <a:ext cx="208080" cy="299880"/>
            <a:chOff x="2860560" y="1943280"/>
            <a:chExt cx="208080" cy="299880"/>
          </a:xfrm>
        </p:grpSpPr>
        <p:sp>
          <p:nvSpPr>
            <p:cNvPr id="1357" name=""/>
            <p:cNvSpPr/>
            <p:nvPr/>
          </p:nvSpPr>
          <p:spPr>
            <a:xfrm flipV="1">
              <a:off x="2909880" y="1962000"/>
              <a:ext cx="63360" cy="2098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975040" y="1963800"/>
              <a:ext cx="2844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030480" y="1979640"/>
              <a:ext cx="25560" cy="64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3025800" y="1984320"/>
              <a:ext cx="27000" cy="1000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025800" y="2081160"/>
              <a:ext cx="42840" cy="158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014640" y="2117880"/>
              <a:ext cx="46080" cy="158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895480" y="2021040"/>
              <a:ext cx="50760" cy="172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3002040" y="1943280"/>
              <a:ext cx="12600" cy="266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2914560" y="2182680"/>
              <a:ext cx="14400" cy="493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2944800" y="2192400"/>
              <a:ext cx="15840" cy="507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 flipV="1">
              <a:off x="2905200" y="2176560"/>
              <a:ext cx="2376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 flipV="1">
              <a:off x="2959200" y="2195640"/>
              <a:ext cx="2196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982960" y="2117880"/>
              <a:ext cx="33120" cy="90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860560" y="2146320"/>
              <a:ext cx="49320" cy="1584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 flipV="1">
            <a:off x="3014640" y="1884240"/>
            <a:ext cx="30240" cy="986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4494240" y="4694400"/>
            <a:ext cx="66600" cy="330120"/>
            <a:chOff x="4494240" y="4694400"/>
            <a:chExt cx="66600" cy="330120"/>
          </a:xfrm>
        </p:grpSpPr>
        <p:sp>
          <p:nvSpPr>
            <p:cNvPr id="1373" name=""/>
            <p:cNvSpPr/>
            <p:nvPr/>
          </p:nvSpPr>
          <p:spPr>
            <a:xfrm>
              <a:off x="4498920" y="4705200"/>
              <a:ext cx="57240" cy="684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498920" y="4697280"/>
              <a:ext cx="5868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494240" y="46944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60840" y="4695840"/>
              <a:ext cx="0" cy="334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4527720" y="4705200"/>
              <a:ext cx="0" cy="3193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500720" y="4780080"/>
              <a:ext cx="601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494240" y="47610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560840" y="47610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476600" y="4543560"/>
            <a:ext cx="98280" cy="2840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4506840" y="4824360"/>
            <a:ext cx="46080" cy="414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641840" y="4448160"/>
            <a:ext cx="120600" cy="10332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905560" y="1955880"/>
            <a:ext cx="156600" cy="254520"/>
          </a:xfrm>
          <a:custGeom>
            <a:avLst/>
            <a:gdLst/>
            <a:ahLst/>
            <a:rect l="0" t="0" r="r" b="b"/>
            <a:pathLst>
              <a:path w="435" h="707">
                <a:moveTo>
                  <a:pt x="194" y="0"/>
                </a:moveTo>
                <a:lnTo>
                  <a:pt x="0" y="633"/>
                </a:lnTo>
                <a:lnTo>
                  <a:pt x="241" y="707"/>
                </a:lnTo>
                <a:lnTo>
                  <a:pt x="435" y="73"/>
                </a:lnTo>
                <a:lnTo>
                  <a:pt x="194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913120" y="2188080"/>
            <a:ext cx="47880" cy="56160"/>
          </a:xfrm>
          <a:custGeom>
            <a:avLst/>
            <a:gdLst/>
            <a:ahLst/>
            <a:rect l="0" t="0" r="r" b="b"/>
            <a:pathLst>
              <a:path w="133" h="156">
                <a:moveTo>
                  <a:pt x="39" y="0"/>
                </a:moveTo>
                <a:lnTo>
                  <a:pt x="0" y="128"/>
                </a:lnTo>
                <a:lnTo>
                  <a:pt x="93" y="156"/>
                </a:lnTo>
                <a:lnTo>
                  <a:pt x="133" y="28"/>
                </a:lnTo>
                <a:lnTo>
                  <a:pt x="39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830760" y="1663560"/>
            <a:ext cx="298440" cy="11736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935520" y="1600200"/>
            <a:ext cx="76320" cy="572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121280" y="1704960"/>
            <a:ext cx="28440" cy="428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805120" y="2496960"/>
            <a:ext cx="343440" cy="446400"/>
          </a:xfrm>
          <a:custGeom>
            <a:avLst/>
            <a:gdLst/>
            <a:ahLst/>
            <a:rect l="0" t="0" r="r" b="b"/>
            <a:pathLst>
              <a:path w="954" h="1240">
                <a:moveTo>
                  <a:pt x="174" y="0"/>
                </a:moveTo>
                <a:lnTo>
                  <a:pt x="360" y="7"/>
                </a:lnTo>
                <a:lnTo>
                  <a:pt x="464" y="174"/>
                </a:lnTo>
                <a:lnTo>
                  <a:pt x="628" y="193"/>
                </a:lnTo>
                <a:lnTo>
                  <a:pt x="954" y="938"/>
                </a:lnTo>
                <a:lnTo>
                  <a:pt x="869" y="1113"/>
                </a:lnTo>
                <a:lnTo>
                  <a:pt x="875" y="1240"/>
                </a:lnTo>
                <a:lnTo>
                  <a:pt x="273" y="1083"/>
                </a:lnTo>
                <a:lnTo>
                  <a:pt x="281" y="1083"/>
                </a:lnTo>
                <a:lnTo>
                  <a:pt x="270" y="1073"/>
                </a:lnTo>
                <a:lnTo>
                  <a:pt x="273" y="1075"/>
                </a:lnTo>
                <a:lnTo>
                  <a:pt x="281" y="1081"/>
                </a:lnTo>
                <a:lnTo>
                  <a:pt x="0" y="455"/>
                </a:lnTo>
                <a:lnTo>
                  <a:pt x="174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2873520" y="784080"/>
            <a:ext cx="1611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ve de contrô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ression (PC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60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979800" y="1676520"/>
            <a:ext cx="81000" cy="954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19240" y="2079720"/>
            <a:ext cx="97200" cy="93960"/>
          </a:xfrm>
          <a:custGeom>
            <a:avLst/>
            <a:gdLst/>
            <a:ahLst/>
            <a:rect l="0" t="0" r="r" b="b"/>
            <a:pathLst>
              <a:path w="270" h="261">
                <a:moveTo>
                  <a:pt x="72" y="0"/>
                </a:moveTo>
                <a:lnTo>
                  <a:pt x="270" y="57"/>
                </a:lnTo>
                <a:lnTo>
                  <a:pt x="196" y="261"/>
                </a:lnTo>
                <a:lnTo>
                  <a:pt x="0" y="198"/>
                </a:lnTo>
                <a:lnTo>
                  <a:pt x="7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732640" y="4618080"/>
            <a:ext cx="606600" cy="593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813280" y="4697280"/>
            <a:ext cx="446040" cy="446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998880" y="2496960"/>
            <a:ext cx="922320" cy="8953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118040" y="2611440"/>
            <a:ext cx="68580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113360" y="2611440"/>
            <a:ext cx="68724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4189320" y="2496960"/>
            <a:ext cx="65160" cy="1296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103480" y="2438280"/>
            <a:ext cx="923760" cy="8985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233440" y="2548080"/>
            <a:ext cx="68580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2352600" y="2676600"/>
            <a:ext cx="444600" cy="428760"/>
          </a:xfrm>
          <a:prstGeom prst="ellipse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4237200" y="2733840"/>
            <a:ext cx="4446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465280" y="1944720"/>
            <a:ext cx="594000" cy="1049760"/>
          </a:xfrm>
          <a:custGeom>
            <a:avLst/>
            <a:gdLst/>
            <a:ahLst/>
            <a:rect l="0" t="0" r="r" b="b"/>
            <a:pathLst>
              <a:path w="1650" h="2916">
                <a:moveTo>
                  <a:pt x="0" y="2773"/>
                </a:moveTo>
                <a:lnTo>
                  <a:pt x="32" y="2789"/>
                </a:lnTo>
                <a:lnTo>
                  <a:pt x="474" y="2916"/>
                </a:lnTo>
                <a:lnTo>
                  <a:pt x="555" y="2662"/>
                </a:lnTo>
                <a:lnTo>
                  <a:pt x="1014" y="1160"/>
                </a:lnTo>
                <a:lnTo>
                  <a:pt x="1585" y="1287"/>
                </a:lnTo>
                <a:lnTo>
                  <a:pt x="1650" y="1081"/>
                </a:lnTo>
                <a:lnTo>
                  <a:pt x="1070" y="722"/>
                </a:lnTo>
                <a:lnTo>
                  <a:pt x="1247" y="111"/>
                </a:lnTo>
                <a:lnTo>
                  <a:pt x="780" y="0"/>
                </a:lnTo>
                <a:lnTo>
                  <a:pt x="0" y="2773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687760" y="2816280"/>
            <a:ext cx="33120" cy="1116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2920" bIns="-52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716200" y="2805120"/>
            <a:ext cx="57240" cy="57240"/>
          </a:xfrm>
          <a:prstGeom prst="ellipse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805120" y="2496960"/>
            <a:ext cx="343440" cy="446400"/>
          </a:xfrm>
          <a:custGeom>
            <a:avLst/>
            <a:gdLst/>
            <a:ahLst/>
            <a:rect l="0" t="0" r="r" b="b"/>
            <a:pathLst>
              <a:path w="954" h="1240">
                <a:moveTo>
                  <a:pt x="174" y="0"/>
                </a:moveTo>
                <a:lnTo>
                  <a:pt x="360" y="7"/>
                </a:lnTo>
                <a:lnTo>
                  <a:pt x="464" y="174"/>
                </a:lnTo>
                <a:lnTo>
                  <a:pt x="628" y="193"/>
                </a:lnTo>
                <a:lnTo>
                  <a:pt x="954" y="938"/>
                </a:lnTo>
                <a:lnTo>
                  <a:pt x="869" y="1113"/>
                </a:lnTo>
                <a:lnTo>
                  <a:pt x="875" y="1240"/>
                </a:lnTo>
                <a:lnTo>
                  <a:pt x="273" y="1083"/>
                </a:lnTo>
                <a:lnTo>
                  <a:pt x="281" y="1083"/>
                </a:lnTo>
                <a:lnTo>
                  <a:pt x="270" y="1073"/>
                </a:lnTo>
                <a:lnTo>
                  <a:pt x="273" y="1075"/>
                </a:lnTo>
                <a:lnTo>
                  <a:pt x="281" y="1081"/>
                </a:lnTo>
                <a:lnTo>
                  <a:pt x="0" y="455"/>
                </a:lnTo>
                <a:lnTo>
                  <a:pt x="174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2805120" y="2448000"/>
            <a:ext cx="71280" cy="2109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852640" y="2617920"/>
            <a:ext cx="88920" cy="87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924280" y="2800440"/>
            <a:ext cx="92160" cy="87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3400" y="2708280"/>
            <a:ext cx="77760" cy="810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881520" y="2485800"/>
            <a:ext cx="316440" cy="429120"/>
          </a:xfrm>
          <a:custGeom>
            <a:avLst/>
            <a:gdLst/>
            <a:ahLst/>
            <a:rect l="0" t="0" r="r" b="b"/>
            <a:pathLst>
              <a:path w="879" h="1192">
                <a:moveTo>
                  <a:pt x="681" y="1150"/>
                </a:moveTo>
                <a:lnTo>
                  <a:pt x="189" y="1192"/>
                </a:lnTo>
                <a:lnTo>
                  <a:pt x="0" y="920"/>
                </a:lnTo>
                <a:lnTo>
                  <a:pt x="383" y="214"/>
                </a:lnTo>
                <a:lnTo>
                  <a:pt x="596" y="214"/>
                </a:lnTo>
                <a:lnTo>
                  <a:pt x="745" y="0"/>
                </a:lnTo>
                <a:lnTo>
                  <a:pt x="879" y="31"/>
                </a:lnTo>
                <a:lnTo>
                  <a:pt x="855" y="588"/>
                </a:lnTo>
                <a:lnTo>
                  <a:pt x="625" y="994"/>
                </a:lnTo>
                <a:lnTo>
                  <a:pt x="745" y="1065"/>
                </a:lnTo>
                <a:lnTo>
                  <a:pt x="681" y="115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091040" y="2627280"/>
            <a:ext cx="8892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986280" y="2801880"/>
            <a:ext cx="8892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4037040" y="2716200"/>
            <a:ext cx="84240" cy="792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025800" y="1895400"/>
            <a:ext cx="4125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443400" y="1876320"/>
            <a:ext cx="0" cy="19526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5465880" y="3525840"/>
            <a:ext cx="1951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H="1" flipV="1">
            <a:off x="5654520" y="3514680"/>
            <a:ext cx="96840" cy="1033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3557520" y="2741760"/>
            <a:ext cx="0" cy="15732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3559320" y="2743200"/>
            <a:ext cx="4791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2987640" y="2743200"/>
            <a:ext cx="56988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921280" y="4794120"/>
            <a:ext cx="246240" cy="246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827680" y="4689360"/>
            <a:ext cx="79200" cy="824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761080" y="4765680"/>
            <a:ext cx="90360" cy="903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913360" y="4629240"/>
            <a:ext cx="9036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484960" y="4214880"/>
            <a:ext cx="447480" cy="44748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5661000" y="4543560"/>
            <a:ext cx="149400" cy="1508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665680" y="4680000"/>
            <a:ext cx="114480" cy="1141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537080" y="4325760"/>
            <a:ext cx="9237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460840" y="4325760"/>
            <a:ext cx="376560" cy="378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610080" y="2668680"/>
            <a:ext cx="4921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790800" y="2664000"/>
            <a:ext cx="0" cy="1825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3014640" y="2851200"/>
            <a:ext cx="23184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778200" y="2847960"/>
            <a:ext cx="2113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586320" y="1722600"/>
            <a:ext cx="250560" cy="14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4197240" y="1496880"/>
            <a:ext cx="479520" cy="261720"/>
            <a:chOff x="4197240" y="1496880"/>
            <a:chExt cx="479520" cy="261720"/>
          </a:xfrm>
        </p:grpSpPr>
        <p:sp>
          <p:nvSpPr>
            <p:cNvPr id="1438" name=""/>
            <p:cNvSpPr/>
            <p:nvPr/>
          </p:nvSpPr>
          <p:spPr>
            <a:xfrm flipV="1">
              <a:off x="4238640" y="1496880"/>
              <a:ext cx="438120" cy="112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233960" y="1620720"/>
              <a:ext cx="31680" cy="1159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214880" y="1600200"/>
              <a:ext cx="3024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197240" y="1698480"/>
              <a:ext cx="37080" cy="60120"/>
            </a:xfrm>
            <a:custGeom>
              <a:avLst/>
              <a:gdLst/>
              <a:ahLst/>
              <a:rect l="0" t="0" r="r" b="b"/>
              <a:pathLst>
                <a:path fill="none" w="103" h="167">
                  <a:moveTo>
                    <a:pt x="40" y="167"/>
                  </a:moveTo>
                  <a:lnTo>
                    <a:pt x="40" y="167"/>
                  </a:lnTo>
                  <a:cubicBezTo>
                    <a:pt x="48" y="165"/>
                    <a:pt x="55" y="162"/>
                    <a:pt x="61" y="158"/>
                  </a:cubicBezTo>
                  <a:cubicBezTo>
                    <a:pt x="74" y="151"/>
                    <a:pt x="84" y="140"/>
                    <a:pt x="92" y="127"/>
                  </a:cubicBezTo>
                  <a:cubicBezTo>
                    <a:pt x="99" y="114"/>
                    <a:pt x="103" y="100"/>
                    <a:pt x="103" y="85"/>
                  </a:cubicBezTo>
                  <a:cubicBezTo>
                    <a:pt x="103" y="70"/>
                    <a:pt x="99" y="56"/>
                    <a:pt x="92" y="43"/>
                  </a:cubicBezTo>
                  <a:cubicBezTo>
                    <a:pt x="84" y="30"/>
                    <a:pt x="74" y="19"/>
                    <a:pt x="61" y="12"/>
                  </a:cubicBezTo>
                  <a:cubicBezTo>
                    <a:pt x="49" y="4"/>
                    <a:pt x="35" y="0"/>
                    <a:pt x="20" y="0"/>
                  </a:cubicBezTo>
                  <a:cubicBezTo>
                    <a:pt x="13" y="0"/>
                    <a:pt x="7" y="1"/>
                    <a:pt x="0" y="3"/>
                  </a:cubicBezTo>
                </a:path>
              </a:pathLst>
            </a:custGeom>
            <a:ln w="12600">
              <a:solidFill>
                <a:srgbClr val="969696"/>
              </a:solidFill>
              <a:round/>
            </a:ln>
          </p:spPr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227480" y="1712880"/>
              <a:ext cx="23760" cy="4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3" name=""/>
          <p:cNvSpPr/>
          <p:nvPr/>
        </p:nvSpPr>
        <p:spPr>
          <a:xfrm flipV="1">
            <a:off x="4105440" y="1611360"/>
            <a:ext cx="0" cy="619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103640" y="1614600"/>
            <a:ext cx="1112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4122720" y="1739880"/>
            <a:ext cx="1440" cy="414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3833640" y="1776240"/>
            <a:ext cx="2890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3833640" y="1733400"/>
            <a:ext cx="0" cy="460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3835440" y="1670040"/>
            <a:ext cx="13176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833640" y="1668600"/>
            <a:ext cx="0" cy="4284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3965400" y="1652760"/>
            <a:ext cx="0" cy="172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3979800" y="1652760"/>
            <a:ext cx="1800" cy="187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3940200" y="1652760"/>
            <a:ext cx="284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3978360" y="1652760"/>
            <a:ext cx="284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3940200" y="1603440"/>
            <a:ext cx="0" cy="507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4006800" y="1601640"/>
            <a:ext cx="0" cy="511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600360" y="1716120"/>
            <a:ext cx="0" cy="9651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2865600" y="2422440"/>
            <a:ext cx="150840" cy="57240"/>
            <a:chOff x="2865600" y="2422440"/>
            <a:chExt cx="150840" cy="57240"/>
          </a:xfrm>
        </p:grpSpPr>
        <p:sp>
          <p:nvSpPr>
            <p:cNvPr id="1458" name=""/>
            <p:cNvSpPr/>
            <p:nvPr/>
          </p:nvSpPr>
          <p:spPr>
            <a:xfrm>
              <a:off x="2865600" y="2422440"/>
              <a:ext cx="3168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895480" y="2440080"/>
              <a:ext cx="88920" cy="219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982960" y="2448000"/>
              <a:ext cx="33480" cy="3168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2541600" y="2857680"/>
            <a:ext cx="745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2762280" y="2773440"/>
            <a:ext cx="101520" cy="507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2936880" y="2668680"/>
            <a:ext cx="6555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3247920" y="2665440"/>
            <a:ext cx="0" cy="1951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H="1">
            <a:off x="4108320" y="2774880"/>
            <a:ext cx="136800" cy="90720"/>
          </a:xfrm>
          <a:prstGeom prst="line">
            <a:avLst/>
          </a:prstGeom>
          <a:ln w="1015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4191120" y="2246400"/>
            <a:ext cx="371880" cy="803520"/>
          </a:xfrm>
          <a:custGeom>
            <a:avLst/>
            <a:gdLst/>
            <a:ahLst/>
            <a:rect l="0" t="0" r="r" b="b"/>
            <a:pathLst>
              <a:path w="1033" h="2232">
                <a:moveTo>
                  <a:pt x="37" y="118"/>
                </a:moveTo>
                <a:lnTo>
                  <a:pt x="479" y="0"/>
                </a:lnTo>
                <a:lnTo>
                  <a:pt x="1033" y="2129"/>
                </a:lnTo>
                <a:lnTo>
                  <a:pt x="575" y="2232"/>
                </a:lnTo>
                <a:lnTo>
                  <a:pt x="429" y="1674"/>
                </a:lnTo>
                <a:lnTo>
                  <a:pt x="0" y="1674"/>
                </a:lnTo>
                <a:lnTo>
                  <a:pt x="0" y="1484"/>
                </a:lnTo>
                <a:lnTo>
                  <a:pt x="336" y="1317"/>
                </a:lnTo>
                <a:lnTo>
                  <a:pt x="183" y="737"/>
                </a:lnTo>
                <a:lnTo>
                  <a:pt x="37" y="118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419720" y="2908440"/>
            <a:ext cx="745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694480" y="3557520"/>
            <a:ext cx="317880" cy="608400"/>
          </a:xfrm>
          <a:custGeom>
            <a:avLst/>
            <a:gdLst/>
            <a:ahLst/>
            <a:rect l="0" t="0" r="r" b="b"/>
            <a:pathLst>
              <a:path w="883" h="1690">
                <a:moveTo>
                  <a:pt x="39" y="249"/>
                </a:moveTo>
                <a:lnTo>
                  <a:pt x="290" y="0"/>
                </a:lnTo>
                <a:lnTo>
                  <a:pt x="378" y="87"/>
                </a:lnTo>
                <a:lnTo>
                  <a:pt x="317" y="148"/>
                </a:lnTo>
                <a:lnTo>
                  <a:pt x="383" y="214"/>
                </a:lnTo>
                <a:lnTo>
                  <a:pt x="534" y="214"/>
                </a:lnTo>
                <a:lnTo>
                  <a:pt x="534" y="42"/>
                </a:lnTo>
                <a:lnTo>
                  <a:pt x="883" y="42"/>
                </a:lnTo>
                <a:lnTo>
                  <a:pt x="883" y="1277"/>
                </a:lnTo>
                <a:lnTo>
                  <a:pt x="564" y="1277"/>
                </a:lnTo>
                <a:lnTo>
                  <a:pt x="564" y="1690"/>
                </a:lnTo>
                <a:lnTo>
                  <a:pt x="196" y="1690"/>
                </a:lnTo>
                <a:lnTo>
                  <a:pt x="196" y="883"/>
                </a:lnTo>
                <a:lnTo>
                  <a:pt x="0" y="883"/>
                </a:lnTo>
                <a:lnTo>
                  <a:pt x="0" y="608"/>
                </a:lnTo>
                <a:lnTo>
                  <a:pt x="263" y="608"/>
                </a:lnTo>
                <a:lnTo>
                  <a:pt x="263" y="457"/>
                </a:lnTo>
                <a:lnTo>
                  <a:pt x="39" y="249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3436920" y="3813120"/>
            <a:ext cx="22543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5483160" y="3527280"/>
            <a:ext cx="0" cy="6987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952800" y="4916520"/>
            <a:ext cx="1144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014720" y="4919760"/>
            <a:ext cx="0" cy="540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010040" y="4975200"/>
            <a:ext cx="190440" cy="666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4197240" y="5038560"/>
            <a:ext cx="227160" cy="18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422600" y="5013360"/>
            <a:ext cx="47520" cy="475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4470480" y="5037120"/>
            <a:ext cx="442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514760" y="5021280"/>
            <a:ext cx="31680" cy="30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4479840" y="4449600"/>
            <a:ext cx="276480" cy="412920"/>
            <a:chOff x="4479840" y="4449600"/>
            <a:chExt cx="276480" cy="412920"/>
          </a:xfrm>
        </p:grpSpPr>
        <p:sp>
          <p:nvSpPr>
            <p:cNvPr id="1479" name=""/>
            <p:cNvSpPr/>
            <p:nvPr/>
          </p:nvSpPr>
          <p:spPr>
            <a:xfrm flipV="1">
              <a:off x="4479840" y="4546440"/>
              <a:ext cx="0" cy="2811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481640" y="4546440"/>
              <a:ext cx="205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548240" y="4545000"/>
              <a:ext cx="284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543560" y="4508640"/>
              <a:ext cx="0" cy="36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505400" y="4508640"/>
              <a:ext cx="0" cy="36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572000" y="4692600"/>
              <a:ext cx="0" cy="1364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4511520" y="4821120"/>
              <a:ext cx="0" cy="414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4484520" y="4824360"/>
              <a:ext cx="288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4545000" y="4824360"/>
              <a:ext cx="2556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4546440" y="4822920"/>
              <a:ext cx="0" cy="396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568760" y="4694400"/>
              <a:ext cx="1429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567320" y="4675320"/>
              <a:ext cx="123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4691160" y="4545000"/>
              <a:ext cx="0" cy="1317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4711680" y="4545000"/>
              <a:ext cx="0" cy="1522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4646520" y="4543560"/>
              <a:ext cx="446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4713120" y="4543560"/>
              <a:ext cx="4320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646520" y="4449600"/>
              <a:ext cx="0" cy="954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4756320" y="4449600"/>
              <a:ext cx="0" cy="939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575240" y="4543560"/>
              <a:ext cx="0" cy="1332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8" name=""/>
          <p:cNvSpPr/>
          <p:nvPr/>
        </p:nvSpPr>
        <p:spPr>
          <a:xfrm>
            <a:off x="4448160" y="5059440"/>
            <a:ext cx="0" cy="745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397400" y="5132520"/>
            <a:ext cx="1126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400640" y="5138640"/>
            <a:ext cx="111240" cy="554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4527720" y="4329000"/>
            <a:ext cx="0" cy="2253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3557520" y="4325760"/>
            <a:ext cx="97164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2981160" y="2338560"/>
            <a:ext cx="381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H="1" flipV="1">
            <a:off x="2909880" y="2332080"/>
            <a:ext cx="90360" cy="252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3000240" y="2354400"/>
            <a:ext cx="0" cy="9684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4486320" y="4552920"/>
            <a:ext cx="81000" cy="135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4653000" y="4476600"/>
            <a:ext cx="96840" cy="60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4565520" y="4684680"/>
            <a:ext cx="1350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4700520" y="4538520"/>
            <a:ext cx="0" cy="1461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951280" y="1968480"/>
            <a:ext cx="97200" cy="125640"/>
          </a:xfrm>
          <a:custGeom>
            <a:avLst/>
            <a:gdLst/>
            <a:ahLst/>
            <a:rect l="0" t="0" r="r" b="b"/>
            <a:pathLst>
              <a:path w="270" h="349">
                <a:moveTo>
                  <a:pt x="0" y="286"/>
                </a:moveTo>
                <a:lnTo>
                  <a:pt x="84" y="0"/>
                </a:lnTo>
                <a:lnTo>
                  <a:pt x="270" y="60"/>
                </a:lnTo>
                <a:lnTo>
                  <a:pt x="186" y="349"/>
                </a:lnTo>
                <a:lnTo>
                  <a:pt x="0" y="28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3025800" y="2095560"/>
            <a:ext cx="352440" cy="114120"/>
            <a:chOff x="3025800" y="2095560"/>
            <a:chExt cx="352440" cy="114120"/>
          </a:xfrm>
        </p:grpSpPr>
        <p:sp>
          <p:nvSpPr>
            <p:cNvPr id="1512" name=""/>
            <p:cNvSpPr/>
            <p:nvPr/>
          </p:nvSpPr>
          <p:spPr>
            <a:xfrm>
              <a:off x="3025800" y="2095560"/>
              <a:ext cx="554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095640" y="2117880"/>
              <a:ext cx="55440" cy="1872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174840" y="2143080"/>
              <a:ext cx="572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247920" y="2166840"/>
              <a:ext cx="5580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321000" y="2190600"/>
              <a:ext cx="572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3375000" y="2209680"/>
            <a:ext cx="3240" cy="542880"/>
            <a:chOff x="3375000" y="2209680"/>
            <a:chExt cx="3240" cy="542880"/>
          </a:xfrm>
        </p:grpSpPr>
        <p:sp>
          <p:nvSpPr>
            <p:cNvPr id="1518" name=""/>
            <p:cNvSpPr/>
            <p:nvPr/>
          </p:nvSpPr>
          <p:spPr>
            <a:xfrm>
              <a:off x="3378240" y="220968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378240" y="230976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376440" y="2403360"/>
              <a:ext cx="0" cy="748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375000" y="250992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375000" y="261288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3375000" y="2708280"/>
              <a:ext cx="1440" cy="442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3843360" y="1677960"/>
            <a:ext cx="125280" cy="936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3951360" y="1611360"/>
            <a:ext cx="46080" cy="3492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4124160" y="1670040"/>
            <a:ext cx="0" cy="381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3979800" y="1671480"/>
            <a:ext cx="1494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4124160" y="1743120"/>
            <a:ext cx="288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4122720" y="1708200"/>
            <a:ext cx="270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3975120" y="1679400"/>
            <a:ext cx="239760" cy="92160"/>
            <a:chOff x="3975120" y="1679400"/>
            <a:chExt cx="239760" cy="92160"/>
          </a:xfrm>
        </p:grpSpPr>
        <p:sp>
          <p:nvSpPr>
            <p:cNvPr id="1531" name=""/>
            <p:cNvSpPr/>
            <p:nvPr/>
          </p:nvSpPr>
          <p:spPr>
            <a:xfrm>
              <a:off x="3975120" y="1725480"/>
              <a:ext cx="21276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184640" y="1714680"/>
              <a:ext cx="3024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976560" y="1685880"/>
              <a:ext cx="0" cy="85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975120" y="1681200"/>
              <a:ext cx="205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979800" y="1770120"/>
              <a:ext cx="15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067280" y="1682640"/>
              <a:ext cx="0" cy="828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064040" y="1679400"/>
              <a:ext cx="20520" cy="18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071960" y="1765440"/>
              <a:ext cx="15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2884320" y="2071800"/>
            <a:ext cx="131760" cy="270000"/>
            <a:chOff x="2884320" y="2071800"/>
            <a:chExt cx="131760" cy="270000"/>
          </a:xfrm>
        </p:grpSpPr>
        <p:grpSp>
          <p:nvGrpSpPr>
            <p:cNvPr id="1540" name=""/>
            <p:cNvGrpSpPr/>
            <p:nvPr/>
          </p:nvGrpSpPr>
          <p:grpSpPr>
            <a:xfrm>
              <a:off x="2884320" y="2087640"/>
              <a:ext cx="95400" cy="254160"/>
              <a:chOff x="2884320" y="2087640"/>
              <a:chExt cx="95400" cy="254160"/>
            </a:xfrm>
          </p:grpSpPr>
          <p:sp>
            <p:nvSpPr>
              <p:cNvPr id="1541" name=""/>
              <p:cNvSpPr/>
              <p:nvPr/>
            </p:nvSpPr>
            <p:spPr>
              <a:xfrm>
                <a:off x="2884320" y="2308320"/>
                <a:ext cx="30240" cy="33480"/>
              </a:xfrm>
              <a:prstGeom prst="ellipse">
                <a:avLst/>
              </a:prstGeom>
              <a:noFill/>
              <a:ln w="12600">
                <a:solidFill>
                  <a:srgbClr val="969696"/>
                </a:solidFill>
                <a:round/>
              </a:ln>
            </p:spPr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V="1">
                <a:off x="2901960" y="2087640"/>
                <a:ext cx="77760" cy="22680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3" name=""/>
            <p:cNvSpPr/>
            <p:nvPr/>
          </p:nvSpPr>
          <p:spPr>
            <a:xfrm>
              <a:off x="2952720" y="2076480"/>
              <a:ext cx="63360" cy="205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2944800" y="2071800"/>
              <a:ext cx="936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003480" y="2093760"/>
              <a:ext cx="9720" cy="302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924280" y="2154240"/>
              <a:ext cx="61920" cy="190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2922480" y="2143080"/>
              <a:ext cx="9720" cy="31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2982960" y="2162160"/>
              <a:ext cx="9360" cy="31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2860560" y="1943280"/>
            <a:ext cx="208080" cy="299880"/>
            <a:chOff x="2860560" y="1943280"/>
            <a:chExt cx="208080" cy="299880"/>
          </a:xfrm>
        </p:grpSpPr>
        <p:sp>
          <p:nvSpPr>
            <p:cNvPr id="1550" name=""/>
            <p:cNvSpPr/>
            <p:nvPr/>
          </p:nvSpPr>
          <p:spPr>
            <a:xfrm flipV="1">
              <a:off x="2909880" y="1962000"/>
              <a:ext cx="63360" cy="2098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975040" y="1963800"/>
              <a:ext cx="2844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030480" y="1979640"/>
              <a:ext cx="25560" cy="64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3025800" y="1984320"/>
              <a:ext cx="27000" cy="1000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025800" y="2081160"/>
              <a:ext cx="42840" cy="158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014640" y="2117880"/>
              <a:ext cx="46080" cy="158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895480" y="2021040"/>
              <a:ext cx="50760" cy="172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3002040" y="1943280"/>
              <a:ext cx="12600" cy="266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2914560" y="2182680"/>
              <a:ext cx="14400" cy="493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V="1">
              <a:off x="2944800" y="2192400"/>
              <a:ext cx="15840" cy="507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 flipV="1">
              <a:off x="2905200" y="2176560"/>
              <a:ext cx="2376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 flipV="1">
              <a:off x="2959200" y="2195640"/>
              <a:ext cx="2196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2982960" y="2117880"/>
              <a:ext cx="33120" cy="90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860560" y="2146320"/>
              <a:ext cx="49320" cy="1584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4" name=""/>
          <p:cNvSpPr/>
          <p:nvPr/>
        </p:nvSpPr>
        <p:spPr>
          <a:xfrm flipV="1">
            <a:off x="3014640" y="1884240"/>
            <a:ext cx="30240" cy="986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494240" y="4694400"/>
            <a:ext cx="66600" cy="330120"/>
            <a:chOff x="4494240" y="4694400"/>
            <a:chExt cx="66600" cy="330120"/>
          </a:xfrm>
        </p:grpSpPr>
        <p:sp>
          <p:nvSpPr>
            <p:cNvPr id="1566" name=""/>
            <p:cNvSpPr/>
            <p:nvPr/>
          </p:nvSpPr>
          <p:spPr>
            <a:xfrm>
              <a:off x="4498920" y="4705200"/>
              <a:ext cx="57240" cy="684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498920" y="4697280"/>
              <a:ext cx="5868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494240" y="46944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560840" y="4695840"/>
              <a:ext cx="0" cy="334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>
              <a:off x="4527720" y="4705200"/>
              <a:ext cx="0" cy="3193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500720" y="4780080"/>
              <a:ext cx="601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94240" y="47610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560840" y="4761000"/>
              <a:ext cx="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4476600" y="4543560"/>
            <a:ext cx="98280" cy="2840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506840" y="4824360"/>
            <a:ext cx="46080" cy="414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4641840" y="4448160"/>
            <a:ext cx="120600" cy="10332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905560" y="1955880"/>
            <a:ext cx="156600" cy="254520"/>
          </a:xfrm>
          <a:custGeom>
            <a:avLst/>
            <a:gdLst/>
            <a:ahLst/>
            <a:rect l="0" t="0" r="r" b="b"/>
            <a:pathLst>
              <a:path w="435" h="707">
                <a:moveTo>
                  <a:pt x="194" y="0"/>
                </a:moveTo>
                <a:lnTo>
                  <a:pt x="0" y="633"/>
                </a:lnTo>
                <a:lnTo>
                  <a:pt x="241" y="707"/>
                </a:lnTo>
                <a:lnTo>
                  <a:pt x="435" y="73"/>
                </a:lnTo>
                <a:lnTo>
                  <a:pt x="194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913120" y="2188080"/>
            <a:ext cx="47880" cy="56160"/>
          </a:xfrm>
          <a:custGeom>
            <a:avLst/>
            <a:gdLst/>
            <a:ahLst/>
            <a:rect l="0" t="0" r="r" b="b"/>
            <a:pathLst>
              <a:path w="133" h="156">
                <a:moveTo>
                  <a:pt x="39" y="0"/>
                </a:moveTo>
                <a:lnTo>
                  <a:pt x="0" y="128"/>
                </a:lnTo>
                <a:lnTo>
                  <a:pt x="93" y="156"/>
                </a:lnTo>
                <a:lnTo>
                  <a:pt x="133" y="28"/>
                </a:lnTo>
                <a:lnTo>
                  <a:pt x="39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3830760" y="1663560"/>
            <a:ext cx="298440" cy="11736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935520" y="1600200"/>
            <a:ext cx="76320" cy="572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4121280" y="1704960"/>
            <a:ext cx="28440" cy="428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646600" y="4532400"/>
            <a:ext cx="416160" cy="362160"/>
          </a:xfrm>
          <a:custGeom>
            <a:avLst/>
            <a:gdLst/>
            <a:ahLst/>
            <a:rect l="0" t="0" r="r" b="b"/>
            <a:pathLst>
              <a:path w="1156" h="1006">
                <a:moveTo>
                  <a:pt x="50" y="556"/>
                </a:moveTo>
                <a:lnTo>
                  <a:pt x="698" y="0"/>
                </a:lnTo>
                <a:lnTo>
                  <a:pt x="878" y="68"/>
                </a:lnTo>
                <a:lnTo>
                  <a:pt x="960" y="23"/>
                </a:lnTo>
                <a:lnTo>
                  <a:pt x="1055" y="92"/>
                </a:lnTo>
                <a:lnTo>
                  <a:pt x="1013" y="291"/>
                </a:lnTo>
                <a:lnTo>
                  <a:pt x="1156" y="577"/>
                </a:lnTo>
                <a:lnTo>
                  <a:pt x="1037" y="665"/>
                </a:lnTo>
                <a:lnTo>
                  <a:pt x="849" y="548"/>
                </a:lnTo>
                <a:lnTo>
                  <a:pt x="499" y="969"/>
                </a:lnTo>
                <a:lnTo>
                  <a:pt x="293" y="919"/>
                </a:lnTo>
                <a:lnTo>
                  <a:pt x="97" y="1006"/>
                </a:lnTo>
                <a:lnTo>
                  <a:pt x="0" y="903"/>
                </a:lnTo>
                <a:lnTo>
                  <a:pt x="97" y="747"/>
                </a:lnTo>
                <a:lnTo>
                  <a:pt x="50" y="556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2873520" y="784080"/>
            <a:ext cx="1225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ier arri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/>
          <p:nvPr/>
        </p:nvSpPr>
        <p:spPr>
          <a:xfrm>
            <a:off x="60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979800" y="1676520"/>
            <a:ext cx="81000" cy="954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919240" y="2079720"/>
            <a:ext cx="97200" cy="93960"/>
          </a:xfrm>
          <a:custGeom>
            <a:avLst/>
            <a:gdLst/>
            <a:ahLst/>
            <a:rect l="0" t="0" r="r" b="b"/>
            <a:pathLst>
              <a:path w="270" h="261">
                <a:moveTo>
                  <a:pt x="72" y="0"/>
                </a:moveTo>
                <a:lnTo>
                  <a:pt x="270" y="57"/>
                </a:lnTo>
                <a:lnTo>
                  <a:pt x="196" y="261"/>
                </a:lnTo>
                <a:lnTo>
                  <a:pt x="0" y="198"/>
                </a:lnTo>
                <a:lnTo>
                  <a:pt x="7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5732640" y="4618080"/>
            <a:ext cx="606600" cy="593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5813280" y="4697280"/>
            <a:ext cx="446040" cy="446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998880" y="2496960"/>
            <a:ext cx="922320" cy="8953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4118040" y="2611440"/>
            <a:ext cx="68580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4113360" y="2611440"/>
            <a:ext cx="68724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flipH="1">
            <a:off x="4189320" y="2496960"/>
            <a:ext cx="65160" cy="1296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103480" y="2438280"/>
            <a:ext cx="923760" cy="8985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2233440" y="2548080"/>
            <a:ext cx="685800" cy="68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2352600" y="2676600"/>
            <a:ext cx="444600" cy="428760"/>
          </a:xfrm>
          <a:prstGeom prst="ellipse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4237200" y="2733840"/>
            <a:ext cx="4446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465280" y="1944720"/>
            <a:ext cx="594000" cy="1049760"/>
          </a:xfrm>
          <a:custGeom>
            <a:avLst/>
            <a:gdLst/>
            <a:ahLst/>
            <a:rect l="0" t="0" r="r" b="b"/>
            <a:pathLst>
              <a:path w="1650" h="2916">
                <a:moveTo>
                  <a:pt x="0" y="2773"/>
                </a:moveTo>
                <a:lnTo>
                  <a:pt x="32" y="2789"/>
                </a:lnTo>
                <a:lnTo>
                  <a:pt x="474" y="2916"/>
                </a:lnTo>
                <a:lnTo>
                  <a:pt x="555" y="2662"/>
                </a:lnTo>
                <a:lnTo>
                  <a:pt x="1014" y="1160"/>
                </a:lnTo>
                <a:lnTo>
                  <a:pt x="1585" y="1287"/>
                </a:lnTo>
                <a:lnTo>
                  <a:pt x="1650" y="1081"/>
                </a:lnTo>
                <a:lnTo>
                  <a:pt x="1070" y="722"/>
                </a:lnTo>
                <a:lnTo>
                  <a:pt x="1247" y="111"/>
                </a:lnTo>
                <a:lnTo>
                  <a:pt x="780" y="0"/>
                </a:lnTo>
                <a:lnTo>
                  <a:pt x="0" y="2773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687760" y="2816280"/>
            <a:ext cx="33120" cy="1116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2920" bIns="-52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716200" y="2805120"/>
            <a:ext cx="57240" cy="57240"/>
          </a:xfrm>
          <a:prstGeom prst="ellipse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2805120" y="2496960"/>
            <a:ext cx="343440" cy="446400"/>
          </a:xfrm>
          <a:custGeom>
            <a:avLst/>
            <a:gdLst/>
            <a:ahLst/>
            <a:rect l="0" t="0" r="r" b="b"/>
            <a:pathLst>
              <a:path w="954" h="1240">
                <a:moveTo>
                  <a:pt x="174" y="0"/>
                </a:moveTo>
                <a:lnTo>
                  <a:pt x="360" y="7"/>
                </a:lnTo>
                <a:lnTo>
                  <a:pt x="464" y="174"/>
                </a:lnTo>
                <a:lnTo>
                  <a:pt x="628" y="193"/>
                </a:lnTo>
                <a:lnTo>
                  <a:pt x="954" y="938"/>
                </a:lnTo>
                <a:lnTo>
                  <a:pt x="869" y="1113"/>
                </a:lnTo>
                <a:lnTo>
                  <a:pt x="875" y="1240"/>
                </a:lnTo>
                <a:lnTo>
                  <a:pt x="273" y="1083"/>
                </a:lnTo>
                <a:lnTo>
                  <a:pt x="281" y="1083"/>
                </a:lnTo>
                <a:lnTo>
                  <a:pt x="270" y="1073"/>
                </a:lnTo>
                <a:lnTo>
                  <a:pt x="273" y="1075"/>
                </a:lnTo>
                <a:lnTo>
                  <a:pt x="281" y="1081"/>
                </a:lnTo>
                <a:lnTo>
                  <a:pt x="0" y="455"/>
                </a:lnTo>
                <a:lnTo>
                  <a:pt x="174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2805120" y="2448000"/>
            <a:ext cx="71280" cy="2109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2852640" y="2617920"/>
            <a:ext cx="88920" cy="87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2924280" y="2800440"/>
            <a:ext cx="92160" cy="87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2903400" y="2708280"/>
            <a:ext cx="77760" cy="810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3881520" y="2485800"/>
            <a:ext cx="316440" cy="429120"/>
          </a:xfrm>
          <a:custGeom>
            <a:avLst/>
            <a:gdLst/>
            <a:ahLst/>
            <a:rect l="0" t="0" r="r" b="b"/>
            <a:pathLst>
              <a:path w="879" h="1192">
                <a:moveTo>
                  <a:pt x="681" y="1150"/>
                </a:moveTo>
                <a:lnTo>
                  <a:pt x="189" y="1192"/>
                </a:lnTo>
                <a:lnTo>
                  <a:pt x="0" y="920"/>
                </a:lnTo>
                <a:lnTo>
                  <a:pt x="383" y="214"/>
                </a:lnTo>
                <a:lnTo>
                  <a:pt x="596" y="214"/>
                </a:lnTo>
                <a:lnTo>
                  <a:pt x="745" y="0"/>
                </a:lnTo>
                <a:lnTo>
                  <a:pt x="879" y="31"/>
                </a:lnTo>
                <a:lnTo>
                  <a:pt x="855" y="588"/>
                </a:lnTo>
                <a:lnTo>
                  <a:pt x="625" y="994"/>
                </a:lnTo>
                <a:lnTo>
                  <a:pt x="745" y="1065"/>
                </a:lnTo>
                <a:lnTo>
                  <a:pt x="681" y="115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4091040" y="2627280"/>
            <a:ext cx="8892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3986280" y="2801880"/>
            <a:ext cx="8892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037040" y="2716200"/>
            <a:ext cx="84240" cy="792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025800" y="1895400"/>
            <a:ext cx="4125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3443400" y="1876320"/>
            <a:ext cx="0" cy="19526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5465880" y="3525840"/>
            <a:ext cx="1951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H="1" flipV="1">
            <a:off x="5654520" y="3514680"/>
            <a:ext cx="96840" cy="1033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3557520" y="2741760"/>
            <a:ext cx="0" cy="15732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3559320" y="2743200"/>
            <a:ext cx="4791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2987640" y="2743200"/>
            <a:ext cx="56988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921280" y="4794120"/>
            <a:ext cx="246240" cy="246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5646600" y="4532400"/>
            <a:ext cx="416160" cy="362160"/>
          </a:xfrm>
          <a:custGeom>
            <a:avLst/>
            <a:gdLst/>
            <a:ahLst/>
            <a:rect l="0" t="0" r="r" b="b"/>
            <a:pathLst>
              <a:path w="1156" h="1006">
                <a:moveTo>
                  <a:pt x="50" y="556"/>
                </a:moveTo>
                <a:lnTo>
                  <a:pt x="698" y="0"/>
                </a:lnTo>
                <a:lnTo>
                  <a:pt x="878" y="68"/>
                </a:lnTo>
                <a:lnTo>
                  <a:pt x="960" y="23"/>
                </a:lnTo>
                <a:lnTo>
                  <a:pt x="1055" y="92"/>
                </a:lnTo>
                <a:lnTo>
                  <a:pt x="1013" y="291"/>
                </a:lnTo>
                <a:lnTo>
                  <a:pt x="1156" y="577"/>
                </a:lnTo>
                <a:lnTo>
                  <a:pt x="1037" y="665"/>
                </a:lnTo>
                <a:lnTo>
                  <a:pt x="849" y="548"/>
                </a:lnTo>
                <a:lnTo>
                  <a:pt x="499" y="969"/>
                </a:lnTo>
                <a:lnTo>
                  <a:pt x="293" y="919"/>
                </a:lnTo>
                <a:lnTo>
                  <a:pt x="97" y="1006"/>
                </a:lnTo>
                <a:lnTo>
                  <a:pt x="0" y="903"/>
                </a:lnTo>
                <a:lnTo>
                  <a:pt x="97" y="747"/>
                </a:lnTo>
                <a:lnTo>
                  <a:pt x="50" y="556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827680" y="4689360"/>
            <a:ext cx="79200" cy="824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761080" y="4765680"/>
            <a:ext cx="90360" cy="903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913360" y="4629240"/>
            <a:ext cx="90360" cy="88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84960" y="4214880"/>
            <a:ext cx="447480" cy="44748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H="1">
            <a:off x="5661000" y="4543560"/>
            <a:ext cx="149400" cy="1508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5665680" y="4680000"/>
            <a:ext cx="114480" cy="1141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4537080" y="4325760"/>
            <a:ext cx="9237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460840" y="4325760"/>
            <a:ext cx="376560" cy="378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610080" y="2668680"/>
            <a:ext cx="4921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790800" y="2664000"/>
            <a:ext cx="0" cy="1825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3014640" y="2851200"/>
            <a:ext cx="23184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3778200" y="2847960"/>
            <a:ext cx="2113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3586320" y="1722600"/>
            <a:ext cx="250560" cy="14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4197240" y="1496880"/>
            <a:ext cx="479520" cy="261720"/>
            <a:chOff x="4197240" y="1496880"/>
            <a:chExt cx="479520" cy="261720"/>
          </a:xfrm>
        </p:grpSpPr>
        <p:sp>
          <p:nvSpPr>
            <p:cNvPr id="1632" name=""/>
            <p:cNvSpPr/>
            <p:nvPr/>
          </p:nvSpPr>
          <p:spPr>
            <a:xfrm flipV="1">
              <a:off x="4238640" y="1496880"/>
              <a:ext cx="438120" cy="112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233960" y="1620720"/>
              <a:ext cx="31680" cy="1159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214880" y="1600200"/>
              <a:ext cx="3024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197240" y="1698480"/>
              <a:ext cx="37080" cy="60120"/>
            </a:xfrm>
            <a:custGeom>
              <a:avLst/>
              <a:gdLst/>
              <a:ahLst/>
              <a:rect l="0" t="0" r="r" b="b"/>
              <a:pathLst>
                <a:path fill="none" w="103" h="167">
                  <a:moveTo>
                    <a:pt x="40" y="167"/>
                  </a:moveTo>
                  <a:lnTo>
                    <a:pt x="40" y="167"/>
                  </a:lnTo>
                  <a:cubicBezTo>
                    <a:pt x="48" y="165"/>
                    <a:pt x="55" y="162"/>
                    <a:pt x="61" y="158"/>
                  </a:cubicBezTo>
                  <a:cubicBezTo>
                    <a:pt x="74" y="151"/>
                    <a:pt x="84" y="140"/>
                    <a:pt x="92" y="127"/>
                  </a:cubicBezTo>
                  <a:cubicBezTo>
                    <a:pt x="99" y="114"/>
                    <a:pt x="103" y="100"/>
                    <a:pt x="103" y="85"/>
                  </a:cubicBezTo>
                  <a:cubicBezTo>
                    <a:pt x="103" y="70"/>
                    <a:pt x="99" y="56"/>
                    <a:pt x="92" y="43"/>
                  </a:cubicBezTo>
                  <a:cubicBezTo>
                    <a:pt x="84" y="30"/>
                    <a:pt x="74" y="19"/>
                    <a:pt x="61" y="12"/>
                  </a:cubicBezTo>
                  <a:cubicBezTo>
                    <a:pt x="49" y="4"/>
                    <a:pt x="35" y="0"/>
                    <a:pt x="20" y="0"/>
                  </a:cubicBezTo>
                  <a:cubicBezTo>
                    <a:pt x="13" y="0"/>
                    <a:pt x="7" y="1"/>
                    <a:pt x="0" y="3"/>
                  </a:cubicBezTo>
                </a:path>
              </a:pathLst>
            </a:custGeom>
            <a:ln w="12600">
              <a:solidFill>
                <a:srgbClr val="969696"/>
              </a:solidFill>
              <a:round/>
            </a:ln>
          </p:spPr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4227480" y="1712880"/>
              <a:ext cx="23760" cy="4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"/>
          <p:cNvSpPr/>
          <p:nvPr/>
        </p:nvSpPr>
        <p:spPr>
          <a:xfrm flipV="1">
            <a:off x="4105440" y="1611360"/>
            <a:ext cx="0" cy="619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03640" y="1614600"/>
            <a:ext cx="1112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4122720" y="1739880"/>
            <a:ext cx="1440" cy="414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3833640" y="1776240"/>
            <a:ext cx="2890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3833640" y="1733400"/>
            <a:ext cx="0" cy="460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835440" y="1670040"/>
            <a:ext cx="13176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833640" y="1668600"/>
            <a:ext cx="0" cy="4284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3965400" y="1652760"/>
            <a:ext cx="0" cy="1728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3979800" y="1652760"/>
            <a:ext cx="1800" cy="187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3940200" y="1652760"/>
            <a:ext cx="284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H="1">
            <a:off x="3978360" y="1652760"/>
            <a:ext cx="284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3940200" y="1603440"/>
            <a:ext cx="0" cy="507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4006800" y="1601640"/>
            <a:ext cx="0" cy="511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3600360" y="1716120"/>
            <a:ext cx="0" cy="9651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2865600" y="2422440"/>
            <a:ext cx="150840" cy="57240"/>
            <a:chOff x="2865600" y="2422440"/>
            <a:chExt cx="150840" cy="57240"/>
          </a:xfrm>
        </p:grpSpPr>
        <p:sp>
          <p:nvSpPr>
            <p:cNvPr id="1652" name=""/>
            <p:cNvSpPr/>
            <p:nvPr/>
          </p:nvSpPr>
          <p:spPr>
            <a:xfrm>
              <a:off x="2865600" y="2422440"/>
              <a:ext cx="3168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895480" y="2440080"/>
              <a:ext cx="88920" cy="219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982960" y="2448000"/>
              <a:ext cx="33480" cy="3168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2541600" y="2857680"/>
            <a:ext cx="745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2762280" y="2773440"/>
            <a:ext cx="101520" cy="507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H="1">
            <a:off x="2936880" y="2668680"/>
            <a:ext cx="65556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3247920" y="2665440"/>
            <a:ext cx="0" cy="19512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4108320" y="2774880"/>
            <a:ext cx="136800" cy="90720"/>
          </a:xfrm>
          <a:prstGeom prst="line">
            <a:avLst/>
          </a:prstGeom>
          <a:ln w="1015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191120" y="2246400"/>
            <a:ext cx="371880" cy="803520"/>
          </a:xfrm>
          <a:custGeom>
            <a:avLst/>
            <a:gdLst/>
            <a:ahLst/>
            <a:rect l="0" t="0" r="r" b="b"/>
            <a:pathLst>
              <a:path w="1033" h="2232">
                <a:moveTo>
                  <a:pt x="37" y="118"/>
                </a:moveTo>
                <a:lnTo>
                  <a:pt x="479" y="0"/>
                </a:lnTo>
                <a:lnTo>
                  <a:pt x="1033" y="2129"/>
                </a:lnTo>
                <a:lnTo>
                  <a:pt x="575" y="2232"/>
                </a:lnTo>
                <a:lnTo>
                  <a:pt x="429" y="1674"/>
                </a:lnTo>
                <a:lnTo>
                  <a:pt x="0" y="1674"/>
                </a:lnTo>
                <a:lnTo>
                  <a:pt x="0" y="1484"/>
                </a:lnTo>
                <a:lnTo>
                  <a:pt x="336" y="1317"/>
                </a:lnTo>
                <a:lnTo>
                  <a:pt x="183" y="737"/>
                </a:lnTo>
                <a:lnTo>
                  <a:pt x="37" y="118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419720" y="2908440"/>
            <a:ext cx="745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694480" y="3557520"/>
            <a:ext cx="317880" cy="608400"/>
          </a:xfrm>
          <a:custGeom>
            <a:avLst/>
            <a:gdLst/>
            <a:ahLst/>
            <a:rect l="0" t="0" r="r" b="b"/>
            <a:pathLst>
              <a:path w="883" h="1690">
                <a:moveTo>
                  <a:pt x="39" y="249"/>
                </a:moveTo>
                <a:lnTo>
                  <a:pt x="290" y="0"/>
                </a:lnTo>
                <a:lnTo>
                  <a:pt x="378" y="87"/>
                </a:lnTo>
                <a:lnTo>
                  <a:pt x="317" y="148"/>
                </a:lnTo>
                <a:lnTo>
                  <a:pt x="383" y="214"/>
                </a:lnTo>
                <a:lnTo>
                  <a:pt x="534" y="214"/>
                </a:lnTo>
                <a:lnTo>
                  <a:pt x="534" y="42"/>
                </a:lnTo>
                <a:lnTo>
                  <a:pt x="883" y="42"/>
                </a:lnTo>
                <a:lnTo>
                  <a:pt x="883" y="1277"/>
                </a:lnTo>
                <a:lnTo>
                  <a:pt x="564" y="1277"/>
                </a:lnTo>
                <a:lnTo>
                  <a:pt x="564" y="1690"/>
                </a:lnTo>
                <a:lnTo>
                  <a:pt x="196" y="1690"/>
                </a:lnTo>
                <a:lnTo>
                  <a:pt x="196" y="883"/>
                </a:lnTo>
                <a:lnTo>
                  <a:pt x="0" y="883"/>
                </a:lnTo>
                <a:lnTo>
                  <a:pt x="0" y="608"/>
                </a:lnTo>
                <a:lnTo>
                  <a:pt x="263" y="608"/>
                </a:lnTo>
                <a:lnTo>
                  <a:pt x="263" y="457"/>
                </a:lnTo>
                <a:lnTo>
                  <a:pt x="39" y="249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3436920" y="3813120"/>
            <a:ext cx="225432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5483160" y="3527280"/>
            <a:ext cx="0" cy="6987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952800" y="4916520"/>
            <a:ext cx="114480" cy="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4014720" y="4919760"/>
            <a:ext cx="0" cy="5400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4010040" y="4975200"/>
            <a:ext cx="190440" cy="6660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4197240" y="5038560"/>
            <a:ext cx="227160" cy="180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4422600" y="5013360"/>
            <a:ext cx="47520" cy="475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470480" y="5037120"/>
            <a:ext cx="44280" cy="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514760" y="5021280"/>
            <a:ext cx="31680" cy="30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4479840" y="4449600"/>
            <a:ext cx="276480" cy="412920"/>
            <a:chOff x="4479840" y="4449600"/>
            <a:chExt cx="276480" cy="412920"/>
          </a:xfrm>
        </p:grpSpPr>
        <p:sp>
          <p:nvSpPr>
            <p:cNvPr id="1673" name=""/>
            <p:cNvSpPr/>
            <p:nvPr/>
          </p:nvSpPr>
          <p:spPr>
            <a:xfrm flipV="1">
              <a:off x="4479840" y="4546440"/>
              <a:ext cx="0" cy="28116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481640" y="4546440"/>
              <a:ext cx="2052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548240" y="4545000"/>
              <a:ext cx="2844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543560" y="4508640"/>
              <a:ext cx="0" cy="3636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505400" y="4508640"/>
              <a:ext cx="0" cy="3636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V="1">
              <a:off x="4572000" y="4692600"/>
              <a:ext cx="0" cy="13644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V="1">
              <a:off x="4511520" y="4821120"/>
              <a:ext cx="0" cy="4140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4484520" y="4824360"/>
              <a:ext cx="2880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4545000" y="4824360"/>
              <a:ext cx="2556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4546440" y="4822920"/>
              <a:ext cx="0" cy="3960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568760" y="4694400"/>
              <a:ext cx="14292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567320" y="4675320"/>
              <a:ext cx="12384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V="1">
              <a:off x="4691160" y="4545000"/>
              <a:ext cx="0" cy="13176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4711680" y="4545000"/>
              <a:ext cx="0" cy="15228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4646520" y="4543560"/>
              <a:ext cx="4464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4713120" y="4543560"/>
              <a:ext cx="4320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4646520" y="4449600"/>
              <a:ext cx="0" cy="9540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V="1">
              <a:off x="4756320" y="4449600"/>
              <a:ext cx="0" cy="9396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575240" y="4543560"/>
              <a:ext cx="0" cy="13320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4448160" y="5059440"/>
            <a:ext cx="0" cy="745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4397400" y="5132520"/>
            <a:ext cx="11268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4400640" y="5138640"/>
            <a:ext cx="111240" cy="554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flipV="1">
            <a:off x="4527720" y="4329000"/>
            <a:ext cx="0" cy="22536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H="1">
            <a:off x="3557520" y="4325760"/>
            <a:ext cx="971640" cy="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2981160" y="2338560"/>
            <a:ext cx="381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flipH="1" flipV="1">
            <a:off x="2909880" y="2332080"/>
            <a:ext cx="90360" cy="252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flipV="1">
            <a:off x="3000240" y="2354400"/>
            <a:ext cx="0" cy="9684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486320" y="4552920"/>
            <a:ext cx="81000" cy="1350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653000" y="4476600"/>
            <a:ext cx="96840" cy="6048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565520" y="4684680"/>
            <a:ext cx="135000" cy="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700520" y="4538520"/>
            <a:ext cx="0" cy="146160"/>
          </a:xfrm>
          <a:prstGeom prst="line">
            <a:avLst/>
          </a:prstGeom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2951280" y="1968480"/>
            <a:ext cx="97200" cy="125640"/>
          </a:xfrm>
          <a:custGeom>
            <a:avLst/>
            <a:gdLst/>
            <a:ahLst/>
            <a:rect l="0" t="0" r="r" b="b"/>
            <a:pathLst>
              <a:path w="270" h="349">
                <a:moveTo>
                  <a:pt x="0" y="286"/>
                </a:moveTo>
                <a:lnTo>
                  <a:pt x="84" y="0"/>
                </a:lnTo>
                <a:lnTo>
                  <a:pt x="270" y="60"/>
                </a:lnTo>
                <a:lnTo>
                  <a:pt x="186" y="349"/>
                </a:lnTo>
                <a:lnTo>
                  <a:pt x="0" y="28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3025800" y="2095560"/>
            <a:ext cx="352440" cy="114120"/>
            <a:chOff x="3025800" y="2095560"/>
            <a:chExt cx="352440" cy="114120"/>
          </a:xfrm>
        </p:grpSpPr>
        <p:sp>
          <p:nvSpPr>
            <p:cNvPr id="1706" name=""/>
            <p:cNvSpPr/>
            <p:nvPr/>
          </p:nvSpPr>
          <p:spPr>
            <a:xfrm>
              <a:off x="3025800" y="2095560"/>
              <a:ext cx="554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095640" y="2117880"/>
              <a:ext cx="55440" cy="1872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174840" y="2143080"/>
              <a:ext cx="572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247920" y="2166840"/>
              <a:ext cx="5580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321000" y="2190600"/>
              <a:ext cx="57240" cy="19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3375000" y="2209680"/>
            <a:ext cx="3240" cy="542880"/>
            <a:chOff x="3375000" y="2209680"/>
            <a:chExt cx="3240" cy="542880"/>
          </a:xfrm>
        </p:grpSpPr>
        <p:sp>
          <p:nvSpPr>
            <p:cNvPr id="1712" name=""/>
            <p:cNvSpPr/>
            <p:nvPr/>
          </p:nvSpPr>
          <p:spPr>
            <a:xfrm>
              <a:off x="3378240" y="220968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378240" y="230976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376440" y="2403360"/>
              <a:ext cx="0" cy="748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375000" y="250992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375000" y="2612880"/>
              <a:ext cx="0" cy="730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3375000" y="2708280"/>
              <a:ext cx="1440" cy="442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8" name=""/>
          <p:cNvSpPr/>
          <p:nvPr/>
        </p:nvSpPr>
        <p:spPr>
          <a:xfrm>
            <a:off x="3843360" y="1677960"/>
            <a:ext cx="125280" cy="9360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951360" y="1611360"/>
            <a:ext cx="46080" cy="3492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4124160" y="1670040"/>
            <a:ext cx="0" cy="381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3979800" y="1671480"/>
            <a:ext cx="1494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4124160" y="1743120"/>
            <a:ext cx="288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4122720" y="1708200"/>
            <a:ext cx="2700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3975120" y="1679400"/>
            <a:ext cx="239760" cy="92160"/>
            <a:chOff x="3975120" y="1679400"/>
            <a:chExt cx="239760" cy="92160"/>
          </a:xfrm>
        </p:grpSpPr>
        <p:sp>
          <p:nvSpPr>
            <p:cNvPr id="1725" name=""/>
            <p:cNvSpPr/>
            <p:nvPr/>
          </p:nvSpPr>
          <p:spPr>
            <a:xfrm>
              <a:off x="3975120" y="1725480"/>
              <a:ext cx="21276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184640" y="1714680"/>
              <a:ext cx="30240" cy="3024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976560" y="1685880"/>
              <a:ext cx="0" cy="85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975120" y="1681200"/>
              <a:ext cx="2052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979800" y="1770120"/>
              <a:ext cx="15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067280" y="1682640"/>
              <a:ext cx="0" cy="828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064040" y="1679400"/>
              <a:ext cx="20520" cy="180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071960" y="1765440"/>
              <a:ext cx="158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2884320" y="2071800"/>
            <a:ext cx="131760" cy="270000"/>
            <a:chOff x="2884320" y="2071800"/>
            <a:chExt cx="131760" cy="270000"/>
          </a:xfrm>
        </p:grpSpPr>
        <p:grpSp>
          <p:nvGrpSpPr>
            <p:cNvPr id="1734" name=""/>
            <p:cNvGrpSpPr/>
            <p:nvPr/>
          </p:nvGrpSpPr>
          <p:grpSpPr>
            <a:xfrm>
              <a:off x="2884320" y="2087640"/>
              <a:ext cx="95400" cy="254160"/>
              <a:chOff x="2884320" y="2087640"/>
              <a:chExt cx="95400" cy="254160"/>
            </a:xfrm>
          </p:grpSpPr>
          <p:sp>
            <p:nvSpPr>
              <p:cNvPr id="1735" name=""/>
              <p:cNvSpPr/>
              <p:nvPr/>
            </p:nvSpPr>
            <p:spPr>
              <a:xfrm>
                <a:off x="2884320" y="2308320"/>
                <a:ext cx="30240" cy="33480"/>
              </a:xfrm>
              <a:prstGeom prst="ellipse">
                <a:avLst/>
              </a:prstGeom>
              <a:noFill/>
              <a:ln w="12600">
                <a:solidFill>
                  <a:srgbClr val="969696"/>
                </a:solidFill>
                <a:round/>
              </a:ln>
            </p:spPr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2901960" y="2087640"/>
                <a:ext cx="77760" cy="226800"/>
              </a:xfrm>
              <a:prstGeom prst="line">
                <a:avLst/>
              </a:prstGeom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2952720" y="2076480"/>
              <a:ext cx="63360" cy="205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2944800" y="2071800"/>
              <a:ext cx="9360" cy="331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3003480" y="2093760"/>
              <a:ext cx="9720" cy="302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924280" y="2154240"/>
              <a:ext cx="61920" cy="190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2922480" y="2143080"/>
              <a:ext cx="9720" cy="31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2982960" y="2162160"/>
              <a:ext cx="9360" cy="316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3" name=""/>
          <p:cNvGrpSpPr/>
          <p:nvPr/>
        </p:nvGrpSpPr>
        <p:grpSpPr>
          <a:xfrm>
            <a:off x="2860560" y="1943280"/>
            <a:ext cx="208080" cy="299880"/>
            <a:chOff x="2860560" y="1943280"/>
            <a:chExt cx="208080" cy="299880"/>
          </a:xfrm>
        </p:grpSpPr>
        <p:sp>
          <p:nvSpPr>
            <p:cNvPr id="1744" name=""/>
            <p:cNvSpPr/>
            <p:nvPr/>
          </p:nvSpPr>
          <p:spPr>
            <a:xfrm flipV="1">
              <a:off x="2909880" y="1962000"/>
              <a:ext cx="63360" cy="2098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975040" y="1963800"/>
              <a:ext cx="2844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030480" y="1979640"/>
              <a:ext cx="25560" cy="64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3025800" y="1984320"/>
              <a:ext cx="27000" cy="10008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025800" y="2081160"/>
              <a:ext cx="42840" cy="158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014640" y="2117880"/>
              <a:ext cx="46080" cy="158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895480" y="2021040"/>
              <a:ext cx="50760" cy="1728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V="1">
              <a:off x="3002040" y="1943280"/>
              <a:ext cx="12600" cy="266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2914560" y="2182680"/>
              <a:ext cx="14400" cy="4932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2944800" y="2192400"/>
              <a:ext cx="15840" cy="507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flipV="1">
              <a:off x="2905200" y="2176560"/>
              <a:ext cx="2376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2959200" y="2195640"/>
              <a:ext cx="21960" cy="9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2982960" y="2117880"/>
              <a:ext cx="33120" cy="9036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860560" y="2146320"/>
              <a:ext cx="49320" cy="15840"/>
            </a:xfrm>
            <a:prstGeom prst="line">
              <a:avLst/>
            </a:prstGeom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8" name=""/>
          <p:cNvSpPr/>
          <p:nvPr/>
        </p:nvSpPr>
        <p:spPr>
          <a:xfrm flipV="1">
            <a:off x="3014640" y="1884240"/>
            <a:ext cx="30240" cy="9864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"/>
          <p:cNvGrpSpPr/>
          <p:nvPr/>
        </p:nvGrpSpPr>
        <p:grpSpPr>
          <a:xfrm>
            <a:off x="4494240" y="4694400"/>
            <a:ext cx="66600" cy="330120"/>
            <a:chOff x="4494240" y="4694400"/>
            <a:chExt cx="66600" cy="330120"/>
          </a:xfrm>
        </p:grpSpPr>
        <p:sp>
          <p:nvSpPr>
            <p:cNvPr id="1760" name=""/>
            <p:cNvSpPr/>
            <p:nvPr/>
          </p:nvSpPr>
          <p:spPr>
            <a:xfrm>
              <a:off x="4498920" y="4705200"/>
              <a:ext cx="57240" cy="68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498920" y="4697280"/>
              <a:ext cx="5868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494240" y="4694400"/>
              <a:ext cx="0" cy="3312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560840" y="4695840"/>
              <a:ext cx="0" cy="3348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4527720" y="4705200"/>
              <a:ext cx="0" cy="31932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500720" y="4780080"/>
              <a:ext cx="60120" cy="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494240" y="4761000"/>
              <a:ext cx="0" cy="3312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560840" y="4761000"/>
              <a:ext cx="0" cy="33120"/>
            </a:xfrm>
            <a:prstGeom prst="line">
              <a:avLst/>
            </a:prstGeom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4476600" y="4543560"/>
            <a:ext cx="98280" cy="28404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506840" y="4824360"/>
            <a:ext cx="46080" cy="414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4641840" y="4448160"/>
            <a:ext cx="120600" cy="10332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2905560" y="1955880"/>
            <a:ext cx="156600" cy="254520"/>
          </a:xfrm>
          <a:custGeom>
            <a:avLst/>
            <a:gdLst/>
            <a:ahLst/>
            <a:rect l="0" t="0" r="r" b="b"/>
            <a:pathLst>
              <a:path w="435" h="707">
                <a:moveTo>
                  <a:pt x="194" y="0"/>
                </a:moveTo>
                <a:lnTo>
                  <a:pt x="0" y="633"/>
                </a:lnTo>
                <a:lnTo>
                  <a:pt x="241" y="707"/>
                </a:lnTo>
                <a:lnTo>
                  <a:pt x="435" y="73"/>
                </a:lnTo>
                <a:lnTo>
                  <a:pt x="194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2913120" y="2188080"/>
            <a:ext cx="47880" cy="56160"/>
          </a:xfrm>
          <a:custGeom>
            <a:avLst/>
            <a:gdLst/>
            <a:ahLst/>
            <a:rect l="0" t="0" r="r" b="b"/>
            <a:pathLst>
              <a:path w="133" h="156">
                <a:moveTo>
                  <a:pt x="39" y="0"/>
                </a:moveTo>
                <a:lnTo>
                  <a:pt x="0" y="128"/>
                </a:lnTo>
                <a:lnTo>
                  <a:pt x="93" y="156"/>
                </a:lnTo>
                <a:lnTo>
                  <a:pt x="133" y="28"/>
                </a:lnTo>
                <a:lnTo>
                  <a:pt x="39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3830760" y="1663560"/>
            <a:ext cx="298440" cy="11736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3935520" y="1600200"/>
            <a:ext cx="76320" cy="572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4121280" y="1704960"/>
            <a:ext cx="28440" cy="428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498920" y="4505400"/>
            <a:ext cx="50760" cy="414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2873520" y="784080"/>
            <a:ext cx="2095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emble pédale de fr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ître-cylindre arri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MI.</dc:creator>
  <dc:description/>
  <dc:language>en-US</dc:language>
  <cp:lastModifiedBy>MIMI.</cp:lastModifiedBy>
  <cp:revision>0</cp:revision>
  <dc:subject/>
  <dc:title>Aucun titre de diapositive</dc:title>
</cp:coreProperties>
</file>