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29.wmf" ContentType="image/x-wmf"/>
  <Override PartName="/ppt/media/image9.png" ContentType="image/png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8.wmf" ContentType="image/x-wmf"/>
  <Override PartName="/ppt/media/image8.png" ContentType="image/png"/>
  <Override PartName="/ppt/media/image7.wmf" ContentType="image/x-wmf"/>
  <Override PartName="/ppt/media/image37.wmf" ContentType="image/x-wmf"/>
  <Override PartName="/ppt/media/image17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10.png" ContentType="image/png"/>
  <Override PartName="/ppt/media/image1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474-718A-46AB-9643-3D6E6429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6F0-12D2-44B2-8575-2CBB4D88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A8D-64F8-4CB0-A5EF-9365C0A0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C55-4568-4E10-918C-90925BF5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C98-F2B9-4FDA-A051-A8C08C81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C25-5687-4CEE-9901-FA97CBBD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D8D-8089-4863-812B-6DA6A5FC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574-2514-489B-9E59-7A437D0A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93C-9510-42D6-B5E5-43757354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84E-4E46-428E-B68F-36599EC5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514-A7DA-44BE-9DF7-4B45CE12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97D-3316-4C28-AB19-C0F10C1A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91BB-37F8-4778-90E7-0D445177D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5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" Target="slide74.xml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" Target="slide72.xm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2.xm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7.xml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slide" Target="slide77.xml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6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" Target="slide79.xml"/><Relationship Id="rId8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4.xml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7.xml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Black"/>
              </a:rPr>
              <a:t>LE MOTEUR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Black"/>
              </a:rPr>
              <a:t>DIES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Rappels de B.E.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80120" y="3352680"/>
            <a:ext cx="587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35268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523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31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523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666880" y="2057400"/>
            <a:ext cx="3548160" cy="4800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2057040" y="251460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6800" y="1946160"/>
            <a:ext cx="17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m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 ’amorç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334120" y="4572000"/>
            <a:ext cx="1218960" cy="8380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30120" y="350532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étecteu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ésence d ’e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562720" y="6019920"/>
            <a:ext cx="914400" cy="3045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4880" y="548640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 de pu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867280" y="2742840"/>
            <a:ext cx="91440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9800" y="220968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 de pu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6800"/>
            <a:ext cx="725652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30240" y="1371600"/>
            <a:ext cx="7223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LES DIFFERENT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6800"/>
            <a:ext cx="725652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0120" y="3352680"/>
            <a:ext cx="587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9480" y="3135240"/>
            <a:ext cx="9155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900" spc="-1" strike="noStrike" u="sng">
                <a:solidFill>
                  <a:srgbClr val="000000"/>
                </a:solidFill>
                <a:uFillTx/>
                <a:latin typeface="Times New Roman"/>
              </a:rPr>
              <a:t>LA </a:t>
            </a:r>
            <a:r>
              <a:rPr b="1" i="1" lang="en-US" sz="5900" spc="-1" strike="noStrike" u="sng">
                <a:solidFill>
                  <a:srgbClr val="000000"/>
                </a:solidFill>
                <a:uFillTx/>
                <a:latin typeface="Times New Roman"/>
              </a:rPr>
              <a:t>POMPE D’ INJECTION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ROTA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0040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INJECTION RO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ompe%20vierge" descr=""/>
          <p:cNvPicPr/>
          <p:nvPr/>
        </p:nvPicPr>
        <p:blipFill>
          <a:blip r:embed="rId2"/>
          <a:stretch/>
        </p:blipFill>
        <p:spPr>
          <a:xfrm>
            <a:off x="3914640" y="1676520"/>
            <a:ext cx="52293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ompe%20vierge" descr=""/>
          <p:cNvPicPr/>
          <p:nvPr/>
        </p:nvPicPr>
        <p:blipFill>
          <a:blip r:embed="rId2"/>
          <a:stretch/>
        </p:blipFill>
        <p:spPr>
          <a:xfrm>
            <a:off x="3914640" y="1676520"/>
            <a:ext cx="522936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2388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EN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09480" y="5410080"/>
            <a:ext cx="33530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0" y="4952880"/>
            <a:ext cx="35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MECA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05520" y="365724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85440" y="3657600"/>
            <a:ext cx="4419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20" y="320040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40" y="36576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S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76720" y="1523880"/>
            <a:ext cx="2631960" cy="987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0" y="144792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153280" y="2286000"/>
            <a:ext cx="30492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52388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SO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ompe%20vierge" descr=""/>
          <p:cNvPicPr/>
          <p:nvPr/>
        </p:nvPicPr>
        <p:blipFill>
          <a:blip r:embed="rId2"/>
          <a:stretch/>
        </p:blipFill>
        <p:spPr>
          <a:xfrm>
            <a:off x="0" y="1676520"/>
            <a:ext cx="5229360" cy="518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27672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SO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6019920"/>
            <a:ext cx="3276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60600" y="55627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90720" y="601992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UT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2209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1800" y="16765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209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OUR AU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SYSTEME DANS SON ENSEM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ircuit%20hydraulique%20vierge" descr=""/>
          <p:cNvPicPr/>
          <p:nvPr/>
        </p:nvPicPr>
        <p:blipFill>
          <a:blip r:embed="rId2"/>
          <a:stretch/>
        </p:blipFill>
        <p:spPr>
          <a:xfrm>
            <a:off x="380880" y="969840"/>
            <a:ext cx="8229600" cy="58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rcRect l="0" t="0" r="2627" b="0"/>
          <a:stretch/>
        </p:blipFill>
        <p:spPr>
          <a:xfrm>
            <a:off x="0" y="3124080"/>
            <a:ext cx="9144000" cy="25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1: Pompe d ’ali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Aspiration et introdu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u carbur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ans la pompe d’ in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artie%201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2: Tête hydrau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Mise en haute pression et distribution du carburant aux cyli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artie%202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3: Régulateur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et limitation du débit de carburant à inje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artie%203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905120"/>
            <a:ext cx="38862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Interruption de l’arrivée de carburant aux cylind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(arrêt du mote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905120"/>
            <a:ext cx="388620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5: Variateur d ’a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du déb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 refoulement du carbur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n fonction de la vitesse de ro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(correcteur d’avance à l’inj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artie%205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905120"/>
            <a:ext cx="38862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6002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9144000" cy="20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00200"/>
            <a:ext cx="57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éléments%20au%20repos" descr=""/>
          <p:cNvPicPr/>
          <p:nvPr/>
        </p:nvPicPr>
        <p:blipFill>
          <a:blip r:embed="rId2"/>
          <a:srcRect l="0" t="0" r="46161" b="0"/>
          <a:stretch/>
        </p:blipFill>
        <p:spPr>
          <a:xfrm>
            <a:off x="304920" y="2286000"/>
            <a:ext cx="3778200" cy="4257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2880" y="1649520"/>
            <a:ext cx="255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ivée du carbu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érieur de la pom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438280"/>
            <a:ext cx="11430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971800"/>
            <a:ext cx="175248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26720" y="3062160"/>
            <a:ext cx="35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lectrovanne d ’arrêt au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048120" y="4190760"/>
            <a:ext cx="1600200" cy="6094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07360" y="397656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ête hydrau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5638680"/>
            <a:ext cx="30492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586728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42360" y="5653080"/>
            <a:ext cx="28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rtie vers 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876920" cy="2070000"/>
          </a:xfrm>
          <a:prstGeom prst="rect">
            <a:avLst/>
          </a:prstGeom>
          <a:ln w="0">
            <a:noFill/>
          </a:ln>
        </p:spPr>
      </p:pic>
      <p:pic>
        <p:nvPicPr>
          <p:cNvPr id="166" name="vierge" descr=""/>
          <p:cNvPicPr/>
          <p:nvPr/>
        </p:nvPicPr>
        <p:blipFill>
          <a:blip r:embed="rId3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876920" cy="1714320"/>
          </a:xfrm>
          <a:prstGeom prst="rect">
            <a:avLst/>
          </a:prstGeom>
          <a:ln w="0">
            <a:noFill/>
          </a:ln>
        </p:spPr>
      </p:pic>
      <p:pic>
        <p:nvPicPr>
          <p:cNvPr id="172" name="01" descr=""/>
          <p:cNvPicPr/>
          <p:nvPr/>
        </p:nvPicPr>
        <p:blipFill>
          <a:blip r:embed="rId3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02" descr=""/>
          <p:cNvPicPr/>
          <p:nvPr/>
        </p:nvPicPr>
        <p:blipFill>
          <a:blip r:embed="rId2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267080" y="3733920"/>
            <a:ext cx="4876920" cy="20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rêt du mo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67080" y="3441600"/>
            <a:ext cx="4876920" cy="3416400"/>
          </a:xfrm>
          <a:prstGeom prst="rect">
            <a:avLst/>
          </a:prstGeom>
          <a:ln w="0">
            <a:noFill/>
          </a:ln>
        </p:spPr>
      </p:pic>
      <p:pic>
        <p:nvPicPr>
          <p:cNvPr id="184" name="01" descr=""/>
          <p:cNvPicPr/>
          <p:nvPr/>
        </p:nvPicPr>
        <p:blipFill>
          <a:blip r:embed="rId3"/>
          <a:srcRect l="4103" t="0" r="46161" b="0"/>
          <a:stretch/>
        </p:blipFill>
        <p:spPr>
          <a:xfrm>
            <a:off x="304920" y="2209680"/>
            <a:ext cx="3490920" cy="4257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2514600" y="30477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78720" y="3124080"/>
            <a:ext cx="64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2460600" cy="2430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552760" cy="2179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9144000" cy="890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28600" y="5430960"/>
            <a:ext cx="4038480" cy="1427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4343400" y="5370480"/>
            <a:ext cx="441972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38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4160" y="240336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ESSION D ’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080" y="373392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0 à 15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53200" y="373392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van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0 à 35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9960" y="525780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ès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300 à 200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3800" y="240336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APPORT VOLUME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080" y="3200400"/>
            <a:ext cx="31510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3200" y="32004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6280" y="5029200"/>
            <a:ext cx="262512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04160" y="2403360"/>
            <a:ext cx="48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ERTES THERMIQUES A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9560" y="3733920"/>
            <a:ext cx="326520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 ’où la nécessité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ugies de pré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68800" y="3733920"/>
            <a:ext cx="340236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 temps de préchauff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 donc très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40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ND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6080" y="3124080"/>
            <a:ext cx="315108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0 à 3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0 % de pe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7360" y="34290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5 à 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oir même 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10400" y="5257800"/>
            <a:ext cx="312192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 à 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nc 80 % de perte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581280"/>
            <a:ext cx="90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38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60" y="2403360"/>
            <a:ext cx="91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J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360" y="3505320"/>
            <a:ext cx="3512160" cy="2350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ébouche dans une préchamb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i correspond à 70 - 80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u volume de compre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 type “à tét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4880" y="3352680"/>
            <a:ext cx="3539520" cy="265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ébouche direct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ans la chambre princip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ossède plusieurs orif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 type “à trou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60" y="2403360"/>
            <a:ext cx="91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Bruit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7000" y="350532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FA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7360" y="350532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EL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14440" y="5029200"/>
            <a:ext cx="294696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à injections mu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TRES FA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60" y="240336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spositif de démarrage à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é-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480" y="403848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NECE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360" y="38862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Utiliser p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581280"/>
            <a:ext cx="90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52280" y="2268360"/>
            <a:ext cx="883944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8953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 / MOTEUR DIES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762120"/>
            <a:ext cx="21333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un mél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-essenc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ont l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st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 variabl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selon la dem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1828800"/>
            <a:ext cx="3232080" cy="1374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à un volume correspondant à peu près au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du cylindr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93200" y="4114800"/>
            <a:ext cx="481968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papillon des g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Remplissage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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carb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762120"/>
            <a:ext cx="25905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ession fin compression d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10 à 15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b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° =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00 - 400 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ap. vol.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8 à 11 /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ession fin compression d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0 à 40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b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° =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600 - 700 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ap. vol.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14 à 24 /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16000" y="4114800"/>
            <a:ext cx="537552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Nécessité d’organes plus so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Meilleur circuit de graiss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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Coût de revient éle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762120"/>
            <a:ext cx="320040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BUSTION D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828800"/>
            <a:ext cx="3232080" cy="1435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bustion déclenchée par un apport de chaleur (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étincelle à la bougi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bu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ar auto-inflammation (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injection du gasole pulvérisé dans l’air surchauffé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3657600"/>
            <a:ext cx="5375520" cy="3141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roduction du combustible selon la demande aux environ du PM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avec combustion l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as de système d’allu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Nécessité d’une pompe haut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trêmement préc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762120"/>
            <a:ext cx="27432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CHA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vacuation des gaz brûlés.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ollu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H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vacuation des gaz brûlés.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ollu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N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artic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962520"/>
            <a:ext cx="5375520" cy="2653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ression fin de combus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us élev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Dimensions des tubul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us import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-12600" y="2590920"/>
            <a:ext cx="915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 / MOTEUR DIES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MOTEUR ESSENCE / 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32200" y="1066680"/>
            <a:ext cx="839340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OLUTION des SYSTEM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 ’INJECTION DIES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 1990 à 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1981080"/>
            <a:ext cx="74678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à régulation méca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3505320"/>
            <a:ext cx="670536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9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numéris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électronique de l ’avance à l ’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éré par calcul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Accélérateur à câble méca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449568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8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à régulation électro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électronique de l ’avance à l ’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Accélérateur électro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complète par calcul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5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981080"/>
            <a:ext cx="914400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sation 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à injecteurs-pom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0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514600" y="2362320"/>
            <a:ext cx="3695760" cy="1312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0000"/>
                </a:solidFill>
                <a:uFillTx/>
                <a:latin typeface="Times New Roman"/>
              </a:rPr>
              <a:t>QUIZZ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rsqu ’on accélère sur un moteur diesel, on agit su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3360" y="1828800"/>
            <a:ext cx="5938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quantité (débit) de carburant injec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7320" y="2590920"/>
            <a:ext cx="509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pression du carburant injec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5160" y="3352680"/>
            <a:ext cx="6555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volume d ’air qui entre dans les cyl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6600" y="4114800"/>
            <a:ext cx="655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volume de mélange d ’air et de carb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i entre dans les cyl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0" y="42670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905120"/>
            <a:ext cx="3886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A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3: Régulateur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et limitation du débit de carburant à inje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artie%203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14300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3" action="ppaction://hlinksldjump"/>
          </p:cNvPr>
          <p:cNvSpPr/>
          <p:nvPr/>
        </p:nvSpPr>
        <p:spPr>
          <a:xfrm>
            <a:off x="16002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762120"/>
            <a:ext cx="21333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un mél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-essenc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ont l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st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 variabl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selon la dem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828800"/>
            <a:ext cx="3232080" cy="1374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à un volume correspondant à peu près au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du cylindr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93200" y="4114800"/>
            <a:ext cx="481968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papillon des g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Remplissage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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carb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80010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 une injection DIRECTE, le système de préchauff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0560" y="1828800"/>
            <a:ext cx="37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 INDISPEN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2590920"/>
            <a:ext cx="2661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 INU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2360" y="3352680"/>
            <a:ext cx="508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 sert qu ’à 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0560" y="4114800"/>
            <a:ext cx="305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 ’EXISTE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3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4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5" action="ppaction://hlinksldjump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360" y="240336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spositif de démarrage à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é-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7480" y="403848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NECE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7360" y="38862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Utiliser p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3732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799452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99072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r une injection DIRECTE, où est située la chambre de combustion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120" y="1828800"/>
            <a:ext cx="4527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quement dans la cu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7680" y="2590920"/>
            <a:ext cx="4911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s la culasse et sur le 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760" y="3352680"/>
            <a:ext cx="4358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quement dans le 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4114800"/>
            <a:ext cx="3320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L N ’Y EN A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2460600" cy="24303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552760" cy="21798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9144000" cy="890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228600" y="5430960"/>
            <a:ext cx="4038480" cy="142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4343400" y="5370480"/>
            <a:ext cx="4419720" cy="1487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505320" y="3276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rId7" action="ppaction://hlinksldjump"/>
          </p:cNvPr>
          <p:cNvSpPr/>
          <p:nvPr/>
        </p:nvSpPr>
        <p:spPr>
          <a:xfrm>
            <a:off x="3962520" y="376884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10800" y="4919"/>
                </a:moveTo>
                <a:lnTo>
                  <a:pt x="13376" y="7530"/>
                </a:ln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lnTo>
                  <a:pt x="17763" y="11882"/>
                </a:lnTo>
                <a:lnTo>
                  <a:pt x="16109" y="11882"/>
                </a:lnTo>
                <a:lnTo>
                  <a:pt x="16109" y="19071"/>
                </a:lnTo>
                <a:lnTo>
                  <a:pt x="5491" y="19071"/>
                </a:lnTo>
                <a:lnTo>
                  <a:pt x="5491" y="11882"/>
                </a:lnTo>
                <a:lnTo>
                  <a:pt x="3837" y="11882"/>
                </a:lnTo>
                <a:close/>
              </a:path>
              <a:path fill="darkenLess" w="21600" h="23763">
                <a:moveTo>
                  <a:pt x="13376" y="7530"/>
                </a:move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close/>
              </a:path>
              <a:path fill="darkenLess" w="21600" h="23763">
                <a:moveTo>
                  <a:pt x="9877" y="15380"/>
                </a:moveTo>
                <a:lnTo>
                  <a:pt x="11723" y="15380"/>
                </a:lnTo>
                <a:lnTo>
                  <a:pt x="11723" y="19071"/>
                </a:lnTo>
                <a:lnTo>
                  <a:pt x="16109" y="19071"/>
                </a:lnTo>
                <a:lnTo>
                  <a:pt x="16109" y="11882"/>
                </a:lnTo>
                <a:lnTo>
                  <a:pt x="5491" y="11882"/>
                </a:lnTo>
                <a:lnTo>
                  <a:pt x="5491" y="19071"/>
                </a:lnTo>
                <a:lnTo>
                  <a:pt x="9877" y="190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8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99072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r un système à régulation mécanique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e moteur ne s ’arrête pas quand on coupe le contact 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l élément peut être mis en cause ?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3720" y="2590920"/>
            <a:ext cx="708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e électrovanne située sur la pompe à 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4080" y="3352680"/>
            <a:ext cx="745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e pièce située à l ’intérieur du corps de la pom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7680" y="4114800"/>
            <a:ext cx="344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contacteur à c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760" y="4876920"/>
            <a:ext cx="2800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 inj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2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0" y="4876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905120"/>
            <a:ext cx="38862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A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21932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3" action="ppaction://hlinksldjump"/>
          </p:cNvPr>
          <p:cNvSpPr/>
          <p:nvPr/>
        </p:nvSpPr>
        <p:spPr>
          <a:xfrm>
            <a:off x="1676520" y="60199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10800" y="4919"/>
                </a:moveTo>
                <a:lnTo>
                  <a:pt x="13376" y="7530"/>
                </a:ln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lnTo>
                  <a:pt x="17763" y="11882"/>
                </a:lnTo>
                <a:lnTo>
                  <a:pt x="16109" y="11882"/>
                </a:lnTo>
                <a:lnTo>
                  <a:pt x="16109" y="19071"/>
                </a:lnTo>
                <a:lnTo>
                  <a:pt x="5491" y="19071"/>
                </a:lnTo>
                <a:lnTo>
                  <a:pt x="5491" y="11882"/>
                </a:lnTo>
                <a:lnTo>
                  <a:pt x="3837" y="11882"/>
                </a:lnTo>
                <a:close/>
              </a:path>
              <a:path fill="darkenLess" w="21600" h="23763">
                <a:moveTo>
                  <a:pt x="13376" y="7530"/>
                </a:move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close/>
              </a:path>
              <a:path fill="darkenLess" w="21600" h="23763">
                <a:moveTo>
                  <a:pt x="9877" y="15380"/>
                </a:moveTo>
                <a:lnTo>
                  <a:pt x="11723" y="15380"/>
                </a:lnTo>
                <a:lnTo>
                  <a:pt x="11723" y="19071"/>
                </a:lnTo>
                <a:lnTo>
                  <a:pt x="16109" y="19071"/>
                </a:lnTo>
                <a:lnTo>
                  <a:pt x="16109" y="11882"/>
                </a:lnTo>
                <a:lnTo>
                  <a:pt x="5491" y="11882"/>
                </a:lnTo>
                <a:lnTo>
                  <a:pt x="5491" y="19071"/>
                </a:lnTo>
                <a:lnTo>
                  <a:pt x="9877" y="190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 2005, le parc automobile compte quel pourcentage d ’injection INDIREC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0920" y="2133720"/>
            <a:ext cx="188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0920" y="2895480"/>
            <a:ext cx="1730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0920" y="3657600"/>
            <a:ext cx="1730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3800" y="4419720"/>
            <a:ext cx="586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L N ’Y EN A PRATIQUEMENT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0" y="2133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0" y="2895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rId2" action="ppaction://hlinksldjump"/>
          </p:cNvPr>
          <p:cNvSpPr/>
          <p:nvPr/>
        </p:nvSpPr>
        <p:spPr>
          <a:xfrm>
            <a:off x="0" y="4419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à injecteurs-pom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0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23216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previousslide"/>
          </p:cNvPr>
          <p:cNvSpPr/>
          <p:nvPr/>
        </p:nvSpPr>
        <p:spPr>
          <a:xfrm>
            <a:off x="0" y="47242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  <a:path fill="darken" w="21600" h="23762">
                <a:moveTo>
                  <a:pt x="10800" y="4918"/>
                </a:moveTo>
                <a:lnTo>
                  <a:pt x="13376" y="7529"/>
                </a:lnTo>
                <a:lnTo>
                  <a:pt x="13376" y="5788"/>
                </a:lnTo>
                <a:lnTo>
                  <a:pt x="15152" y="5788"/>
                </a:lnTo>
                <a:lnTo>
                  <a:pt x="15152" y="9305"/>
                </a:lnTo>
                <a:lnTo>
                  <a:pt x="17763" y="11881"/>
                </a:lnTo>
                <a:lnTo>
                  <a:pt x="16109" y="11881"/>
                </a:lnTo>
                <a:lnTo>
                  <a:pt x="16109" y="19070"/>
                </a:lnTo>
                <a:lnTo>
                  <a:pt x="5491" y="19070"/>
                </a:lnTo>
                <a:lnTo>
                  <a:pt x="5491" y="11881"/>
                </a:lnTo>
                <a:lnTo>
                  <a:pt x="3837" y="11881"/>
                </a:lnTo>
                <a:close/>
              </a:path>
              <a:path fill="darkenLess" w="21600" h="23762">
                <a:moveTo>
                  <a:pt x="13376" y="7529"/>
                </a:moveTo>
                <a:lnTo>
                  <a:pt x="13376" y="5788"/>
                </a:lnTo>
                <a:lnTo>
                  <a:pt x="15152" y="5788"/>
                </a:lnTo>
                <a:lnTo>
                  <a:pt x="15152" y="9305"/>
                </a:lnTo>
                <a:close/>
              </a:path>
              <a:path fill="darkenLess" w="21600" h="23762">
                <a:moveTo>
                  <a:pt x="9877" y="15380"/>
                </a:moveTo>
                <a:lnTo>
                  <a:pt x="11723" y="15380"/>
                </a:lnTo>
                <a:lnTo>
                  <a:pt x="11723" y="19070"/>
                </a:lnTo>
                <a:lnTo>
                  <a:pt x="16109" y="19070"/>
                </a:lnTo>
                <a:lnTo>
                  <a:pt x="16109" y="11881"/>
                </a:lnTo>
                <a:lnTo>
                  <a:pt x="5491" y="11881"/>
                </a:lnTo>
                <a:lnTo>
                  <a:pt x="5491" y="19070"/>
                </a:lnTo>
                <a:lnTo>
                  <a:pt x="9877" y="1907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184320"/>
            <a:ext cx="9144000" cy="1922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EN ESPERANT VOUS AVO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AFRAICHI LA MEMOI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OUT EN VOUS DIVERTISS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15620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ERCI DE VOTRE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676520" y="914400"/>
            <a:ext cx="6421320" cy="46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YOUPIE !!!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'AI FINI !!!!!!!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........... BYE BYE ........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99" name=""/>
          <p:cNvSpPr/>
          <p:nvPr/>
        </p:nvSpPr>
        <p:spPr>
          <a:xfrm>
            <a:off x="2529000" y="545796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CL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" action="ppaction://hlinkshowjump?jump=endshow"/>
          </p:cNvPr>
          <p:cNvSpPr/>
          <p:nvPr/>
        </p:nvSpPr>
        <p:spPr>
          <a:xfrm>
            <a:off x="26668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22:27:43Z</dcterms:created>
  <dc:creator>stephane cazaban</dc:creator>
  <dc:description/>
  <dc:language>en-US</dc:language>
  <cp:lastModifiedBy>L.P.C.B.</cp:lastModifiedBy>
  <dcterms:modified xsi:type="dcterms:W3CDTF">2005-03-31T10:26:13Z</dcterms:modified>
  <cp:revision>25</cp:revision>
  <dc:subject/>
  <dc:title>LE MOTEUR  DIESEL</dc:title>
</cp:coreProperties>
</file>